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C70-8E0C-4FFE-AEC7-06846498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A87-C010-4C70-B596-C663F6DD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16BF4-6099-4A8C-97B2-F6DD254F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C1990-4445-4BF5-88DA-9CE155BE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DDE7A-5559-412F-8E53-CBB1CC33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A2893-C640-4BA4-8EB9-4170C958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E019C-A4D0-4CAD-8113-A2941500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7EC37-E239-4DA4-90A0-A49B0761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EC783-4CB5-4549-9D6D-66EC3D91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3C377-6DF5-4B69-93A1-F7899173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357A6-BE01-48A7-809F-1F215D61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3CD-F346-4C31-B9A6-7E97A4FD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735-6A6B-4EC4-9CF9-213F2233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1F19-6EE9-4263-9A9B-11973D98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73D8-8C72-4D1A-BB82-D78F5B00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D8CB-0388-4239-855A-7F337224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3CD8-CF47-4F81-8097-CF01BE61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A20E-170D-4895-9FF5-6489C6DD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EA4A-7BC5-4428-8594-27094C5C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5DF0-F066-4846-826E-91A1B794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230-C3C2-4EA3-B72D-03975E00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9D53-5526-49B3-A237-274054B7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66A2-896A-4CB7-B8DF-1E5C0CEC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ED8F-5CA4-4C17-9D68-9DF1A985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7216-4263-43D5-8D71-64334ADF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0868-AE31-4598-A25D-AAE2F232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674BC-139E-4941-8AEC-B22E1E72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ADBCE-1D73-454A-9128-1033DAB3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9E29-9A90-4164-BA0F-03C39715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BEDD-11A2-4F1E-8291-FFAD1AA5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5597F-20A9-4424-9605-1FCF75D2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BFC-7E65-4357-839F-BAE7DE79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2D47-7799-47E7-94B3-A9B35F79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453D-A09C-4902-A5F2-D8D7051D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AE3E-F2B9-4CA7-9CC1-B71BA5B8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CDCE1-9FF2-4456-A969-0F5D079E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8744C-5C25-4378-A97F-B117393B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D3AC5-A588-44F8-9072-0DF1B48C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E67D-95E2-4D03-B47E-CFF09A43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B8FD1-F45F-43F8-9822-69F9E948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C6338-79CE-486E-B5D7-8500716F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C392E-7DDB-41FF-99D0-681B878F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175-B559-4861-AE20-CE5C7AF2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BB8DA-9DD2-4212-BEAC-3C625AF9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5E836-17B0-4F8E-AFBF-218CF164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642A5-320C-4ED7-BFCE-3647AB98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C53DB-45C8-4DEF-815A-7ED9516B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2EA23-D642-4BEF-95E1-D0263767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DD3F-4C43-4585-84C0-1F986489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1F735-0B81-49C4-8317-A0A88155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2ADE2-6703-46A0-A2AA-B166BC79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49A7-2C82-448C-8E0B-24228D3F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1D8A1-9B1E-4900-AD49-D39FF452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BCB-E362-4DB9-A279-16C3AA8F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873F0-000C-4B18-8DE5-8CDACEAC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22403-23D7-42B4-BAC1-7174328E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5D625-AD83-41A9-887D-A03B0422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C9E85-351B-4D8A-9B46-7986EE55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F553C-E7F9-4960-A76D-0F63FDD9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F090C-6566-4FE7-94FD-042533DA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E12C7-D213-40A9-83CA-9B4A7D56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31051-877D-41B9-BD2C-8957CF42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74DD0-F952-46D2-A0B0-DE549D5B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79F97-52CB-46FB-9EBE-0BE1641C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71F-E001-4117-87F8-2132C255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AB98C-716B-465D-871E-065F72ED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1808F-57C9-45FD-BE69-43D9CF93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B47EF-25B6-4AC2-AD65-87B7A074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C0A13-4ED7-42A5-BD76-A7CC1ADA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68F03-0647-4BE1-B2D3-DB601358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B461D-5687-48DA-B614-427C490D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BCE84-5EF8-4208-A57B-136F7F4A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9D5BE-4B3C-47BA-8F84-7DC60D98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4DFFB-7831-4D24-A235-1DCB8D7E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32096-0FEF-4A1E-AF7F-87686503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A6C-DE4E-4876-9AF5-354A74AB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BD68B-6BD6-4EDC-9E43-D4BEF7A9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76989-3083-4E23-923D-9A4EC949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61F0-AAA2-4AA6-AD26-20406FC8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AA977-8173-4751-B051-A39233D0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12F28-9EC1-4DF6-9EC6-D3A8E958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B6A93-F355-43D1-BAC5-9EDFE2E9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69C5F-768B-470D-8FB8-AF9FA512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653AB-F01A-464D-8720-B4CC1969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3C35B-2376-4BB2-8333-4895DDA3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DB34E-CE12-41E1-8F77-C915897C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9C9-82FF-4CD3-B97D-4F44F36D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3259F-0E61-4E51-9682-80B7A812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A1B22-DC93-4A74-8870-F802C561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C6285-54ED-41DE-979F-CFD37090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F69FF-5681-45F4-82E3-732B42D2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A695B-42BC-4F3E-A67F-399BDAC9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38273-68C5-44E4-810A-A4DDB508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B96FD-A70D-4145-9582-9BA0C97A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7D692-363F-4D7B-9598-16CC2EBC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054F9-6B86-4D6D-945C-D7E82614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D62FF-9711-4198-A51F-BDD4B28B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3BE-E17C-4C4F-B8CE-3D38EC8B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5A7AA-3E3D-4C08-9715-DB016E0D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1A9EE-35C9-4701-98F5-B1E9B96F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CA42A-BCEE-440F-9BD4-A8584EC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AF03D-F9BD-4355-8A2B-463AA95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93862-3F60-4E4F-A037-103CD7F8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0E028-1EE8-47FE-9DDB-6709C821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B1EFB-C2E5-4702-9EAD-116F3D0F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F7F38-A28D-49B8-93AA-AF36E146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0ACA5-C469-40BE-A1BB-57941FCC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FB81C-A80B-4DAF-BBA8-B86C7F4F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4321-1BBF-42C3-B790-FFF01F4189C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hte verbindingslijn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3353-24F7-4499-B53C-7D43C98E11F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681D-AD44-41E2-84A4-BDFAA9BEF53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echte verbindingslijn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72FF-F280-4782-82A1-6752E5DD387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echte verbindingslijn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Rechte verbindingslijn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6B90-FCEF-4343-B8DC-C823C114BBE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654E-FC1C-45A3-AF48-EB8CADCC260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hte verbindingslijn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Rechte verbindingslijn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D1BF-03B0-4B46-A10B-64B101AE0F5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DBA8-4C57-46B3-AB9A-F2E45B7C506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9D18-CD9C-4DAA-8E39-93BC6858AAF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kstvak 3"/>
          <p:cNvSpPr/>
          <p:nvPr/>
        </p:nvSpPr>
        <p:spPr>
          <a:xfrm>
            <a:off x="2857680" y="4287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raktijkles voeren en verzo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kstvak 5"/>
          <p:cNvSpPr/>
          <p:nvPr/>
        </p:nvSpPr>
        <p:spPr>
          <a:xfrm>
            <a:off x="428760" y="1214280"/>
            <a:ext cx="85010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Ho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ruwe celstof. Dit is goed voor de maag- en darmwerking va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lanten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vit.D omdat het door de zon bestraald is (UV-stral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oet kruidig ruiken en mag niet stoffig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bruik hooi alleen als voer en niet als bodembedekk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iet morsen en verkwisten want hooi is d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http://www.roosdiervoeders.nl/images/hooi/hooi%20persen%20006.jpg"/>
          <p:cNvPicPr/>
          <p:nvPr/>
        </p:nvPicPr>
        <p:blipFill>
          <a:blip r:embed="rId1"/>
          <a:stretch/>
        </p:blipFill>
        <p:spPr>
          <a:xfrm>
            <a:off x="4000680" y="3643200"/>
            <a:ext cx="4565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kstvak 1"/>
          <p:cNvSpPr/>
          <p:nvPr/>
        </p:nvSpPr>
        <p:spPr>
          <a:xfrm>
            <a:off x="357120" y="214200"/>
            <a:ext cx="8501040" cy="11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Beperkt of onbeperkt vo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ommige dieren krijgen onbeperkt 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ghen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legmeel of leg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chapen, geiten en koei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ruwv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nbeperkt voeren noemt men ook wel  “</a:t>
            </a:r>
            <a:r>
              <a:rPr b="0" i="1" lang="en-US" sz="1800" spc="-1" strike="noStrike">
                <a:solidFill>
                  <a:srgbClr val="000000"/>
                </a:solidFill>
                <a:latin typeface="Franklin Gothic Book"/>
              </a:rPr>
              <a:t> Ad Libitu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 meeste dieren krijgen beperkt vo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konij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40 g korrels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issen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net zoveel als de vissen in één minuut op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uizen/hamsters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één eetlepel per dier per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http://lh6.ggpht.com/_2kmXKOsEHgY/R2Q7CKqdL_I/AAAAAAAABV4/ayk7U32XxkQ/PB240008.JPG"/>
          <p:cNvPicPr/>
          <p:nvPr/>
        </p:nvPicPr>
        <p:blipFill>
          <a:blip r:embed="rId1"/>
          <a:stretch/>
        </p:blipFill>
        <p:spPr>
          <a:xfrm>
            <a:off x="714240" y="4786200"/>
            <a:ext cx="2773440" cy="1851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etermaas.nl/gerbils/images/amon-food.jpg"/>
          <p:cNvPicPr/>
          <p:nvPr/>
        </p:nvPicPr>
        <p:blipFill>
          <a:blip r:embed="rId2"/>
          <a:stretch/>
        </p:blipFill>
        <p:spPr>
          <a:xfrm>
            <a:off x="5143680" y="4699080"/>
            <a:ext cx="250020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kstvak 1"/>
          <p:cNvSpPr/>
          <p:nvPr/>
        </p:nvSpPr>
        <p:spPr>
          <a:xfrm>
            <a:off x="285840" y="214200"/>
            <a:ext cx="8715240" cy="10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Vi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n zijn belangrijk voor de gezondheid en de weerstand van de dieren. Bij gebrek aan vitaminen ontstaan ziek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komt voor in groenvoer zoals gras,mais, bieten en wortelen. Het is tevens een natuurlijke kleurstof;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aro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gebrek ontstaan nachtblindheid en ontstekingen aan de 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is belangrijk voor het uitharden van de bo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onvoldoende Vit. D ontstaat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Rachitis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 (zachte en kromme bo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Rachitischer Wellensittich"/>
          <p:cNvPicPr/>
          <p:nvPr/>
        </p:nvPicPr>
        <p:blipFill>
          <a:blip r:embed="rId1"/>
          <a:stretch/>
        </p:blipFill>
        <p:spPr>
          <a:xfrm>
            <a:off x="3500280" y="4500720"/>
            <a:ext cx="21909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kstvak 2"/>
          <p:cNvSpPr/>
          <p:nvPr/>
        </p:nvSpPr>
        <p:spPr>
          <a:xfrm>
            <a:off x="285840" y="285840"/>
            <a:ext cx="857232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ineralen zijn belangrijk voor allerlei processen in het licha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agnesium (Mg)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elangrijk voor zenuw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jzer (Fe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indt zuurstof in het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alcium en fosfor (Ca en P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opbouw van b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elen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ruch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Jod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schildk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atr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ochthuishouding in het lich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n krachtvoerkorrels zijn meestal voldoende mineralen meegepe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ls je geen of weinig krachtvoer voert, zorg dan voor een liksteen of een like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t op of de dieren niet aan bijv. muren of hekken likken of bij elkaar urine drink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http://www.bndestem.nl/multimedia/archive/00761/BS_4512361_4512361-_761260b.jpg"/>
          <p:cNvPicPr/>
          <p:nvPr/>
        </p:nvPicPr>
        <p:blipFill>
          <a:blip r:embed="rId1"/>
          <a:stretch/>
        </p:blipFill>
        <p:spPr>
          <a:xfrm>
            <a:off x="5143680" y="4572000"/>
            <a:ext cx="2671560" cy="2095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http://img.2dehands.be/f/normal/51674149_2-voederblok-rumevite-likemmer-ruminlix-schaap.jpg"/>
          <p:cNvPicPr/>
          <p:nvPr/>
        </p:nvPicPr>
        <p:blipFill>
          <a:blip r:embed="rId2"/>
          <a:stretch/>
        </p:blipFill>
        <p:spPr>
          <a:xfrm>
            <a:off x="1000080" y="4572000"/>
            <a:ext cx="28576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kstvak 1"/>
          <p:cNvSpPr/>
          <p:nvPr/>
        </p:nvSpPr>
        <p:spPr>
          <a:xfrm>
            <a:off x="285840" y="285840"/>
            <a:ext cx="8715240" cy="9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En verde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Zorg voor smakelijk voer van goede kwalit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en verrotte of beschimmelde producten vo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reng eens wat variatie aan in het rantso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t voer goed verdelen zodat elk dier voldoende tijd en ruimte he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economisch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er dat droog en schoon is hergeb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oerbakken maximaal  halfvol anders morsen de dier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ergeet het drinkwater niet te controleren en bij te vu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volgens het voer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www.dierenarts-asse.be/DIERENARTS_ASSE/_images/cavia11.jpg"/>
          <p:cNvPicPr/>
          <p:nvPr/>
        </p:nvPicPr>
        <p:blipFill>
          <a:blip r:embed="rId1"/>
          <a:stretch/>
        </p:blipFill>
        <p:spPr>
          <a:xfrm>
            <a:off x="5286240" y="3214800"/>
            <a:ext cx="3033720" cy="336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www.keukens-info.be/images/weegschaal-3.jpg"/>
          <p:cNvPicPr/>
          <p:nvPr/>
        </p:nvPicPr>
        <p:blipFill>
          <a:blip r:embed="rId2"/>
          <a:stretch/>
        </p:blipFill>
        <p:spPr>
          <a:xfrm>
            <a:off x="1571760" y="3571920"/>
            <a:ext cx="2381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0" y="120600"/>
          <a:ext cx="8858160" cy="7175520"/>
        </p:xfrm>
        <a:graphic>
          <a:graphicData uri="http://schemas.openxmlformats.org/drawingml/2006/table">
            <a:tbl>
              <a:tblPr/>
              <a:tblGrid>
                <a:gridCol w="1771560"/>
                <a:gridCol w="1771920"/>
                <a:gridCol w="1771560"/>
                <a:gridCol w="17715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o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eveelh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xtra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Opme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korr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g per kilo lichaamsgewic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hand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vi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 g per ca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schuilple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nk om voldoende vitamine C 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leine k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/2 eetlepel per volwassen d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plak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ltijd de dieren controler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ip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me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handjes gemengd graan in de 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romsnav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f parkietenza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d en drinkwater niet onder de zitstokken 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ogel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zaad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voer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tropi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sier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sierviss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eveelheid voor één minu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illetjes vo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odem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ntroleer op dode/ziek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korrel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0g per g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¼ em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rrels goed verde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o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x daags (basket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grote winterp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2:20:02Z</dcterms:created>
  <dc:creator>wouter keppel</dc:creator>
  <dc:description/>
  <dc:language>en-US</dc:language>
  <cp:lastModifiedBy>WKE</cp:lastModifiedBy>
  <dcterms:modified xsi:type="dcterms:W3CDTF">2010-02-03T09:47:12Z</dcterms:modified>
  <cp:revision>14</cp:revision>
  <dc:subject/>
  <dc:title>Dia 1</dc:title>
</cp:coreProperties>
</file>