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F83-7929-4019-A4EB-9C594E57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99E-4AA2-4A3C-B338-D68E2742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5231E-A92A-4B8E-9661-9550C548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63CD1-5AB3-4F89-9A67-57409AA0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53D71-5432-41F9-AC08-033E8BD1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7DD5E-F887-4DE5-8762-0B4646C5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45C62-B7C7-4404-AA8E-6AB6AB5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2E6B9-ABB5-4D35-A2E4-BDD202B1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1A0D9-A490-40BD-BAA0-8A6F094D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AA1BE-4E3C-410F-A6A9-580E4FC9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9DB6D-EE25-454D-B108-86C28597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A41-8270-4B6B-9D2A-70F1368F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744-2594-4F40-8EAC-D2DC63C4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065A-89F5-4259-BA0B-081CA3D2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1C3D-3DBE-46A1-AD8B-C93BA1D4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C121-4E96-42B7-B193-0C2DBF74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63E4-C148-4795-B9ED-7D80C90E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0F5D-C571-47D3-8B0A-6BE81719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BEE9-96DA-40CE-A371-44743A39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A438-8DF4-49D8-8BA9-2C261C66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0E1-8C57-487E-B266-D9C8FF5B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970A-3EED-42B1-95BB-AFF32111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C0E0-432F-4A49-98CB-D4980119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6054-B170-4DF1-93F0-929CE635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2D09-47A3-44ED-9F1C-ACC6AA56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FA72-105C-4BFE-BB01-B2269D36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AEC6-856E-4245-96DC-ABBB2809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569D-4FD1-4AC7-AAEE-B49DBCC0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D16C-FD12-4438-BDD7-808D907F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4D7D-2C40-417E-AE6C-328C70B9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1CF3-BF28-4B37-B232-D87D97A3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2F0-C127-4D0D-8723-73DCF7D3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DB31-00C3-4E5A-A9D5-6BABCB78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54A9-A9FB-482A-AE3D-1F3933D9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2669E-DEA4-479B-B72E-0509568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165D8-7884-4772-A19A-0E5D84C7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A2BD-0F96-491B-8D91-EA653B7B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CD1D-67D1-4517-8646-8C0862BC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15ED-9337-4795-95CD-2E7A4BC6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5614F-CCBE-47AA-B686-0BC902D1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99B9-B1B7-423D-8397-93F35701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762F-A04E-4CC5-8D85-7F2C9BB1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EC3-D131-4D50-8033-D779CDBA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59B6-A778-4AB9-8041-5D009BB3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A5151-D803-4733-B12E-14E5706F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FCC04-F3CB-4D0C-BC84-95E55F08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51A67-FF82-43CB-8272-FE03B36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4A4EC-E0F9-4E22-9A49-DA97D8ED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0DC6A-F021-44EB-8845-1DDE031B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424E1-3803-4E48-BC81-7E85A173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37900-DCC1-4365-9A84-CDBD629D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57E31-FA0F-4BAD-8372-FA246E99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35CB4-267C-4FDD-9B21-DA34C8EA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A17-FE56-458D-89BC-CA243C43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2A572-D532-4EF3-93BD-5D37EA75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2879-2F2D-4938-A1E2-81A3279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312D3-B12E-422B-8819-722E201E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B473F-C963-47A3-BFF4-8D9FFB43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E99E-BB68-4221-90C1-5BD8AAC6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8B797-646E-44A7-BDAD-F3FF6B5A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1B837-3699-442D-B315-3A835AF5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0B122-9D4D-4F67-95F3-2CF09EF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98B36-6B6E-4AE6-A336-1851C6C8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D2D82-EE82-4C4E-BFE5-15ED5A7E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15D-259C-409A-8C45-0049B0C5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A8EC0-9B01-4E83-AC05-D306442E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7A5C5-90E9-4C16-BC01-E74E1A48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DBD0C-0F78-4E05-ACF4-3DCC5B55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6479C-8226-419E-A5C7-D53DBE55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28813-2DB5-47A4-A390-018C6542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D0210-8959-4EE0-B1E1-80BB8C3C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1B4EB-4ECD-499E-9C1C-61A0A849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E35D8-217F-42F6-8C53-A8FF5937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97C8-6B93-403F-B02A-830044C1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D830B-9B9D-43D1-B19D-2617700C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F22-74A2-4632-A33F-4506BBAC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40DE6-2A0F-456C-BB0C-97D8B4A6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7DF9-2EE4-40D8-90E6-EAB2C702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C122B-3BFA-42F4-9816-2BB52999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CD5DB-C59D-477F-B582-4B48758A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41FA8-2953-4AA9-A600-1F12ABD9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EC875-204E-4F43-9A40-02FEE296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E7182-5FBA-40EA-8685-12921A46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16647-2F11-43D7-B138-40D3D43B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F7D04-24FB-496F-A3B6-1DB264C0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C3F24-722C-452A-80D3-65DD5713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8FB-5FE3-4318-A6A2-A330E1D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C4A2-738D-47AD-B090-EF89FC61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602A3-774F-4BFF-B12E-572CC0F3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E053C-AA8C-4928-B4A8-5EA70212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ECE97-AC53-41AF-BBC8-81A7A33F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5AA94-E224-49BA-B9A9-9B1E11E6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70977-DBD6-4301-94A5-5E57554C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4002D-84AB-4A96-9F47-2D14F6F9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D5EBA-DB64-43C9-BD3F-2CD8178F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187AD-6E86-41E2-BFCA-C66A6942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EE0E1-A4F1-4571-A7B9-3CEDD84E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CAD-CB12-4944-8339-BC20C1AF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1A70F-439C-4D23-BE80-C69C02C9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7EBE5-EE35-4560-BFC6-9B331B9B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33A08-4E27-4E7C-AE59-8B205C15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FF61E-3E0E-4498-91E5-9C932386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66E46-0AB7-4F9D-95F1-19889ABD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6C758-2B18-4C0E-95EE-11A9B789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2899C-DBBB-4F55-A528-FCD7CD9F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DED85-F7F4-4314-A4FD-75412516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3BE86-9FDE-4D43-BE1B-67291BE7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1AF11-808E-4899-A312-E8742391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814-D747-4BC3-824C-1E5FC2033C1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hte verbindingslijn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C8C5-7D33-46E4-ADE0-0F079B9E517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C5D5-0769-475A-ABFC-72ADF9CB201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echte verbindingslijn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4E1A-F9C2-4344-B7DB-B2901F4C026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echte verbindingslijn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echte verbindingslijn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ACCE-D935-49E2-B260-11E0497C250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E74F-CC11-47DF-AF7D-B6892549498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hte verbindingslijn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echte verbindingslijn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F5CB-6E99-4364-9CAB-02AA52AF54E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D619-55FF-4D2A-83E3-6DFBE31AF11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09AE-383B-4B51-8A5B-D71D675FCC5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kstvak 3"/>
          <p:cNvSpPr/>
          <p:nvPr/>
        </p:nvSpPr>
        <p:spPr>
          <a:xfrm>
            <a:off x="2857680" y="428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raktijkles voeren en verzo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kstvak 5"/>
          <p:cNvSpPr/>
          <p:nvPr/>
        </p:nvSpPr>
        <p:spPr>
          <a:xfrm>
            <a:off x="428760" y="1214280"/>
            <a:ext cx="85010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Ho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ruwe celstof. Dit is goed voor de maag- en darmwerking va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lanten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vit.D omdat het door de zon bestraald is (UV-stra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oet kruidig ruiken en mag niet stoffig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bruik hooi alleen als voer en niet als bodembedekk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iet morsen en verkwisten want hooi is d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http://www.roosdiervoeders.nl/images/hooi/hooi%20persen%20006.jpg"/>
          <p:cNvPicPr/>
          <p:nvPr/>
        </p:nvPicPr>
        <p:blipFill>
          <a:blip r:embed="rId1"/>
          <a:stretch/>
        </p:blipFill>
        <p:spPr>
          <a:xfrm>
            <a:off x="4000680" y="3643200"/>
            <a:ext cx="4565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kstvak 1"/>
          <p:cNvSpPr/>
          <p:nvPr/>
        </p:nvSpPr>
        <p:spPr>
          <a:xfrm>
            <a:off x="357120" y="214200"/>
            <a:ext cx="8501040" cy="11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Beperkt of onbeperkt vo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ommige dieren krijgen onbeperkt 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ghen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legmeel of leg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chapen, geiten en koei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ruw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nbeperkt voeren noemt men ook wel  “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</a:rPr>
              <a:t> Ad Libit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 meeste dieren krijgen beperkt vo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konij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40 g korrels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isse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net zoveel als de vissen in één minuut op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uizen/hamster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één eetlepel per dier per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http://lh6.ggpht.com/_2kmXKOsEHgY/R2Q7CKqdL_I/AAAAAAAABV4/ayk7U32XxkQ/PB240008.JPG"/>
          <p:cNvPicPr/>
          <p:nvPr/>
        </p:nvPicPr>
        <p:blipFill>
          <a:blip r:embed="rId1"/>
          <a:stretch/>
        </p:blipFill>
        <p:spPr>
          <a:xfrm>
            <a:off x="714240" y="4786200"/>
            <a:ext cx="2773440" cy="1851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etermaas.nl/gerbils/images/amon-food.jpg"/>
          <p:cNvPicPr/>
          <p:nvPr/>
        </p:nvPicPr>
        <p:blipFill>
          <a:blip r:embed="rId2"/>
          <a:stretch/>
        </p:blipFill>
        <p:spPr>
          <a:xfrm>
            <a:off x="5143680" y="4699080"/>
            <a:ext cx="25002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kstvak 1"/>
          <p:cNvSpPr/>
          <p:nvPr/>
        </p:nvSpPr>
        <p:spPr>
          <a:xfrm>
            <a:off x="285840" y="214200"/>
            <a:ext cx="8715240" cy="10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Vi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n zijn belangrijk voor de gezondheid en de weerstand van de dieren. Bij gebrek aan vitaminen ontstaan ziek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komt voor in groenvoer zoals gras,mais, bieten en wortelen. Het is tevens een natuurlijke kleurstof;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aro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gebrek ontstaan nachtblindheid en ontstekingen aan de 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is belangrijk voor het uitharden van de bo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onvoldoende Vit. D ontstaat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Rachitis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 (zachte en kromme bo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Rachitischer Wellensittich"/>
          <p:cNvPicPr/>
          <p:nvPr/>
        </p:nvPicPr>
        <p:blipFill>
          <a:blip r:embed="rId1"/>
          <a:stretch/>
        </p:blipFill>
        <p:spPr>
          <a:xfrm>
            <a:off x="3500280" y="4500720"/>
            <a:ext cx="21909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kstvak 2"/>
          <p:cNvSpPr/>
          <p:nvPr/>
        </p:nvSpPr>
        <p:spPr>
          <a:xfrm>
            <a:off x="285840" y="285840"/>
            <a:ext cx="857232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ineralen zijn belangrijk voor allerlei processen in het licha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agnesium (Mg)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elangrijk voor zenuw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jzer (Fe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indt zuurstof in het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alcium en fosfor (Ca en P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opbouw van b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elen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ruch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od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schildk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atr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ochthuishouding in het lich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n krachtvoerkorrels zijn meestal voldoende mineralen meegepe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ls je geen of weinig krachtvoer voert, zorg dan voor een liksteen of een like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t op of de dieren niet aan bijv. muren of hekken likken of bij elkaar urine drink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http://www.bndestem.nl/multimedia/archive/00761/BS_4512361_4512361-_761260b.jpg"/>
          <p:cNvPicPr/>
          <p:nvPr/>
        </p:nvPicPr>
        <p:blipFill>
          <a:blip r:embed="rId1"/>
          <a:stretch/>
        </p:blipFill>
        <p:spPr>
          <a:xfrm>
            <a:off x="5143680" y="4572000"/>
            <a:ext cx="2671560" cy="2095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img.2dehands.be/f/normal/51674149_2-voederblok-rumevite-likemmer-ruminlix-schaap.jpg"/>
          <p:cNvPicPr/>
          <p:nvPr/>
        </p:nvPicPr>
        <p:blipFill>
          <a:blip r:embed="rId2"/>
          <a:stretch/>
        </p:blipFill>
        <p:spPr>
          <a:xfrm>
            <a:off x="1000080" y="4572000"/>
            <a:ext cx="28576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kstvak 1"/>
          <p:cNvSpPr/>
          <p:nvPr/>
        </p:nvSpPr>
        <p:spPr>
          <a:xfrm>
            <a:off x="285840" y="285840"/>
            <a:ext cx="871524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En verd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Zorg voor smakelijk voer van goede kw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en verrotte of beschimmelde producten vo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reng eens wat variatie aan in het rantso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t voer goed verdelen zodat elk dier voldoende tijd en ruimte he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economisch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er dat droog en schoon is hergeb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oerbakken maximaal  halfvol anders morsen de dier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ergeet het drinkwater niet te controleren en bij te vu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volgens het voer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www.dierenarts-asse.be/DIERENARTS_ASSE/_images/cavia11.jpg"/>
          <p:cNvPicPr/>
          <p:nvPr/>
        </p:nvPicPr>
        <p:blipFill>
          <a:blip r:embed="rId1"/>
          <a:stretch/>
        </p:blipFill>
        <p:spPr>
          <a:xfrm>
            <a:off x="5286240" y="3214800"/>
            <a:ext cx="3033720" cy="336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www.keukens-info.be/images/weegschaal-3.jpg"/>
          <p:cNvPicPr/>
          <p:nvPr/>
        </p:nvPicPr>
        <p:blipFill>
          <a:blip r:embed="rId2"/>
          <a:stretch/>
        </p:blipFill>
        <p:spPr>
          <a:xfrm>
            <a:off x="1571760" y="3571920"/>
            <a:ext cx="2381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0" y="120600"/>
          <a:ext cx="8858160" cy="7175520"/>
        </p:xfrm>
        <a:graphic>
          <a:graphicData uri="http://schemas.openxmlformats.org/drawingml/2006/table">
            <a:tbl>
              <a:tblPr/>
              <a:tblGrid>
                <a:gridCol w="1771560"/>
                <a:gridCol w="1771920"/>
                <a:gridCol w="1771560"/>
                <a:gridCol w="17715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o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eveel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xtra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pme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korr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g per kilo lichaamsgewi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hand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vi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 g per ca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schuilple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nk om voldoende vitamine C 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leine k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/2 eetlepel per volwassen d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plak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ltijd de dieren controler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ip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me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handjes gemengd graan in de 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romsnav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f parkietenza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d en drinkwater niet onder de zitstokken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ogel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zaad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voer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tropi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sier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sierviss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eveelheid voor één minu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illetjes v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odem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troleer op dode/ziek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korrel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g per g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¼ em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rrels goed verde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x daags (basket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grote winterp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2:20:02Z</dcterms:created>
  <dc:creator>wouter keppel</dc:creator>
  <dc:description/>
  <dc:language>en-US</dc:language>
  <cp:lastModifiedBy>WKE</cp:lastModifiedBy>
  <dcterms:modified xsi:type="dcterms:W3CDTF">2010-02-03T09:47:12Z</dcterms:modified>
  <cp:revision>14</cp:revision>
  <dc:subject/>
  <dc:title>Dia 1</dc:title>
</cp:coreProperties>
</file>