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A01C-84F7-4E36-ACEE-3C5D194A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4EE1-6D6F-42BE-8498-1D3F4A15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2FC66-1835-4C2B-B546-A48FF67E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36C16-C8A9-4BA7-A192-5DEF6192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28B67-E69C-4F72-A743-4F176525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87372-34DA-4855-B362-8042BE00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E335B-DFBB-4D43-B896-B537D7E6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E08C2-42AE-4D38-A098-CA0FF551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3BDAF-1B2E-46D6-952A-EFD8C7E6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41276-15C1-4F3E-8135-AD88EE298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3BABE-425E-4CBD-8E32-CD2F1A10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B590-3E7B-4BB4-B6A9-F9A2EF006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0FAD-078A-4D68-B1D4-9A06E719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027E-B199-44E2-BD22-EBDA455BB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63EE-3932-4BC3-8307-AD37EE3D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4BEE-735A-44FB-9A43-D9BC37BE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97A9-7259-476C-98FB-5F1EC308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E1DA-5ED6-4C73-9BAE-1F6788E8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C8C4-F484-45E7-ADDE-B521BCB9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0A3E-8BE5-4468-AEC5-7CA5A647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C8EA-2817-4E5B-8BD4-0644A56E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3B77-1EF1-4B90-82D6-1D1B571A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B06F-D860-4125-9E02-4D0F9827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3487-2257-42D7-897D-80978531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3BFB-D3E5-47EF-BA2C-8D2128291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6987-FB14-42A3-AB23-A41BAF9C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AD196-DDFE-442F-9E29-C233BA13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5B454-D306-4088-8FC1-41446972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552A4-657A-4228-B2AA-FE52564C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0A2D9-4D6E-47AC-90CA-AF1EF06E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3E92A-146D-4879-A6E5-4584620B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B76A-5F92-43CE-A3C8-76B4009B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1A4B0-5731-41ED-B4CE-0E1928B3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C9CE4-5586-4F3C-960F-46B260A9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F90B2-F64E-4D86-A695-C266377A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D1A34-3E68-44C1-A5BD-C6716D81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1F67C-6A58-4387-B525-A592D30C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FBC8D-1105-4FA2-9B8C-16E205936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ED9C9-9F54-4824-9663-4AA7748C6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E352B-ED51-442E-9C3B-1582345C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6D89D-6DDB-49B7-B5B6-466EC447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764D5-FC7B-4DB8-8FCD-D1FC8691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6DDD-9FAE-4C9A-A800-DEC73BA3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A9556-BDC9-4B4C-8E73-44E22678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4F943-9A5C-4B42-A6F7-28858AE3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49E1E-D276-434A-8858-A815C124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0D604-F6C6-4B4C-AE9E-6972F67B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DB790-49CB-43D8-B8F7-6546E71A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9E965-1C07-4F51-897D-9F9B0C09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224F1-791D-4941-8F32-5C0563BD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22425-13A5-43BC-BF32-9DD249185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B19BB-4B99-4767-BBC6-D1EC777AC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50AB7-0B78-4D10-887B-A30E5132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5339-8E2A-46D5-AE1B-4A547438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75B07-F7E3-47EE-A9D4-B9E7BEFF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9558E-3373-4A6B-9B6B-E34A5B40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DD45E-B8A9-4AA8-87B8-55CBFCD5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08DB8-D572-442C-B758-7743F95E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C30CE-9362-485C-9FC4-7D10768B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A3012-ECDB-4519-B2E0-E8D6E8F0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76067-8F89-49CB-8C9D-92027B9C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00EC2-F42E-481F-869F-B11D92BF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0471D-B5C3-469B-A62F-1C64032C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AA19D-9F66-4CC5-81E8-5FC92C33A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EB89-9C84-461B-A59F-04B512A3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20AEF-D9D4-4198-BB25-B2E9BA87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2CCD3-09C1-4547-A429-789CE7BD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92A05-AA9B-4119-AE27-2E01D5EE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DC961-5DA0-4679-B5BC-9F1D8DA6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1F826-5B99-4413-8D2D-7A01AA72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0B348-2E91-44AB-B083-4015B27F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ADDF4-409E-4399-8D53-F29515FD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1C055-4176-4ADE-A80D-2A152559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D1E8C-B64B-410C-A63D-258B729B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6F332-E256-45D8-8959-2123C878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3C27-29F5-41D3-8A08-EFD7D5EA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0839F-A6B9-47C4-BE68-F2BF2D53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DAEBC-8A39-4C5A-A43A-E4001F1F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26A68-022C-4D85-9614-8129B0C9C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71124-D7E2-408C-8012-8BB25FBB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2F64D-44B5-47B7-98CD-BD880BF2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A7243-752A-42CA-9B54-6AA308D5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F8F54-87B7-4FFE-89E9-B9574DCA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7BD85-6DD1-4E16-8404-3FD1D145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1B929-D805-445F-8D72-8F9287E1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2737C-5C4F-482E-AD42-1F08BA21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DBD6-B498-4ACA-84C9-F2C4D40E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2685C-FE6B-4E82-9EBC-947AA40F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BFE5B-1076-4C69-B111-39E8A550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77FB8-F41E-420A-AED1-0152BD13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BAECA-5F1C-4723-AD8B-DE5FC9D9E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96429-5CD1-4138-957B-1D5DCDDC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67227-CC13-4E65-A599-D49E13B4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6E4A7-43D8-40C4-A806-F079A33B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B7C92-28AD-4CB8-A4B6-2BE6BC78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74F4E-5795-4B52-96D5-76EF6A2C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14247-B624-4032-898C-64002C37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FD5F-0D18-4E12-9FAA-66427F96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97434-0166-4489-A02A-C8BD3CC2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038CC-15DD-42B9-9969-A85C1A9F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0BC6B-927A-4336-8B35-CD82D248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1DFDC-501A-4D4A-BAF4-CF7617FE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A4710-B733-4D5D-B245-73B31257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72D2C-B4E5-45ED-A113-1F591DBDB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9D0F8-8F1C-4715-908C-E02C92BB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4A2E4-0FAF-4FD1-93A1-EA4A29E1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085F4-4B39-4878-8338-66AEDC31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19F61-BF32-4015-9092-DE328CEB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hte verbindingslijn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Rechte verbindingslijn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BB47-36A2-4A94-998D-60779D29BBE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Rechte verbindingslijn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Rechte verbindingslijn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Rechte verbindingslijn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Rechte verbindingslijn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hte verbindingslijn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Rechte verbindingslijn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6D35-73C2-4D5B-8042-371B56CC772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Rechte verbindingslijn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Rechte verbindingslijn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Rechte verbindingslijn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Rechte verbindingslijn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Rechte verbindingslijn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Rechte verbindingslijn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98D1-D2DF-41B7-B158-96A8B22A3DD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Rechte verbindingslijn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Rechte verbindingslijn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B5F1-AD95-475A-A15F-F9C751F837C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Rechte verbindingslijn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Rechte verbindingslijn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29BF-8F87-40F4-95E9-C7511AFD208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A29B-80B1-4CD8-8FE8-54D431653C8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Rechte verbindingslijn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Rechte verbindingslijn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A8AB-3F9D-4C98-889E-48F4EC1E589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2795-E760-4289-8A41-3E59E8FEA0E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ECF4-F4FE-46A7-A46A-EBC8BB155C3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kstvak 3"/>
          <p:cNvSpPr/>
          <p:nvPr/>
        </p:nvSpPr>
        <p:spPr>
          <a:xfrm>
            <a:off x="2857680" y="42876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Praktijkles voeren en verzor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kstvak 5"/>
          <p:cNvSpPr/>
          <p:nvPr/>
        </p:nvSpPr>
        <p:spPr>
          <a:xfrm>
            <a:off x="428760" y="1214280"/>
            <a:ext cx="850104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Ho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Bevat veel ruwe celstof. Dit is goed voor de maag- en darmwerking van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planten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Bevat veel vit.D omdat het door de zon bestraald is (UV-stralin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Moet kruidig ruiken en mag niet stoffig zij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Gebruik hooi alleen als voer en niet als bodembedekking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Niet morsen en verkwisten want hooi is du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http://www.roosdiervoeders.nl/images/hooi/hooi%20persen%20006.jpg"/>
          <p:cNvPicPr/>
          <p:nvPr/>
        </p:nvPicPr>
        <p:blipFill>
          <a:blip r:embed="rId1"/>
          <a:stretch/>
        </p:blipFill>
        <p:spPr>
          <a:xfrm>
            <a:off x="4000680" y="3643200"/>
            <a:ext cx="45655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kstvak 1"/>
          <p:cNvSpPr/>
          <p:nvPr/>
        </p:nvSpPr>
        <p:spPr>
          <a:xfrm>
            <a:off x="357120" y="214200"/>
            <a:ext cx="8501040" cy="110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Beperkt of onbeperkt voe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ommige dieren krijgen onbeperkt vo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Leghennen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onbeperkt legmeel of legkorr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chapen, geiten en koeien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onbeperkt ruwvo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Onbeperkt voeren noemt men ook wel  “</a:t>
            </a:r>
            <a:r>
              <a:rPr b="0" i="1" lang="en-US" sz="1800" spc="-1" strike="noStrike">
                <a:solidFill>
                  <a:srgbClr val="000000"/>
                </a:solidFill>
                <a:latin typeface="Franklin Gothic Book"/>
              </a:rPr>
              <a:t> Ad Libitu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De meeste dieren krijgen beperkt vo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konijnen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40 g korrels per kg lichaamsgew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vissen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net zoveel als de vissen in één minuut ope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muizen/hamsters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één eetlepel per dier per d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" descr="http://lh6.ggpht.com/_2kmXKOsEHgY/R2Q7CKqdL_I/AAAAAAAABV4/ayk7U32XxkQ/PB240008.JPG"/>
          <p:cNvPicPr/>
          <p:nvPr/>
        </p:nvPicPr>
        <p:blipFill>
          <a:blip r:embed="rId1"/>
          <a:stretch/>
        </p:blipFill>
        <p:spPr>
          <a:xfrm>
            <a:off x="714240" y="4786200"/>
            <a:ext cx="2773440" cy="18511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http://www.petermaas.nl/gerbils/images/amon-food.jpg"/>
          <p:cNvPicPr/>
          <p:nvPr/>
        </p:nvPicPr>
        <p:blipFill>
          <a:blip r:embed="rId2"/>
          <a:stretch/>
        </p:blipFill>
        <p:spPr>
          <a:xfrm>
            <a:off x="5143680" y="4699080"/>
            <a:ext cx="2500200" cy="19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kstvak 1"/>
          <p:cNvSpPr/>
          <p:nvPr/>
        </p:nvSpPr>
        <p:spPr>
          <a:xfrm>
            <a:off x="285840" y="214200"/>
            <a:ext cx="8715240" cy="100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Vitami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Vitaminen zijn belangrijk voor de gezondheid en de weerstand van de dieren. Bij gebrek aan vitaminen ontstaan ziek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Vitamine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Dit komt voor in groenvoer zoals gras,mais, bieten en wortelen. Het is tevens een natuurlijke kleurstof; </a:t>
            </a: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carot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Bij gebrek ontstaan nachtblindheid en ontstekingen aan de o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Vitamine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Dit is belangrijk voor het uitharden van de bot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Bij onvoldoende Vit. D ontstaat </a:t>
            </a: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Rachitis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 (zachte en kromme bot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" descr="Rachitischer Wellensittich"/>
          <p:cNvPicPr/>
          <p:nvPr/>
        </p:nvPicPr>
        <p:blipFill>
          <a:blip r:embed="rId1"/>
          <a:stretch/>
        </p:blipFill>
        <p:spPr>
          <a:xfrm>
            <a:off x="3500280" y="4500720"/>
            <a:ext cx="219096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kstvak 2"/>
          <p:cNvSpPr/>
          <p:nvPr/>
        </p:nvSpPr>
        <p:spPr>
          <a:xfrm>
            <a:off x="285840" y="285840"/>
            <a:ext cx="8572320" cy="105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Mine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Mineralen zijn belangrijk voor allerlei processen in het licha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Magnesium (Mg)  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belangrijk voor zenuwstel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Ijzer (Fe)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bindt zuurstof in het blo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alcium en fosfor (Ca en P)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voor de opbouw van bo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elenium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voor de vruchtbaar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Jodium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voor de schildk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Natrium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voor de vochthuishouding in het licha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In krachtvoerkorrels zijn meestal voldoende mineralen meegeper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ls je geen of weinig krachtvoer voert, zorg dan voor een liksteen of een likem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Let op of de dieren niet aan bijv. muren of hekken likken of bij elkaar urine drinken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4" descr="http://www.bndestem.nl/multimedia/archive/00761/BS_4512361_4512361-_761260b.jpg"/>
          <p:cNvPicPr/>
          <p:nvPr/>
        </p:nvPicPr>
        <p:blipFill>
          <a:blip r:embed="rId1"/>
          <a:stretch/>
        </p:blipFill>
        <p:spPr>
          <a:xfrm>
            <a:off x="5143680" y="4572000"/>
            <a:ext cx="2671560" cy="20955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http://img.2dehands.be/f/normal/51674149_2-voederblok-rumevite-likemmer-ruminlix-schaap.jpg"/>
          <p:cNvPicPr/>
          <p:nvPr/>
        </p:nvPicPr>
        <p:blipFill>
          <a:blip r:embed="rId2"/>
          <a:stretch/>
        </p:blipFill>
        <p:spPr>
          <a:xfrm>
            <a:off x="1000080" y="4572000"/>
            <a:ext cx="285768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kstvak 1"/>
          <p:cNvSpPr/>
          <p:nvPr/>
        </p:nvSpPr>
        <p:spPr>
          <a:xfrm>
            <a:off x="285840" y="285840"/>
            <a:ext cx="8715240" cy="9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En verder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Zorg voor smakelijk voer van goede kwalite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Geen verrotte of beschimmelde producten voe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Breng eens wat variatie aan in het rantso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Het voer goed verdelen zodat elk dier voldoende tijd en ruimte hee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Werk economisch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voer dat droog en schoon is hergebrui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voerbakken maximaal  halfvol anders morsen de dier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Vergeet het drinkwater niet te controleren en bij te vu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Werk volgens het voer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" descr="http://www.dierenarts-asse.be/DIERENARTS_ASSE/_images/cavia11.jpg"/>
          <p:cNvPicPr/>
          <p:nvPr/>
        </p:nvPicPr>
        <p:blipFill>
          <a:blip r:embed="rId1"/>
          <a:stretch/>
        </p:blipFill>
        <p:spPr>
          <a:xfrm>
            <a:off x="5286240" y="3214800"/>
            <a:ext cx="3033720" cy="33670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http://www.keukens-info.be/images/weegschaal-3.jpg"/>
          <p:cNvPicPr/>
          <p:nvPr/>
        </p:nvPicPr>
        <p:blipFill>
          <a:blip r:embed="rId2"/>
          <a:stretch/>
        </p:blipFill>
        <p:spPr>
          <a:xfrm>
            <a:off x="1571760" y="3571920"/>
            <a:ext cx="23810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0" y="120600"/>
          <a:ext cx="8858160" cy="7175520"/>
        </p:xfrm>
        <a:graphic>
          <a:graphicData uri="http://schemas.openxmlformats.org/drawingml/2006/table">
            <a:tbl>
              <a:tblPr/>
              <a:tblGrid>
                <a:gridCol w="1771560"/>
                <a:gridCol w="1771920"/>
                <a:gridCol w="1771560"/>
                <a:gridCol w="1771560"/>
                <a:gridCol w="1771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Dierso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Voerso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Hoeveelh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Extra’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Opmer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onijn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onijnenkorr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0g per kilo lichaamsgewic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oi (tennisb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oenvoer (handj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avia’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emengd knaagdier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0 g per cav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oi (schuilple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o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enk om voldoende vitamine C !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leine kna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emengd knaagdier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 /2 eetlepel per volwassen d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oi (tennisb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oenvoer (plakj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ltijd de dieren controlere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ip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Legme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nbeperk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 handjes gemengd graan in de r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romsnave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of parkietenza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½ eetlepel per vog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sgie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ru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i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ad en drinkwater niet onder de zitstokken 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pische vogel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ierduiven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pisch zaad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ierduivenvoer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½ eetlepel per vog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andje per du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i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sgie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ru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 bakjes tropis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 bakjes sierdu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pische vis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pisch sierviss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eveelheid voor één minu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illetjes vo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odemvis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ontroleer op dode/zieke vis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eit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eitenkorrel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oi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0g per ge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nbeperk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o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¼ emm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orrels goed verde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o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o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 x daags (basketb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 grote winterp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uiv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uiv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 handje per du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22:20:02Z</dcterms:created>
  <dc:creator>wouter keppel</dc:creator>
  <dc:description/>
  <dc:language>en-US</dc:language>
  <cp:lastModifiedBy>WKE</cp:lastModifiedBy>
  <dcterms:modified xsi:type="dcterms:W3CDTF">2010-02-03T09:47:12Z</dcterms:modified>
  <cp:revision>14</cp:revision>
  <dc:subject/>
  <dc:title>Dia 1</dc:title>
</cp:coreProperties>
</file>