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0462-AC03-47D2-9924-E6137338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5E3C-8B3C-466B-AB8B-6F51DB6C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AEA07-7013-4236-91A4-6F617F49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DB3BF-5E27-4F4E-9178-636C8C01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80F22-92D5-482F-BFAE-2592859F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3F045-799B-49B6-AD66-2DADFD5E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B8E7B-0B66-4A11-B22E-EAEA1B50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647D7-02CF-4E28-944E-B6CD57C3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38FCC-3D7B-4720-B290-79B9FC00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B9610-AE5B-4071-B7C8-E79FC7DE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126FA-64D5-4104-A78A-475EC063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C354-CD6D-4324-A368-0CB96D7B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CD78-83EB-4B8E-B5C0-73026B96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F94C-C49B-4AA5-990C-45C985E0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0E8C-E9D9-47A1-A532-27AC3834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9425-1CE6-42F0-91F4-AD3CF42A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1139-FEDD-4AED-ACA7-2A1D04C8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C311-341D-45E1-8784-FB8685CF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6812-B7C3-40DD-85B1-4557654C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AB78-6C60-458F-AD00-BFFDCF1A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588-94F2-4A1E-A215-3AEE3BA8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3735-8B6A-468A-A7E5-8FC7AA2B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976C-318D-4E40-A8E8-73C70FCC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26CB-A715-4052-BD77-C776D1A0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5877-B7F2-40DF-B49D-81230738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4631-CF28-4DBA-8F3A-8FC298E6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EA5D2-BCF3-4819-93E2-3A25293A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00664-7E53-4270-ADAA-124AD996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A4E5E-85BA-4EC5-BA18-3984E898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9D0C2-B64C-4A1F-8F25-D5B7E591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349FB-D05A-4A7A-BADE-17636A8E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1841-982F-4CA3-87FA-FD1C3799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6B28C-4F83-4350-B574-6C6E131B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7275D-2F18-424C-9A8A-C1153C0B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D7A99-A811-45CC-BDBF-62EF267E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5FFE0-FC5E-4B50-AF88-0CB38607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952D3-3F44-4877-9B15-360E4927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8A90A-91F3-4675-9748-055230ED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330CE-DA29-49D5-A7CD-DBDC9C5A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60DC6-E61D-47CC-B02E-5D9A18DB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80C45-66B1-4155-ACEA-06372C91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C8592-D99C-402B-907B-F3C169C7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8CE1-16A6-45D2-8AA6-6F8D2934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6705A-FC29-4107-8978-1C491CF7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F4D36-D0A0-4965-97CC-C445C023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CD87F-ECAB-4D41-8CD6-86926F1D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8888F-095E-44E3-98FD-748F0B1D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05078-C54B-4E64-BB4C-AE1718BC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92B08-63CD-4DE2-BFF1-E9CDDFA7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6C458-F40E-4CD5-AC57-6C0FFBCD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C3784-1D01-4706-ABA8-CBBD0BB2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518A5-BB29-429C-AAA0-53FD0037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0EC2D-17C5-45F0-BFD5-27FD5FD0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85EF-EC1A-4B71-9B5C-447FEBC9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955D7-FA05-4EE4-90B8-996BE1CA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EFF03-FBC3-4947-9013-39FF6DEF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4AA00-4E7A-48F8-906A-B71C18AB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A60D1-3F04-4AFA-9D9D-2387D01E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3F924-D52B-40A0-8DC3-2F76D8F3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D54F2-A240-499B-AB8C-51C038FF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DBB75-B66C-4388-A75A-A7F4DE33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20318-2F26-4960-8064-B659D332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874DA-0E00-4FD1-A07F-F4328D5F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0CCED-A278-4371-A269-2A8672AD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1460-F1F4-479C-B03F-2F84C2AA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A0E05-BF04-4657-B2DB-6B7A74B7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A6C66-56D6-456F-90E2-F6F6A3FB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574D0-E7BE-4748-ABEB-07BA860A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966F7-F58F-4671-99C5-0F934343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1CD09-8F7A-4DA7-A5AA-6D95E974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E5B2D-036F-4C85-8DA7-DF46EE4C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B816A-4087-4A43-BEA4-A6E789AB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BA66E-98C2-45BD-A66D-62367454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64AA1-3B76-4282-8938-A2F3A23E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4A942-CFAC-4314-B262-8A105326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BFB7-00F7-49B6-8242-D1EE4A27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E629B-0C7C-4B7D-B79F-66B8EEBA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9149F-AB32-440D-B897-B1EA8F5D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86074-0EC8-4D13-8BEF-38CC044E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7498A-4369-4D2C-9EE5-12BB465D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FF262-C030-4133-8269-A84DB4E3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3922E-BA2D-45D9-BDD9-7B5DBC5F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C9B54-6593-44AC-AC85-067938D3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787E6-924C-4CB1-95BD-FF97E6CA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4AFF3-D716-4472-851D-ACB27A46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5DA1C-45DB-41CE-B79D-CF10A80B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A909-74CD-497D-B84D-37DFE5FC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C0205-36D3-4C4B-B92C-05686751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1CE14-EE24-40D1-A091-8149B7A1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6B014-456D-401F-9726-51DACDF6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D172F-B9B7-4189-B201-232ECC7C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CCACF-0539-4973-AB34-4E447606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FFDEF-BC21-46A3-8817-33D70100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522CF-5F58-460E-A1A9-655E8662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D4876-F10B-4AC5-A69D-A4871919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D2B8A-0AD8-4E13-81ED-106E1EE3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E13DC-3E12-402C-BF8B-E4EAE8DF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BAD-2EE0-4238-A15A-41FE1D3C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1BF24-B8A2-4A54-8241-B0AFDD06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36121-AC4C-45BC-9241-593CF109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DE224-9353-4B8E-B325-8D34F77E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FD0B6-084D-48F7-8E4C-303F1060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FF857-E4F8-4929-AE3C-B35E3A7F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2FBA1-B043-453C-89BB-C537BF87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CF1B5-00F6-4E2D-8702-ED56BCF3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D1069-AB34-4CB4-A5CD-AC2467A9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F8E61-7D6A-423E-A374-0E2E6671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6FECD-5B10-44D1-BBD5-B2354C96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e verbindingslijn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C218-E543-43FF-B402-0DBA387F355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Rechte verbindingslijn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Rechte verbindingslijn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Rechte verbindingslijn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Rechte verbindingslijn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hte verbindingslijn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967E-A10D-4FAE-9162-C4389ED6B0A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Rechte verbindingslijn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Rechte verbindingslijn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Rechte verbindingslijn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Rechte verbindingslijn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Rechte verbindingslijn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9400-BEB7-4472-A28E-BD1512AFF94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Rechte verbindingslijn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3F19-69D6-4B49-81C6-2A297FE1E42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Rechte verbindingslijn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Rechte verbindingslijn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2A73-F60F-4F8E-B45A-4FAD1CEF238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A946-BFFD-4966-B20C-249CDA9E043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Rechte verbindingslijn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Rechte verbindingslijn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87ED-AB65-4119-AA10-0EE2A9B01BC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BFCD-7708-408D-ABD5-8A06CC99C02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DBF9-5A06-4138-B1FA-FEAA43AC1B2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kstvak 3"/>
          <p:cNvSpPr/>
          <p:nvPr/>
        </p:nvSpPr>
        <p:spPr>
          <a:xfrm>
            <a:off x="2857680" y="42876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Praktijkles voeren en verzor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kstvak 5"/>
          <p:cNvSpPr/>
          <p:nvPr/>
        </p:nvSpPr>
        <p:spPr>
          <a:xfrm>
            <a:off x="428760" y="1214280"/>
            <a:ext cx="850104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Ho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evat veel ruwe celstof. Dit is goed voor de maag- en darmwerking va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planten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evat veel vit.D omdat het door de zon bestraald is (UV-stral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oet kruidig ruiken en mag niet stoffig zij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Gebruik hooi alleen als voer en niet als bodembedekking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Niet morsen en verkwisten want hooi is du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http://www.roosdiervoeders.nl/images/hooi/hooi%20persen%20006.jpg"/>
          <p:cNvPicPr/>
          <p:nvPr/>
        </p:nvPicPr>
        <p:blipFill>
          <a:blip r:embed="rId1"/>
          <a:stretch/>
        </p:blipFill>
        <p:spPr>
          <a:xfrm>
            <a:off x="4000680" y="3643200"/>
            <a:ext cx="45655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kstvak 1"/>
          <p:cNvSpPr/>
          <p:nvPr/>
        </p:nvSpPr>
        <p:spPr>
          <a:xfrm>
            <a:off x="357120" y="214200"/>
            <a:ext cx="8501040" cy="110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Beperkt of onbeperkt vo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ommige dieren krijgen onbeperkt 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Leghenne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onbeperkt legmeel of legko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chapen, geiten en koeie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onbeperkt ruwvo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Onbeperkt voeren noemt men ook wel  “</a:t>
            </a:r>
            <a:r>
              <a:rPr b="0" i="1" lang="en-US" sz="1800" spc="-1" strike="noStrike">
                <a:solidFill>
                  <a:srgbClr val="000000"/>
                </a:solidFill>
                <a:latin typeface="Franklin Gothic Book"/>
              </a:rPr>
              <a:t> Ad Libitu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e meeste dieren krijgen beperkt vo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konijne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40 g korrels per kg lichaamsgew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issen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net zoveel als de vissen in één minuut op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uizen/hamsters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één eetlepel per dier per d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http://lh6.ggpht.com/_2kmXKOsEHgY/R2Q7CKqdL_I/AAAAAAAABV4/ayk7U32XxkQ/PB240008.JPG"/>
          <p:cNvPicPr/>
          <p:nvPr/>
        </p:nvPicPr>
        <p:blipFill>
          <a:blip r:embed="rId1"/>
          <a:stretch/>
        </p:blipFill>
        <p:spPr>
          <a:xfrm>
            <a:off x="714240" y="4786200"/>
            <a:ext cx="2773440" cy="1851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www.petermaas.nl/gerbils/images/amon-food.jpg"/>
          <p:cNvPicPr/>
          <p:nvPr/>
        </p:nvPicPr>
        <p:blipFill>
          <a:blip r:embed="rId2"/>
          <a:stretch/>
        </p:blipFill>
        <p:spPr>
          <a:xfrm>
            <a:off x="5143680" y="4699080"/>
            <a:ext cx="250020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kstvak 1"/>
          <p:cNvSpPr/>
          <p:nvPr/>
        </p:nvSpPr>
        <p:spPr>
          <a:xfrm>
            <a:off x="285840" y="214200"/>
            <a:ext cx="8715240" cy="10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Vita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Vitaminen zijn belangrijk voor de gezondheid en de weerstand van de dieren. Bij gebrek aan vitaminen ontstaan ziek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Vitamin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it komt voor in groenvoer zoals gras,mais, bieten en wortelen. Het is tevens een natuurlijke kleurstof; 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carot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Bij gebrek ontstaan nachtblindheid en ontstekingen aan de o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Vitamine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it is belangrijk voor het uitharden van de bot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Bij onvoldoende Vit. D ontstaat 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Rachitis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 (zachte en kromme bot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Rachitischer Wellensittich"/>
          <p:cNvPicPr/>
          <p:nvPr/>
        </p:nvPicPr>
        <p:blipFill>
          <a:blip r:embed="rId1"/>
          <a:stretch/>
        </p:blipFill>
        <p:spPr>
          <a:xfrm>
            <a:off x="3500280" y="4500720"/>
            <a:ext cx="219096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kstvak 2"/>
          <p:cNvSpPr/>
          <p:nvPr/>
        </p:nvSpPr>
        <p:spPr>
          <a:xfrm>
            <a:off x="285840" y="285840"/>
            <a:ext cx="8572320" cy="10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ineralen zijn belangrijk voor allerlei processen in het licha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agnesium (Mg)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belangrijk voor zenuw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jzer (Fe)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bindt zuurstof in het blo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alcium en fosfor (Ca en P)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opbouw van bo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eleniu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vruchtbaar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Jodiu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schildk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Natriu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vochthuishouding in het licha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n krachtvoerkorrels zijn meestal voldoende mineralen meegepe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ls je geen of weinig krachtvoer voert, zorg dan voor een liksteen of een likem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Let op of de dieren niet aan bijv. muren of hekken likken of bij elkaar urine drinken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" descr="http://www.bndestem.nl/multimedia/archive/00761/BS_4512361_4512361-_761260b.jpg"/>
          <p:cNvPicPr/>
          <p:nvPr/>
        </p:nvPicPr>
        <p:blipFill>
          <a:blip r:embed="rId1"/>
          <a:stretch/>
        </p:blipFill>
        <p:spPr>
          <a:xfrm>
            <a:off x="5143680" y="4572000"/>
            <a:ext cx="2671560" cy="2095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http://img.2dehands.be/f/normal/51674149_2-voederblok-rumevite-likemmer-ruminlix-schaap.jpg"/>
          <p:cNvPicPr/>
          <p:nvPr/>
        </p:nvPicPr>
        <p:blipFill>
          <a:blip r:embed="rId2"/>
          <a:stretch/>
        </p:blipFill>
        <p:spPr>
          <a:xfrm>
            <a:off x="1000080" y="4572000"/>
            <a:ext cx="285768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kstvak 1"/>
          <p:cNvSpPr/>
          <p:nvPr/>
        </p:nvSpPr>
        <p:spPr>
          <a:xfrm>
            <a:off x="285840" y="285840"/>
            <a:ext cx="8715240" cy="9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En verder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Zorg voor smakelijk voer van goede kwalite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Geen verrotte of beschimmelde producten vo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reng eens wat variatie aan in het rantso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Het voer goed verdelen zodat elk dier voldoende tijd en ruimte hee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Werk economisch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er dat droog en schoon is hergebru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oerbakken maximaal  halfvol anders morsen de dier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ergeet het drinkwater niet te controleren en bij te vu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Werk volgens het voer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http://www.dierenarts-asse.be/DIERENARTS_ASSE/_images/cavia11.jpg"/>
          <p:cNvPicPr/>
          <p:nvPr/>
        </p:nvPicPr>
        <p:blipFill>
          <a:blip r:embed="rId1"/>
          <a:stretch/>
        </p:blipFill>
        <p:spPr>
          <a:xfrm>
            <a:off x="5286240" y="3214800"/>
            <a:ext cx="3033720" cy="3367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http://www.keukens-info.be/images/weegschaal-3.jpg"/>
          <p:cNvPicPr/>
          <p:nvPr/>
        </p:nvPicPr>
        <p:blipFill>
          <a:blip r:embed="rId2"/>
          <a:stretch/>
        </p:blipFill>
        <p:spPr>
          <a:xfrm>
            <a:off x="1571760" y="3571920"/>
            <a:ext cx="23810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0" y="120600"/>
          <a:ext cx="8858160" cy="7175520"/>
        </p:xfrm>
        <a:graphic>
          <a:graphicData uri="http://schemas.openxmlformats.org/drawingml/2006/table">
            <a:tbl>
              <a:tblPr/>
              <a:tblGrid>
                <a:gridCol w="1771560"/>
                <a:gridCol w="1771920"/>
                <a:gridCol w="1771560"/>
                <a:gridCol w="1771560"/>
                <a:gridCol w="177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Dierso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Voerso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Hoeveelh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Extra’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Opmer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onij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onijnenkorr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0g per kilo lichaamsgewic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(tennisb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 (handj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via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mengd knaagdier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0 g per ca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(schuilple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enk om voldoende vitamine C !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leine kna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mengd knaagdier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/2 eetlepel per volwassen d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(tennisb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 (plakj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ltijd de dieren controlere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ip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egme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nbeper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 handjes gemengd graan in de 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romsnav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f parkietenza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½ eetlepel per vog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sgie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ru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i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ad en drinkwater niet onder de zitstokken 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e vogel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ierduiven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 zaad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ierduivenvoer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½ eetlepel per vog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andje per du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i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sgie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ru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bakjes tropis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bakjes sierdu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e vis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 sierviss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eveelheid voor één minu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illetjes vo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odemvis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ontroleer op dode/zieke vis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i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itenkorrel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0g per ge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nbeper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¼ em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orrels goed verde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o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x daags (basketb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grote winterp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uiv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uiv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handje per du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22:20:02Z</dcterms:created>
  <dc:creator>wouter keppel</dc:creator>
  <dc:description/>
  <dc:language>en-US</dc:language>
  <cp:lastModifiedBy>WKE</cp:lastModifiedBy>
  <dcterms:modified xsi:type="dcterms:W3CDTF">2010-02-03T09:47:12Z</dcterms:modified>
  <cp:revision>14</cp:revision>
  <dc:subject/>
  <dc:title>Dia 1</dc:title>
</cp:coreProperties>
</file>