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1C72-ECBC-4B32-892F-CBAAB086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CE4-04C5-4145-A2B9-4B3636E7C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F265A2-C604-47FD-8131-9E48531B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020A5-6603-4306-9E6A-DF63D2377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D1919-3ED3-4FE3-AD65-5D1276A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6AE13F-3CCD-43AD-AC95-0AB9F667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71D96-6FA7-4581-AEF1-21B5A0C93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B9BFE-F36C-457C-A0D4-C8DB9404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B2AFA-56B7-48EE-B65F-4FB03CDA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FA3C1A-E5F9-4BBD-8313-0F4DAEDA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78C69-8B4B-4BCF-BFAA-267E7DA1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3D35-8B90-48B1-934C-3B4A59EF0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6E26-7393-46F6-B998-4302C18AD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1FFA5-93B1-48A3-A225-648732A1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BDE7-2CB4-47AF-B11C-70C72C7C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5B31A-927C-4E4B-A6E5-82D1CBC7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DC5AB-F71C-469E-9CEB-59DABD6DB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4012-7567-44B8-8B9B-45FBC3554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2144-8B66-4B9C-9B12-A6F0A6716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DE637-0C95-4AAA-A8CE-65E6F8B50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DD1C-9C60-4804-99CD-6E99BDBCC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5C17D-69E2-438E-A778-68E09AF6F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B55F-6094-4FD1-9F29-61EA2ED0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DA50-A561-457F-A0DD-905C25665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BF70-4538-4290-9689-3A97A526F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FD252-E54C-4652-B833-8F62375EA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DD0A-8C6D-46C4-AE7C-19614FB5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FCA61-3A8B-4737-89E0-69704C31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5B6AA-E0D1-4F40-A7E8-D44B7EE2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3B6B8-F112-4F99-9013-3B6FB0BE3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F1A0E-7944-4019-A00A-F8961274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A469-C94E-48BD-A10D-8A890AAF5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469F1-557C-4944-A67D-E413E82EB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44415-6045-474E-9C98-9183AAC1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070B9-BFE5-41D1-AEBC-5C76678D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3334D-8476-4984-AEFC-8220738B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5C94-9BC9-45A9-A8C0-7F72988DB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354AA-6BBA-45DC-BDD7-7C13936E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84743-585B-4B38-82C0-D57B58B92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D7C23-8355-48AD-BFFB-56EB032BA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86E3A-F461-4C16-B99E-940683AC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13BC5-E952-41B1-A3C5-3FCFF1DD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1B04-C971-4184-B8B0-11D0D859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229722-FC05-4B52-832E-BAF8AE87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4F475-02C0-4D87-BC78-412EF671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42B16-6C59-40DB-9C98-BC2C7BE1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51E9B-C370-4F08-B886-0E172A4AA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3E6C86-83BD-44F8-BD33-B05DA38C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8784F-213D-4198-B236-45327C7E4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D88B5-99BE-4D57-BBC5-19C28C99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74784-09ED-4CF1-A7F4-B934183AB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EC2F4-5CA1-467A-9E6E-4E83E6045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037062-03F3-480E-9FD1-D72D0169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77CB-A298-46E9-83B4-9E6D020A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53502-DC6E-428B-9900-95F0C243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717C-D0E8-43FF-9D29-3D60D92D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1816B0-FE33-41FA-AFD6-131DF1A2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E4F25-196E-4953-B467-23E82960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16F7E-C607-4455-80D8-C3B31292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3C235-3C7F-4DAC-99AF-CB599156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5ABB61-A2E6-42EB-B2B9-42ACDDC9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C2EDB-06C2-4197-B4A9-698D2C2C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45F46-C95D-48E5-995B-9610B3D9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30113-D3AB-4F58-A94A-11E0A7318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EDB2-73A4-49CC-AC4C-5F761CE50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BA2DF-0701-4F63-AEA1-E4DFBFBCC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26821-92F9-4DD5-87A7-C7210B19E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89660D-7710-4DBA-A0CF-31BABDDB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6821D8-B074-458C-8166-F15521EC9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20016-21F4-4D31-8028-A810A997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166AA-CCE3-4BB2-9AD2-A3CBE06D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D41266-CA4E-4238-8D28-9CBA2C24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0345F-C6BC-461A-90B6-18970658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F8D0D-8C39-4BAF-8C83-A17CAAEC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43178-A4DF-46B8-A44E-461F99C2D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4BB4-DDA8-4DD1-9A0E-BE0081EC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DF529-451C-41C6-BB3E-C78695E7F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66A04-926A-407C-952F-1369C5F76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A0B37-4407-44DD-B016-FFCCAB974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D3244-BEC0-4168-844E-0E5799614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1C94DD-EEEE-4F09-9997-949AAB42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D286C0-9B88-4F61-9183-1E2335EB9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FACC1-E904-4AB4-81A5-18A0385F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2AE82-B737-443E-B346-C0A40179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B0E68-A5C5-4D07-9101-305C37C0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21A09-27FC-4983-B4FF-B4D8438C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59A0-71B1-4CE6-AAA0-E7F4FF4D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8C50B-6114-483B-9612-48352F35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F8161-0F42-40DA-A06C-505851FB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42FE7-7F7E-4B5E-9D55-5F3B4EC69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85E0EF-B95D-4260-94D3-E377AE5A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A023B7-81D5-4FB0-8049-29C08792B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3213F-4C8E-40A2-841D-AF456BC0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7EF7B6-D088-401D-ADD9-BCDDDC7C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D22A3-CE92-4885-A5BB-B43A0BE4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FF1E2-EBB9-4837-9955-DB43C0683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0B62D-4C8E-40F8-88B5-C91249BC5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674C-4BA3-43E8-AB56-D8F67F0A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09E7A-BF66-4CEF-9C42-3F9D3A78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BBE9AF-70B1-4744-A5BD-B28B03EB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2EFE0-439B-4A88-BC94-7FF02CD3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27947-5E94-4B64-A66E-29AD01E7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C2015C-00F4-4D93-A04E-D041EE5D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9D462D-7D36-45FB-BA20-F79ABEE80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51F9E-9C4B-4400-83F9-C9DA4EAE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40AE06-3781-4091-8A31-45D6A725A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9D40BF-5B4B-4E56-A84C-CB45B625B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9E7F3E-2E33-467F-BAFD-04EA10B5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5A8FF-03A9-4524-9276-0598F0E9010F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Rechte verbindingslijn 6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8E9B-AE8D-43B7-A245-1C5286BF99D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Rechte verbindingslijn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Rechte verbindingslijn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Rechte verbindingslijn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Rechte verbindingslijn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Rechte verbindingslijn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95A25-74A0-4F6B-9EE9-AAACFBA543BD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Rechte verbindingslijn 6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Rechte verbindingslijn 6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BD5E-827C-4F78-B6BE-4668FC0A07D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Rechte verbindingslijn 10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Rechte verbindingslijn 10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48BE-9373-4D3C-99C5-BBE181BF5FE8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4309-48A7-441E-845B-D237C1C265E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Rechte verbindingslijn 7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Rechte verbindingslijn 7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68FB1-50C3-41DF-B710-C67EEC48AC5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D81F9-4254-4004-8D85-46798FF11833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B299-EACC-40C3-AECC-559446FE1316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kstvak 3"/>
          <p:cNvSpPr/>
          <p:nvPr/>
        </p:nvSpPr>
        <p:spPr>
          <a:xfrm>
            <a:off x="2857680" y="428760"/>
            <a:ext cx="328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Praktijkles voeren en verzor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kstvak 5"/>
          <p:cNvSpPr/>
          <p:nvPr/>
        </p:nvSpPr>
        <p:spPr>
          <a:xfrm>
            <a:off x="428760" y="1214280"/>
            <a:ext cx="850104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Hoo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ruwe celstof. Dit is goed voor de maag- en darmwerking va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planten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evat veel vit.D omdat het door de zon bestraald is (UV-straling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oet kruidig ruiken en mag niet stoffig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bruik hooi alleen als voer en niet als bodembedekking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iet morsen en verkwisten want hooi is duu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3" name="Picture 2" descr="http://www.roosdiervoeders.nl/images/hooi/hooi%20persen%20006.jpg"/>
          <p:cNvPicPr/>
          <p:nvPr/>
        </p:nvPicPr>
        <p:blipFill>
          <a:blip r:embed="rId1"/>
          <a:stretch/>
        </p:blipFill>
        <p:spPr>
          <a:xfrm>
            <a:off x="4000680" y="3643200"/>
            <a:ext cx="456552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kstvak 1"/>
          <p:cNvSpPr/>
          <p:nvPr/>
        </p:nvSpPr>
        <p:spPr>
          <a:xfrm>
            <a:off x="357120" y="214200"/>
            <a:ext cx="8501040" cy="110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Beperkt of onbeperkt voer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ommige dieren krijgen onbeperkt vo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ghen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legmeel of legkorr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chapen, geiten en koei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onbeperkt ruwvo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Onbeperkt voeren noemt men ook wel  “</a:t>
            </a:r>
            <a:r>
              <a:rPr b="0" i="1" lang="en-US" sz="1800" spc="-1" strike="noStrike">
                <a:solidFill>
                  <a:srgbClr val="000000"/>
                </a:solidFill>
                <a:latin typeface="Franklin Gothic Book"/>
              </a:rPr>
              <a:t> Ad Libitum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 meeste dieren krijgen beperkt vo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konijnen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40 g korrels per kg lichaamsgew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issen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net zoveel als de vissen in één minuut ope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uizen/hamsters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één eetlepel per dier per d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2" descr="http://lh6.ggpht.com/_2kmXKOsEHgY/R2Q7CKqdL_I/AAAAAAAABV4/ayk7U32XxkQ/PB240008.JPG"/>
          <p:cNvPicPr/>
          <p:nvPr/>
        </p:nvPicPr>
        <p:blipFill>
          <a:blip r:embed="rId1"/>
          <a:stretch/>
        </p:blipFill>
        <p:spPr>
          <a:xfrm>
            <a:off x="714240" y="4786200"/>
            <a:ext cx="2773440" cy="185112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4" descr="http://www.petermaas.nl/gerbils/images/amon-food.jpg"/>
          <p:cNvPicPr/>
          <p:nvPr/>
        </p:nvPicPr>
        <p:blipFill>
          <a:blip r:embed="rId2"/>
          <a:stretch/>
        </p:blipFill>
        <p:spPr>
          <a:xfrm>
            <a:off x="5143680" y="4699080"/>
            <a:ext cx="2500200" cy="19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kstvak 1"/>
          <p:cNvSpPr/>
          <p:nvPr/>
        </p:nvSpPr>
        <p:spPr>
          <a:xfrm>
            <a:off x="285840" y="214200"/>
            <a:ext cx="8715240" cy="10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Book"/>
              </a:rPr>
              <a:t>Vitamin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n zijn belangrijk voor de gezondheid en de weerstand van de dieren. Bij gebrek aan vitaminen ontstaan ziekte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komt voor in groenvoer zoals gras,mais, bieten en wortelen. Het is tevens een natuurlijke kleurstof;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carote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gebrek ontstaan nachtblindheid en ontstekingen aan de 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Vitamine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Dit is belangrijk voor het uitharden van de bott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Bij onvoldoende Vit. D ontstaat </a:t>
            </a:r>
            <a:r>
              <a:rPr b="0" i="1" lang="en-US" sz="2000" spc="-1" strike="noStrike">
                <a:solidFill>
                  <a:srgbClr val="000000"/>
                </a:solidFill>
                <a:latin typeface="Franklin Gothic Book"/>
              </a:rPr>
              <a:t>Rachitis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 (zachte en kromme bot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4" descr="Rachitischer Wellensittich"/>
          <p:cNvPicPr/>
          <p:nvPr/>
        </p:nvPicPr>
        <p:blipFill>
          <a:blip r:embed="rId1"/>
          <a:stretch/>
        </p:blipFill>
        <p:spPr>
          <a:xfrm>
            <a:off x="3500280" y="4500720"/>
            <a:ext cx="2190960" cy="211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kstvak 2"/>
          <p:cNvSpPr/>
          <p:nvPr/>
        </p:nvSpPr>
        <p:spPr>
          <a:xfrm>
            <a:off x="285840" y="285840"/>
            <a:ext cx="8572320" cy="10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Minera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ineralen zijn belangrijk voor allerlei processen in het lichaa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Magnesium (Mg)  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elangrijk voor zenuwstels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jzer (Fe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bindt zuurstof in het blo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Calcium en fosfor (Ca en P)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opbouw van bot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Selen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ruchtbaar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Jod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schildkl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Natrium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or de vochthuishouding in het licha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In krachtvoerkorrels zijn meestal voldoende mineralen meegeper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ls je geen of weinig krachtvoer voert, zorg dan voor een liksteen of een like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Let op of de dieren niet aan bijv. muren of hekken likken of bij elkaar urine drink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0" name="Picture 4" descr="http://www.bndestem.nl/multimedia/archive/00761/BS_4512361_4512361-_761260b.jpg"/>
          <p:cNvPicPr/>
          <p:nvPr/>
        </p:nvPicPr>
        <p:blipFill>
          <a:blip r:embed="rId1"/>
          <a:stretch/>
        </p:blipFill>
        <p:spPr>
          <a:xfrm>
            <a:off x="5143680" y="4572000"/>
            <a:ext cx="2671560" cy="2095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http://img.2dehands.be/f/normal/51674149_2-voederblok-rumevite-likemmer-ruminlix-schaap.jpg"/>
          <p:cNvPicPr/>
          <p:nvPr/>
        </p:nvPicPr>
        <p:blipFill>
          <a:blip r:embed="rId2"/>
          <a:stretch/>
        </p:blipFill>
        <p:spPr>
          <a:xfrm>
            <a:off x="1000080" y="4572000"/>
            <a:ext cx="2857680" cy="21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kstvak 1"/>
          <p:cNvSpPr/>
          <p:nvPr/>
        </p:nvSpPr>
        <p:spPr>
          <a:xfrm>
            <a:off x="285840" y="285840"/>
            <a:ext cx="8715240" cy="9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En verder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Zorg voor smakelijk voer van goede kwalitei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Geen verrotte of beschimmelde producten vo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Breng eens wat variatie aan in het rantso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Het voer goed verdelen zodat elk dier voldoende tijd en ruimte hee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economisch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voer dat droog en schoon is hergebru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oerbakken maximaal  halfvol anders morsen de dier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Vergeet het drinkwater niet te controleren en bij te vul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Werk volgens het voersch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icture 2" descr="http://www.dierenarts-asse.be/DIERENARTS_ASSE/_images/cavia11.jpg"/>
          <p:cNvPicPr/>
          <p:nvPr/>
        </p:nvPicPr>
        <p:blipFill>
          <a:blip r:embed="rId1"/>
          <a:stretch/>
        </p:blipFill>
        <p:spPr>
          <a:xfrm>
            <a:off x="5286240" y="3214800"/>
            <a:ext cx="3033720" cy="336708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4" descr="http://www.keukens-info.be/images/weegschaal-3.jpg"/>
          <p:cNvPicPr/>
          <p:nvPr/>
        </p:nvPicPr>
        <p:blipFill>
          <a:blip r:embed="rId2"/>
          <a:stretch/>
        </p:blipFill>
        <p:spPr>
          <a:xfrm>
            <a:off x="1571760" y="3571920"/>
            <a:ext cx="238104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0" y="120600"/>
          <a:ext cx="8858160" cy="7175520"/>
        </p:xfrm>
        <a:graphic>
          <a:graphicData uri="http://schemas.openxmlformats.org/drawingml/2006/table">
            <a:tbl>
              <a:tblPr/>
              <a:tblGrid>
                <a:gridCol w="1771560"/>
                <a:gridCol w="1771920"/>
                <a:gridCol w="1771560"/>
                <a:gridCol w="1771560"/>
                <a:gridCol w="1771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Di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Voerso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Hoeveelhe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xtra’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Opmerk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nijnenkorr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g per kilo lichaamsgewic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hand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avia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40 g per cav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schuilplek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nk om voldoende vitamine C !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leine kna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mengd knaagdier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/2 eetlepel per volwassen di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(tennis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 (plakj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ltijd de dieren controlere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ipp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egme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 handjes gemengd graan in de r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romsnave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f parkietenza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ad en drinkwater niet onder de zitstokken !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ogels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zaad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Sierduivenvoer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½ eetlepel per vog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i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sgier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fru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tropis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bakjes sier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ropisch sierviss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eveelheid voor één minuu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illetjes vo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bodem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Controleer op dode/zieke viss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eitenkorrel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200g per ge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nbeper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gro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¼ emm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Korrels goed verdel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Pon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Hoo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3 x daags (basketba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grote winterp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uivenvo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1 handje per du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22:20:02Z</dcterms:created>
  <dc:creator>wouter keppel</dc:creator>
  <dc:description/>
  <dc:language>en-US</dc:language>
  <cp:lastModifiedBy>WKE</cp:lastModifiedBy>
  <dcterms:modified xsi:type="dcterms:W3CDTF">2010-02-03T09:47:12Z</dcterms:modified>
  <cp:revision>14</cp:revision>
  <dc:subject/>
  <dc:title>Dia 1</dc:title>
</cp:coreProperties>
</file>