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76EE-1193-479E-892D-DD7F4992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C33E-9CA8-4F3E-91CD-BB5AFB61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92268-D32B-4F89-A252-7975CCF2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F2BC0-B873-46D1-BC15-21390044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87280-DFDC-4DDE-BE47-E1241FE6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F99C5-B3EE-434A-BB80-DEC61576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9840D-0DDA-4878-8100-F3DE4D94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FE873-5DEE-4B74-95AF-2C81D8D8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3F582-E9BF-4680-A5F4-F4E8EBE6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4723DB-6F8B-4A6E-9DAC-C5A46B2B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9BEEC-DD7C-438B-B891-91B21F10F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7D34-B5C4-483B-995D-3E437F603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220E-DDBF-4F69-B78C-825AA72E9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E9EB-59A8-454C-8D58-118958D18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288C-F83E-4205-80B9-A3270909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9A66-1F71-4F1F-835A-882A284A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D9B6-838A-46D6-9F29-C010DCA9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AB25-1CAA-4535-929F-9776250C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DC36-6EF9-4C5B-B540-B30593EC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D252-2E62-45F8-8732-8222D9E2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D920-1F3D-4AF8-857D-C9205A7D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D1D1-9984-4F14-B91A-20B3B780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2420-8C97-42E7-91F0-2679F4A8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528E-CCF9-434D-A8DA-3360EDBA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BD2B-CBD9-4FE4-8482-1D55ACB2B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3B6A-C559-4F9F-986B-209421383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F0AD4-9465-4470-AD1A-041851EAC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693F6-41CB-4920-B93F-6C14BDF7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56594-43E6-4ACA-9900-F7D42EF3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41F0A-4FA8-43D3-85D5-191D125A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E3DDE-17A9-4E04-9A21-057CD9DA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8952-E766-4671-A41D-BCE5B4D6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CE4EA-431F-4342-90E3-6A8C9B79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CE041-99A2-4633-B1EE-9D25EEC6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18B0F-CAA4-4D7B-8096-0FBEAEB3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4A4AD-EE32-4EA3-9F1D-C76ED70D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E65C5-765E-41C1-9B7D-8DE6814F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D1F58-0A7F-4672-9530-F71D46EDD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A62F9-AE58-406C-91D9-37118CBEC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27B5D-3ADF-4696-B996-2A27501E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C5D52-8008-49AB-9605-7977A153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C2438-38EC-4610-B5C5-077E5261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74EA-C591-4056-81DE-77688424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57CFB-0794-42C8-A048-23FCED0B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5F9C3-A743-44C1-B41F-ADB0A8E2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1A8FC-7AA0-498D-8752-550B3D05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246C2-C4CC-4E4A-BC07-A354B609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AD9B1-5DEA-4964-95AE-411DE3F0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9BAC6-7435-49D1-A9AE-CE182A39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3AD10-C891-4698-833D-29CCB6A7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0E3A8-6CB8-4828-9C3D-33160EF78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3F2AC-AF9B-49B6-B47F-ECDAF758B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D8F23-CA91-4CDE-8F01-92334938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596A-06A7-491A-9692-145BC0D2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205BD-10A3-4F29-869B-E8956418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281E0-F7C2-4EDA-A9C7-B523CF8A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1A0D2-946F-4BBA-B1C9-0406C9D6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D6DA7-DC8E-4133-80B9-9C809F10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DA7BB-755B-470D-A010-5E90854B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1CCE4-441F-4154-92BC-31A7159F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066DF-CBDF-439E-A48F-7C816BE4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22602-8ADE-41F2-8FD5-1D730D24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D483C-1077-4AB0-9498-A468903D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597A2-0C05-42D2-A66F-E37039D6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D505-D961-4CA7-8276-9CA0A065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13EF3-5926-4510-B49D-14E86F217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97E66-FD5E-47F9-B2C3-6C5A89A22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57EC0-967B-4B9A-94A1-819E1CD7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F2E27-3346-4343-98CD-31FB0262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DBB10-C3C1-435D-A43D-DC140455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A04F2-3761-4CC8-8398-79F643A6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85487-156C-4820-9607-90B11F3C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59A19-91CF-41B6-8AD7-A4ED5B53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BBC05-4944-43BB-B3F8-665FFFE9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2F437-36C1-496A-9998-69FC6F42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C9B8-1164-4B14-A0C8-A10E2AB7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5E2A5-9ECB-42F0-9AB0-56D489FF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CCD10-C2A6-4FA0-AEA7-6CDEAC54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A6102-D006-4836-A32C-922F3C3B7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BBC90-20B7-4A3E-8CA1-FEEA57C71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C4F7B-2427-4322-BEED-CEF60AC2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2F0A5-BB3F-458E-A5D7-0E7BE8C4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54E52-0E6B-4EBE-82EB-6948C943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A00B9-D6A5-47AB-AED2-43335516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374FD-4BFE-48C5-8711-552F75E8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48D75-FD82-47D7-80BF-E37670E2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09D6-A7E8-4D69-9C00-C1635404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D7A22-9A81-42E9-A81C-A121113D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B9D2D-9556-49CA-A2AC-9066A174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61849-D777-4387-BFE0-A0EEE379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4F34A-BD5A-438A-8E72-080330609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4DE0D-9197-447A-A433-5F990067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A190F-C824-46D0-9913-AC90DAB3B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9C8C8-4B8F-4E48-917E-B1FF5E01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608E7-D066-45E7-9FB8-D40C3900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DF3F1-2D8E-4DCE-9BAA-761CBF4F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A7DB5-E726-4647-84A2-0D77FF77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BCE4-7C96-491D-8DCA-D655070C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387B2-BC05-4227-8575-1D1E9D10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954FF-38C1-485D-B96B-12435AC6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8835C-8BA4-40F5-BFB8-D1AA7659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8F950-86E1-405C-9706-585809A8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D9CD4-BD2C-4200-90E7-B62BA4C2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43815-DA37-4F60-A9CB-48D5E310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8A22A-59EF-4599-9AD8-1F3866AB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2F53D-10C0-41A0-94B5-EB1164911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DBAD4-168A-4FF2-8B2E-AAB363EF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385D4-1BC9-4482-B847-F7FDA74A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hte verbindingslijn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Rechte verbindingslijn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D40F-4430-4B19-9B38-311384C317D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Rechte verbindingslijn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Rechte verbindingslijn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Rechte verbindingslijn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Rechte verbindingslijn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hte verbindingslijn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Rechte verbindingslijn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9DB3-B34C-40AD-9F31-3CC2BEA9A3E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Rechte verbindingslijn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Rechte verbindingslijn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Rechte verbindingslijn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Rechte verbindingslijn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Rechte verbindingslijn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Rechte verbindingslijn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3201-9181-4F2A-9DCE-82AFEE27A79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Rechte verbindingslijn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Rechte verbindingslijn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A7AC-19A2-4558-9CA1-E8BA9815368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Rechte verbindingslijn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Rechte verbindingslijn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B5BF-854A-4898-A599-4D691FEBF21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15AD-4446-4763-8D2A-A12FF97EFCE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Rechte verbindingslijn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Rechte verbindingslijn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9B54-A060-428E-92F6-EACA61835B7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5C4A-10E9-479F-AA7F-77C1D16749E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53B5-CE6E-4485-81C3-72056557F83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kstvak 3"/>
          <p:cNvSpPr/>
          <p:nvPr/>
        </p:nvSpPr>
        <p:spPr>
          <a:xfrm>
            <a:off x="2857680" y="42876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Praktijkles voeren en verzor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kstvak 5"/>
          <p:cNvSpPr/>
          <p:nvPr/>
        </p:nvSpPr>
        <p:spPr>
          <a:xfrm>
            <a:off x="428760" y="1214280"/>
            <a:ext cx="850104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Ho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Bevat veel ruwe celstof. Dit is goed voor de maag- en darmwerking van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planten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Bevat veel vit.D omdat het door de zon bestraald is (UV-stralin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Moet kruidig ruiken en mag niet stoffig zij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Gebruik hooi alleen als voer en niet als bodembedekking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Niet morsen en verkwisten want hooi is du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http://www.roosdiervoeders.nl/images/hooi/hooi%20persen%20006.jpg"/>
          <p:cNvPicPr/>
          <p:nvPr/>
        </p:nvPicPr>
        <p:blipFill>
          <a:blip r:embed="rId1"/>
          <a:stretch/>
        </p:blipFill>
        <p:spPr>
          <a:xfrm>
            <a:off x="4000680" y="3643200"/>
            <a:ext cx="45655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kstvak 1"/>
          <p:cNvSpPr/>
          <p:nvPr/>
        </p:nvSpPr>
        <p:spPr>
          <a:xfrm>
            <a:off x="357120" y="214200"/>
            <a:ext cx="8501040" cy="110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Beperkt of onbeperkt voe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ommige dieren krijgen onbeperkt vo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Leghennen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onbeperkt legmeel of legkorr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chapen, geiten en koeien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onbeperkt ruwvo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Onbeperkt voeren noemt men ook wel  “</a:t>
            </a:r>
            <a:r>
              <a:rPr b="0" i="1" lang="en-US" sz="1800" spc="-1" strike="noStrike">
                <a:solidFill>
                  <a:srgbClr val="000000"/>
                </a:solidFill>
                <a:latin typeface="Franklin Gothic Book"/>
              </a:rPr>
              <a:t> Ad Libitu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De meeste dieren krijgen beperkt vo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konijnen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40 g korrels per kg lichaamsgew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vissen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net zoveel als de vissen in één minuut ope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muizen/hamsters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één eetlepel per dier per d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" descr="http://lh6.ggpht.com/_2kmXKOsEHgY/R2Q7CKqdL_I/AAAAAAAABV4/ayk7U32XxkQ/PB240008.JPG"/>
          <p:cNvPicPr/>
          <p:nvPr/>
        </p:nvPicPr>
        <p:blipFill>
          <a:blip r:embed="rId1"/>
          <a:stretch/>
        </p:blipFill>
        <p:spPr>
          <a:xfrm>
            <a:off x="714240" y="4786200"/>
            <a:ext cx="2773440" cy="18511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http://www.petermaas.nl/gerbils/images/amon-food.jpg"/>
          <p:cNvPicPr/>
          <p:nvPr/>
        </p:nvPicPr>
        <p:blipFill>
          <a:blip r:embed="rId2"/>
          <a:stretch/>
        </p:blipFill>
        <p:spPr>
          <a:xfrm>
            <a:off x="5143680" y="4699080"/>
            <a:ext cx="2500200" cy="19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kstvak 1"/>
          <p:cNvSpPr/>
          <p:nvPr/>
        </p:nvSpPr>
        <p:spPr>
          <a:xfrm>
            <a:off x="285840" y="214200"/>
            <a:ext cx="8715240" cy="100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Vitami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Vitaminen zijn belangrijk voor de gezondheid en de weerstand van de dieren. Bij gebrek aan vitaminen ontstaan ziek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Vitamine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Dit komt voor in groenvoer zoals gras,mais, bieten en wortelen. Het is tevens een natuurlijke kleurstof; </a:t>
            </a: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carot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Bij gebrek ontstaan nachtblindheid en ontstekingen aan de o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Vitamine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Dit is belangrijk voor het uitharden van de bot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Bij onvoldoende Vit. D ontstaat </a:t>
            </a: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Rachitis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 (zachte en kromme bot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" descr="Rachitischer Wellensittich"/>
          <p:cNvPicPr/>
          <p:nvPr/>
        </p:nvPicPr>
        <p:blipFill>
          <a:blip r:embed="rId1"/>
          <a:stretch/>
        </p:blipFill>
        <p:spPr>
          <a:xfrm>
            <a:off x="3500280" y="4500720"/>
            <a:ext cx="219096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kstvak 2"/>
          <p:cNvSpPr/>
          <p:nvPr/>
        </p:nvSpPr>
        <p:spPr>
          <a:xfrm>
            <a:off x="285840" y="285840"/>
            <a:ext cx="8572320" cy="105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Mine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Mineralen zijn belangrijk voor allerlei processen in het licha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Magnesium (Mg)  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belangrijk voor zenuwstel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Ijzer (Fe)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bindt zuurstof in het blo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alcium en fosfor (Ca en P)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voor de opbouw van bo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elenium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voor de vruchtbaar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Jodium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voor de schildk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Natrium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voor de vochthuishouding in het licha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In krachtvoerkorrels zijn meestal voldoende mineralen meegeper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ls je geen of weinig krachtvoer voert, zorg dan voor een liksteen of een likem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Let op of de dieren niet aan bijv. muren of hekken likken of bij elkaar urine drinken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4" descr="http://www.bndestem.nl/multimedia/archive/00761/BS_4512361_4512361-_761260b.jpg"/>
          <p:cNvPicPr/>
          <p:nvPr/>
        </p:nvPicPr>
        <p:blipFill>
          <a:blip r:embed="rId1"/>
          <a:stretch/>
        </p:blipFill>
        <p:spPr>
          <a:xfrm>
            <a:off x="5143680" y="4572000"/>
            <a:ext cx="2671560" cy="20955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http://img.2dehands.be/f/normal/51674149_2-voederblok-rumevite-likemmer-ruminlix-schaap.jpg"/>
          <p:cNvPicPr/>
          <p:nvPr/>
        </p:nvPicPr>
        <p:blipFill>
          <a:blip r:embed="rId2"/>
          <a:stretch/>
        </p:blipFill>
        <p:spPr>
          <a:xfrm>
            <a:off x="1000080" y="4572000"/>
            <a:ext cx="285768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kstvak 1"/>
          <p:cNvSpPr/>
          <p:nvPr/>
        </p:nvSpPr>
        <p:spPr>
          <a:xfrm>
            <a:off x="285840" y="285840"/>
            <a:ext cx="8715240" cy="9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En verder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Zorg voor smakelijk voer van goede kwalite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Geen verrotte of beschimmelde producten voe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Breng eens wat variatie aan in het rantso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Het voer goed verdelen zodat elk dier voldoende tijd en ruimte hee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Werk economisch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voer dat droog en schoon is hergebrui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voerbakken maximaal  halfvol anders morsen de dier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Vergeet het drinkwater niet te controleren en bij te vu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Werk volgens het voer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" descr="http://www.dierenarts-asse.be/DIERENARTS_ASSE/_images/cavia11.jpg"/>
          <p:cNvPicPr/>
          <p:nvPr/>
        </p:nvPicPr>
        <p:blipFill>
          <a:blip r:embed="rId1"/>
          <a:stretch/>
        </p:blipFill>
        <p:spPr>
          <a:xfrm>
            <a:off x="5286240" y="3214800"/>
            <a:ext cx="3033720" cy="33670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http://www.keukens-info.be/images/weegschaal-3.jpg"/>
          <p:cNvPicPr/>
          <p:nvPr/>
        </p:nvPicPr>
        <p:blipFill>
          <a:blip r:embed="rId2"/>
          <a:stretch/>
        </p:blipFill>
        <p:spPr>
          <a:xfrm>
            <a:off x="1571760" y="3571920"/>
            <a:ext cx="23810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0" y="120600"/>
          <a:ext cx="8858160" cy="7175520"/>
        </p:xfrm>
        <a:graphic>
          <a:graphicData uri="http://schemas.openxmlformats.org/drawingml/2006/table">
            <a:tbl>
              <a:tblPr/>
              <a:tblGrid>
                <a:gridCol w="1771560"/>
                <a:gridCol w="1771920"/>
                <a:gridCol w="1771560"/>
                <a:gridCol w="1771560"/>
                <a:gridCol w="1771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Dierso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Voerso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Hoeveelh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Extra’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Opmer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onijn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onijnenkorr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0g per kilo lichaamsgewic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oi (tennisb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oenvoer (handj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avia’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emengd knaagdier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0 g per cav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oi (schuilple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o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enk om voldoende vitamine C !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leine kna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emengd knaagdier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 /2 eetlepel per volwassen d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oi (tennisb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oenvoer (plakj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ltijd de dieren controlere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ip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Legme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nbeperk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 handjes gemengd graan in de r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romsnave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of parkietenza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½ eetlepel per vog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sgie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ru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i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ad en drinkwater niet onder de zitstokken 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pische vogel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ierduiven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pisch zaad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ierduivenvoer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½ eetlepel per vog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andje per du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i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sgie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ru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 bakjes tropis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 bakjes sierdu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pische vis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pisch sierviss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eveelheid voor één minu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illetjes vo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odemvis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ontroleer op dode/zieke vis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eit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eitenkorrel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oi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0g per ge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nbeperk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o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¼ emm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orrels goed verde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o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o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 x daags (basketb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 grote winterp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uiv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uiv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 handje per du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22:20:02Z</dcterms:created>
  <dc:creator>wouter keppel</dc:creator>
  <dc:description/>
  <dc:language>en-US</dc:language>
  <cp:lastModifiedBy>WKE</cp:lastModifiedBy>
  <dcterms:modified xsi:type="dcterms:W3CDTF">2010-02-03T09:47:12Z</dcterms:modified>
  <cp:revision>14</cp:revision>
  <dc:subject/>
  <dc:title>Dia 1</dc:title>
</cp:coreProperties>
</file>