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DF76-B688-4097-9D9E-54170936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D878-46BD-47EB-AE5B-D30FD1DB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8D70A-B22B-4AE6-AC56-A5AE03A8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D06D8-1C39-483A-8151-4902368D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6F476-1367-4E90-A7F4-C4CACBB4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5768B-2A98-4821-BC75-B7D1B233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4640A-5B74-4FBB-A022-D9A1F4AF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47499-9B82-4781-A450-C9E47AD1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1F81B-60D8-4C99-BD43-1B006F22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D216A-531B-4B94-87E8-C17529A0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8AD56-F50F-4C57-B77B-E0123814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5A87-7976-465F-A897-FD96C021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280-2E1C-4704-8DEF-38E05832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A960-2F67-491B-A4ED-79DA8BEB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A466-9F80-4569-A341-BED62792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1B3C-1A8B-4841-BBF7-79F3085D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5BC8-E8E7-4AAA-87BB-F31BD296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EE39-575D-4D2F-AB6C-939E5F74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251D-11CE-4E12-B670-96B53F7B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B708-6BCE-4222-A2E5-0CAFFFEC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4AFD-9677-4184-9A75-1652F00D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5FA0-6AD0-4032-BB6A-FCC5E065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6D85-C557-47FD-91A4-E9B21DCF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41FD-7CD1-4F1A-9AB4-BFBABB69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248B-0E7F-4FF9-A1D5-1EEFA352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413C-195E-4A79-A12A-6A2BB38E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11265-D3ED-4336-8245-8B03FE8B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A6F2A-14DE-4FAF-BBB8-87A6473A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199E8-9775-4AE6-8A33-B05B248A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35E7A-8276-4D37-AF65-DAB45E7D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5068F-3F03-4311-9F73-35DEA7D4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B416-82C7-4F62-BBBD-5279DAC2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3E480-8DCB-401C-A848-F399D82A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05B4A-DCCD-4C02-839C-90415257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541C6-4125-44A2-820D-DCB85A3A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FEE35-BCFD-4A03-9EF4-856D5F82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ACFAA-D5F5-4F69-89DE-382542F1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B8F7E-0F58-49AF-AB1B-305A721D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5F064-A26B-4F25-8FDC-2F36158A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57168-7D26-491A-993D-1BFA8105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91911-7929-434B-8AAC-4ABDF7EC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72168-A636-4387-BC83-023CCE36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AA00-68F5-4A6F-BE70-9F8B84F6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DA5EE-A97A-432F-AAE4-D4690681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39AFC-B936-4EC1-B584-D0EAC221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8B828-A2E2-4E6C-BAE5-56D9DC01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11585-F2DD-497B-880C-C7FA23D9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7DEC0-3F93-4B6B-8C04-51E9DEB9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E4AA5-B99B-4916-8A00-2200028B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73827-6101-4055-BED6-C8F4F56E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1BCC5-0B42-49A0-93CD-71EABD73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BAADE-1004-47F8-8AA0-B647B9D2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EDF27-94D1-4882-90A4-B746DD4D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3986-E6A1-4D7C-AF00-162C7642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BB45D-644A-4A59-86B5-2FCD8467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F3A74-727C-4087-BB3F-91FA374A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0CA68-B307-4C08-BAEF-577F142F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97175-6DFB-4114-9E4C-DF074392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BB432-1229-4361-8C75-E86CFBE3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D7379-7A54-45A6-8882-00429EFB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5BF2E-D432-4DFB-98D7-A8FDC97C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DED9D-148B-4E09-9EF9-C217AB8F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A318F-9FFE-4F8C-AAC3-10E888D7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1BD32-D5F4-43A3-9C91-4A179C6A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1645-76B5-4438-BCA5-C80153E9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B4365-5893-4C02-9412-E036D84E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6117B-E587-469D-A3B7-9CB782FD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2F8B6-ABEB-4BAA-BE20-D4EB4C61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156A9-5D0F-4617-9534-C1CF0EDA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1981C-A33F-4BB0-828B-85064157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32252-D5D3-4503-87B5-B9230B78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346BB-62A3-4DCF-AFFA-560619E6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343D1-D347-49D7-BC24-03F9C6EB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F89A9-4A6B-4FFB-B3DE-100CA8ED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5D1AD-38EE-4788-B034-0053C023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DE44-6828-45E9-B7B1-D86414B2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8DCFD-02CA-444B-B470-4D6F3CD7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E63B0-5E56-44D4-ADFE-80C97BF2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22509-BDC2-408B-B56A-28C5D9EC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D00ED-E1ED-4701-91CC-B5A2C3FC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3F65E-CB72-463B-8C93-0FC1A4ED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CC76F-1A16-4883-BAA5-0853151C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40BAB-976D-42E7-99C7-34D61A43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6A97B-BBD7-486D-BB08-549AE6AD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2C1F9-5BF0-4B87-9599-7818EB62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23D9F-BF9B-4247-9DD0-3DC8C610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8A5C-AFC6-43FD-800A-1021E9CC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D45F1-8B1A-4778-8DEC-F018DAE8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5E0CE-CB53-4A8A-80D5-51862C17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E4B50-B4DA-425F-81AC-840C2CC5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1BEE1-A6AF-4957-BE63-2EF5C768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FDFA9-9E66-42AB-81D3-AC5AB6B6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BCA71-AA8B-4651-B061-82618852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3946C-09D6-4425-8017-286DA182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FE930-7233-4E55-9B0C-1CDC26EE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BE168-583A-40BD-9B1D-08973071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D34CC-13B0-46BE-B612-1564100A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9EF1-EA8C-4DDE-8F7A-245A2E22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21B5E-F7C8-4D64-A819-892B5A39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B4585-2AE2-4863-9AC5-B7745ACB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97268-2206-4AE4-8B8A-0E7F0A0B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365D6-CD40-4A59-AD38-326E07AF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4561D-054B-4CF8-B6C8-E54E19AD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0DAC7-C378-483B-A69D-6617B25B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1F3A0-C6DF-48D8-A965-A3F8B0BC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20DAF-FD6A-43EB-81EF-9B277936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18DD2-AB4D-4B21-B8DC-E2295276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ED57D-4E3A-440E-A474-03620ADB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e verbindingslijn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662D-B68C-4C71-87F1-7979AC6D35C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Rechte verbindingslijn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Rechte verbindingslijn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Rechte verbindingslijn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Rechte verbindingslijn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hte verbindingslijn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04C2-6E15-4340-AA2C-0C78A19B01A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Rechte verbindingslijn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Rechte verbindingslijn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Rechte verbindingslijn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Rechte verbindingslijn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Rechte verbindingslijn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C3D8-B3E5-432E-AE42-4B0FEE16C7E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Rechte verbindingslijn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6B2B-A88E-490D-A36A-42F5357D346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Rechte verbindingslijn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Rechte verbindingslijn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8122-39BC-42FB-B798-E6A9BABC09A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C872-1211-4421-9998-D60E46AE835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Rechte verbindingslijn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Rechte verbindingslijn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604C-5C46-421E-8F75-231574ECFB6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A19F-3B8F-4086-AC41-EEAAAEF1E09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C977-646C-456B-B5FA-B4AC7EA7DBC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kstvak 3"/>
          <p:cNvSpPr/>
          <p:nvPr/>
        </p:nvSpPr>
        <p:spPr>
          <a:xfrm>
            <a:off x="2857680" y="42876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Praktijkles voeren en verzor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kstvak 5"/>
          <p:cNvSpPr/>
          <p:nvPr/>
        </p:nvSpPr>
        <p:spPr>
          <a:xfrm>
            <a:off x="428760" y="1214280"/>
            <a:ext cx="850104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Ho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evat veel ruwe celstof. Dit is goed voor de maag- en darmwerking va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planten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evat veel vit.D omdat het door de zon bestraald is (UV-stral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oet kruidig ruiken en mag niet stoffig zij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Gebruik hooi alleen als voer en niet als bodembedekking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Niet morsen en verkwisten want hooi is du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http://www.roosdiervoeders.nl/images/hooi/hooi%20persen%20006.jpg"/>
          <p:cNvPicPr/>
          <p:nvPr/>
        </p:nvPicPr>
        <p:blipFill>
          <a:blip r:embed="rId1"/>
          <a:stretch/>
        </p:blipFill>
        <p:spPr>
          <a:xfrm>
            <a:off x="4000680" y="3643200"/>
            <a:ext cx="45655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kstvak 1"/>
          <p:cNvSpPr/>
          <p:nvPr/>
        </p:nvSpPr>
        <p:spPr>
          <a:xfrm>
            <a:off x="357120" y="214200"/>
            <a:ext cx="8501040" cy="110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Beperkt of onbeperkt vo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ommige dieren krijgen onbeperkt 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Leghenne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onbeperkt legmeel of legkor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chapen, geiten en koeie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onbeperkt ruwvo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Onbeperkt voeren noemt men ook wel  “</a:t>
            </a:r>
            <a:r>
              <a:rPr b="0" i="1" lang="en-US" sz="1800" spc="-1" strike="noStrike">
                <a:solidFill>
                  <a:srgbClr val="000000"/>
                </a:solidFill>
                <a:latin typeface="Franklin Gothic Book"/>
              </a:rPr>
              <a:t> Ad Libitu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e meeste dieren krijgen beperkt vo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konijne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40 g korrels per kg lichaamsgew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vissen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net zoveel als de vissen in één minuut op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uizen/hamsters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één eetlepel per dier per d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http://lh6.ggpht.com/_2kmXKOsEHgY/R2Q7CKqdL_I/AAAAAAAABV4/ayk7U32XxkQ/PB240008.JPG"/>
          <p:cNvPicPr/>
          <p:nvPr/>
        </p:nvPicPr>
        <p:blipFill>
          <a:blip r:embed="rId1"/>
          <a:stretch/>
        </p:blipFill>
        <p:spPr>
          <a:xfrm>
            <a:off x="714240" y="4786200"/>
            <a:ext cx="2773440" cy="1851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www.petermaas.nl/gerbils/images/amon-food.jpg"/>
          <p:cNvPicPr/>
          <p:nvPr/>
        </p:nvPicPr>
        <p:blipFill>
          <a:blip r:embed="rId2"/>
          <a:stretch/>
        </p:blipFill>
        <p:spPr>
          <a:xfrm>
            <a:off x="5143680" y="4699080"/>
            <a:ext cx="250020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kstvak 1"/>
          <p:cNvSpPr/>
          <p:nvPr/>
        </p:nvSpPr>
        <p:spPr>
          <a:xfrm>
            <a:off x="285840" y="214200"/>
            <a:ext cx="8715240" cy="10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Vita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Vitaminen zijn belangrijk voor de gezondheid en de weerstand van de dieren. Bij gebrek aan vitaminen ontstaan ziek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Vitamin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it komt voor in groenvoer zoals gras,mais, bieten en wortelen. Het is tevens een natuurlijke kleurstof; </a:t>
            </a: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carot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Bij gebrek ontstaan nachtblindheid en ontstekingen aan de o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Vitamine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it is belangrijk voor het uitharden van de bot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Bij onvoldoende Vit. D ontstaat </a:t>
            </a: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Rachitis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 (zachte en kromme bot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Rachitischer Wellensittich"/>
          <p:cNvPicPr/>
          <p:nvPr/>
        </p:nvPicPr>
        <p:blipFill>
          <a:blip r:embed="rId1"/>
          <a:stretch/>
        </p:blipFill>
        <p:spPr>
          <a:xfrm>
            <a:off x="3500280" y="4500720"/>
            <a:ext cx="219096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kstvak 2"/>
          <p:cNvSpPr/>
          <p:nvPr/>
        </p:nvSpPr>
        <p:spPr>
          <a:xfrm>
            <a:off x="285840" y="285840"/>
            <a:ext cx="8572320" cy="10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ineralen zijn belangrijk voor allerlei processen in het licha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agnesium (Mg)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belangrijk voor zenuw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jzer (Fe)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bindt zuurstof in het blo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alcium en fosfor (Ca en P)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opbouw van bo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eleniu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vruchtbaar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Jodiu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schildk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Natriu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vochthuishouding in het licha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n krachtvoerkorrels zijn meestal voldoende mineralen meegepe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ls je geen of weinig krachtvoer voert, zorg dan voor een liksteen of een likem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Let op of de dieren niet aan bijv. muren of hekken likken of bij elkaar urine drinken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" descr="http://www.bndestem.nl/multimedia/archive/00761/BS_4512361_4512361-_761260b.jpg"/>
          <p:cNvPicPr/>
          <p:nvPr/>
        </p:nvPicPr>
        <p:blipFill>
          <a:blip r:embed="rId1"/>
          <a:stretch/>
        </p:blipFill>
        <p:spPr>
          <a:xfrm>
            <a:off x="5143680" y="4572000"/>
            <a:ext cx="2671560" cy="2095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http://img.2dehands.be/f/normal/51674149_2-voederblok-rumevite-likemmer-ruminlix-schaap.jpg"/>
          <p:cNvPicPr/>
          <p:nvPr/>
        </p:nvPicPr>
        <p:blipFill>
          <a:blip r:embed="rId2"/>
          <a:stretch/>
        </p:blipFill>
        <p:spPr>
          <a:xfrm>
            <a:off x="1000080" y="4572000"/>
            <a:ext cx="285768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kstvak 1"/>
          <p:cNvSpPr/>
          <p:nvPr/>
        </p:nvSpPr>
        <p:spPr>
          <a:xfrm>
            <a:off x="285840" y="285840"/>
            <a:ext cx="8715240" cy="9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En verder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Zorg voor smakelijk voer van goede kwalite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Geen verrotte of beschimmelde producten vo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reng eens wat variatie aan in het rantso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Het voer goed verdelen zodat elk dier voldoende tijd en ruimte hee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Werk economisch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er dat droog en schoon is hergebru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voerbakken maximaal  halfvol anders morsen de dier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Vergeet het drinkwater niet te controleren en bij te vu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Werk volgens het voer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http://www.dierenarts-asse.be/DIERENARTS_ASSE/_images/cavia11.jpg"/>
          <p:cNvPicPr/>
          <p:nvPr/>
        </p:nvPicPr>
        <p:blipFill>
          <a:blip r:embed="rId1"/>
          <a:stretch/>
        </p:blipFill>
        <p:spPr>
          <a:xfrm>
            <a:off x="5286240" y="3214800"/>
            <a:ext cx="3033720" cy="3367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http://www.keukens-info.be/images/weegschaal-3.jpg"/>
          <p:cNvPicPr/>
          <p:nvPr/>
        </p:nvPicPr>
        <p:blipFill>
          <a:blip r:embed="rId2"/>
          <a:stretch/>
        </p:blipFill>
        <p:spPr>
          <a:xfrm>
            <a:off x="1571760" y="3571920"/>
            <a:ext cx="23810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0" y="120600"/>
          <a:ext cx="8858160" cy="7175520"/>
        </p:xfrm>
        <a:graphic>
          <a:graphicData uri="http://schemas.openxmlformats.org/drawingml/2006/table">
            <a:tbl>
              <a:tblPr/>
              <a:tblGrid>
                <a:gridCol w="1771560"/>
                <a:gridCol w="1771920"/>
                <a:gridCol w="1771560"/>
                <a:gridCol w="1771560"/>
                <a:gridCol w="1771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Dierso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Voerso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Hoeveelh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Extra’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Opmer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onij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onijnenkorr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0g per kilo lichaamsgewic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(tennisb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 (handj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via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mengd knaagdier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0 g per ca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(schuilple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enk om voldoende vitamine C !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leine kna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mengd knaagdier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/2 eetlepel per volwassen d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(tennisb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 (plakj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ltijd de dieren controlere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ip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egme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nbeper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 handjes gemengd graan in de 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romsnav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f parkietenza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½ eetlepel per vog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sgie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ru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i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ad en drinkwater niet onder de zitstokken 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e vogel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ierduiven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 zaad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ierduivenvoer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½ eetlepel per vog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andje per du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i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sgie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ru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bakjes tropis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bakjes sierdu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e vis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 sierviss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eveelheid voor één minu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illetjes vo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odemvis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ontroleer op dode/zieke vis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i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itenkorrel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0g per ge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nbeper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¼ em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orrels goed verde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o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x daags (basketb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grote winterp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uiv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uiv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handje per du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22:20:02Z</dcterms:created>
  <dc:creator>wouter keppel</dc:creator>
  <dc:description/>
  <dc:language>en-US</dc:language>
  <cp:lastModifiedBy>WKE</cp:lastModifiedBy>
  <dcterms:modified xsi:type="dcterms:W3CDTF">2010-02-03T09:47:12Z</dcterms:modified>
  <cp:revision>14</cp:revision>
  <dc:subject/>
  <dc:title>Dia 1</dc:title>
</cp:coreProperties>
</file>