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E48B-5430-4D1D-958E-2E4C5FFC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A336-E8DF-4872-8F76-A03BCB21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EC23-0DD0-4A00-9F7C-E2340099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7E41-E1FF-4D4E-B0C3-0A887055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09FF-F2D7-47C9-B64D-B980D810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70F1-DC54-4B55-94D5-8F32CB42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03A3-D9ED-497C-A5BB-C2F5960C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97E1-B1E7-422C-9686-82907F86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749B-26AB-47C6-9993-1B688972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E1BD-FE25-4202-A2F6-31CC4BDC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E403-B085-418A-B25C-D8ACBB92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FFC4-8BBA-4EE4-85EA-B85C9DDB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E163-035C-4918-8731-76D1FA38D06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 alle organismen met elkaar samenwerken in de were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act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http://www.schooltv.nl/eigenwijzer/project/2935352/bio-bits-bovenbouw-ecologie/2935357/hom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ermen 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ttp://www.youtube.com/watch?v=n9eCjkn75g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iotoop = meerdere biotopen, bijvoorbeeld de v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abitat = werkelijke plaats of ruimte waar een soort zich bevindt (‘het bewoont’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iche = plek waar een organisme voor kan komen, en de functie van een soort in een ecosysteem. Veldmuizen = voedselbron uil en planten- en zadenet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cosysteem = een gebied waarbinnen organismen verschillende relaties hebb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evensgemeenschap = alle organismen in een ecosyste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iosfeer = de aard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Alle organismen die een biotoop bewonen, vormen samen een levensgemeenschap die bestaat ui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Calibri"/>
              </a:rPr>
              <a:t>producenten,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 de voedselmakers. De groene planten die met behulp van licht, koolstof, water en mineralen stoffen opbouw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Calibri"/>
              </a:rPr>
              <a:t>consument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, de voedseleters. Met het onderscheid, dat planteneters direct, en vleeseters indirect van de planten lev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Calibri"/>
              </a:rPr>
              <a:t>reducent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, de opruimers. Schimmels en bacteriën, die de dode stoffen omzetten in mineralen die ter beschikking komen van de plant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otis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les wat leeft, een invloed van een ander levend organisme op de omgev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biot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Leeft niet, licht, temperatuur, water, dag en nacht, klimaatverand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chth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ederland: 16.699.112 inwoners, oppervlakte: 41.526 km2. Bevolkingsdichtheid= 401,4 km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prei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msterdam = druk, Twello = minder dru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aagkra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venwicht in druk op omgeving en mogelijkheid hierin te voorzien (een ecosysteem kan een zekere hoeveelheid organismen drag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voedselpiram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klas6b.classy.be/voedselpiramid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9:27:59Z</dcterms:created>
  <dc:creator>Saskia Wiegers</dc:creator>
  <dc:description/>
  <dc:language>en-US</dc:language>
  <cp:lastModifiedBy>Saskia Wiegers</cp:lastModifiedBy>
  <dcterms:modified xsi:type="dcterms:W3CDTF">2013-04-04T17:29:27Z</dcterms:modified>
  <cp:revision>13</cp:revision>
  <dc:subject/>
  <dc:title>PowerPoint-presentatie</dc:title>
</cp:coreProperties>
</file>