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C9C-34EB-4846-B69A-86770B2E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4CB-CD2B-4E5A-9BCC-168170CB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3B50-7E56-41F4-9DA1-E870AE07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9921-6293-46AE-921D-0A543F4A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50C3-0AD6-44D5-8B6E-74528AFF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62F3-D22D-46F4-BC14-3BA97BBD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FBF7-D452-4A30-89A2-68A49D3E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870-FCDD-4301-B97B-F9CCBB27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3D0D-A201-4A71-A314-C8A6CAA3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501F-52ED-4661-9EB1-4DA9FE7E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8612-06F7-4BC6-A5AE-1D8A7B04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8BF-316A-4368-94A7-F10A26DC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EC18-BBA9-4987-AB30-82C06A8BA8B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 alle organismen met elkaar samenwerken in de were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act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schooltv.nl/eigenwijzer/project/2935352/bio-bits-bovenbouw-ecologie/2935357/hom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ermen 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ttp://www.youtube.com/watch?v=n9eCjkn75g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otoop = meerdere biotopen, bijvoorbeeld de v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abitat = werkelijke plaats of ruimte waar een soort zich bevindt (‘het bewoont’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iche = plek waar een organisme voor kan komen, en de functie van een soort in een ecosysteem. Veldmuizen = voedselbron uil en planten- en zadenet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cosysteem = een gebied waarbinnen organismen verschillende relaties hebb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evensgemeenschap = alle organismen in een ecosyste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osfeer = de aar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lle organismen die een biotoop bewonen, vormen samen een levensgemeenschap die bestaat ui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producenten,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 de voedselmakers. De groene planten die met behulp van licht, koolstof, water en mineralen stoffen opbouw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consument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de voedseleters. Met het onderscheid, dat planteneters direct, en vleeseters indirect van de planten lev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reducent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de opruimers. Schimmels en bacteriën, die de dode stoffen omzetten in mineralen die ter beschikking komen van de plant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tis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les wat leeft, een invloed van een ander levend organisme op de omgev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biot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eeft niet, licht, temperatuur, water, dag en nacht, klimaatveran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cht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ederland: 16.699.112 inwoners, oppervlakte: 41.526 km2. Bevolkingsdichtheid= 401,4 km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pre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msterdam = druk, Twello = minder dru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aagkra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venwicht in druk op omgeving en mogelijkheid hierin te voorzien (een ecosysteem kan een zekere hoeveelheid organismen drag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voedselpiram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klas6b.classy.be/voedselpiramid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9:27:59Z</dcterms:created>
  <dc:creator>Saskia Wiegers</dc:creator>
  <dc:description/>
  <dc:language>en-US</dc:language>
  <cp:lastModifiedBy>Saskia Wiegers</cp:lastModifiedBy>
  <dcterms:modified xsi:type="dcterms:W3CDTF">2013-04-04T17:29:27Z</dcterms:modified>
  <cp:revision>13</cp:revision>
  <dc:subject/>
  <dc:title>PowerPoint-presentatie</dc:title>
</cp:coreProperties>
</file>