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E0E-ABC6-4336-8F3D-5AD330A2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03B-4950-4F3C-AE60-EBCEFE30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A2B-F30E-4A65-B432-A2F6B941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B9D-7740-41BD-86FA-E1A57B44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F90-A4F1-4ED8-96E7-D00C544A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968-A9A7-48A9-90FF-B7DE0043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EA4-BC3A-406E-9CFF-249423A6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7533-A472-4546-B72C-86A68B28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DA9-BB56-4BE3-B3C7-8E1A7276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237-82B3-4EB5-8DB2-51200F31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D77-CED3-40D6-B59C-425CCE26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1B1-C5F6-4127-8CAB-7F5370F7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79CA-13A6-4871-AF90-4A5B6F08DE1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alle organismen met elkaar samenwerken in de wer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schooltv.nl/eigenwijzer/project/2935352/bio-bits-bovenbouw-ecologie/2935357/hom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ermen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ttp://www.youtube.com/watch?v=n9eCjkn75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toop = meerdere biotopen, bijvoorbeeld de v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abitat = werkelijke plaats of ruimte waar een soort zich bevindt (‘het bewoont’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iche = plek waar een organisme voor kan komen, en de functie van een soort in een ecosysteem. Veldmuizen = voedselbron uil en planten- en zadenet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cosysteem = een gebied waarbinnen organismen verschillende relaties hebb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evensgemeenschap = alle organismen in een ecosyste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sfeer = de aar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lle organismen die een biotoop bewonen, vormen samen een levensgemeenschap die bestaat ui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producenten,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 de voedselmakers. De groene planten die met behulp van licht, koolstof, water en mineralen stoffen opbouw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consum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voedseleters. Met het onderscheid, dat planteneters direct, en vleeseters indirect van de planten lev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reduc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opruimers. Schimmels en bacteriën, die de dode stoffen omzetten in mineralen die ter beschikking komen van de plant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is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s wat leeft, een invloed van een ander levend organisme op de omgev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eft niet, licht, temperatuur, water, dag en nacht, klimaatvera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: 16.699.112 inwoners, oppervlakte: 41.526 km2. Bevolkingsdichtheid= 401,4 km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p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msterdam = druk, Twello = minder dr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agkra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venwicht in druk op omgeving en mogelijkheid hierin te voorzien (een ecosysteem kan een zekere hoeveelheid organismen 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voedselpiram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klas6b.classy.be/voedselpiramid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27:59Z</dcterms:created>
  <dc:creator>Saskia Wiegers</dc:creator>
  <dc:description/>
  <dc:language>en-US</dc:language>
  <cp:lastModifiedBy>Saskia Wiegers</cp:lastModifiedBy>
  <dcterms:modified xsi:type="dcterms:W3CDTF">2013-04-04T17:29:27Z</dcterms:modified>
  <cp:revision>13</cp:revision>
  <dc:subject/>
  <dc:title>PowerPoint-presentatie</dc:title>
</cp:coreProperties>
</file>