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4A1-0C34-4BDC-868A-BD81987A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692-CEA0-4C0C-8F1C-49F502A1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E0C-4761-49E1-9868-2767899F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3EA-315E-4161-9185-2DB77160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304-5EA6-4BDC-9ECA-26044B03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B9D-04CC-47F3-8DD1-1D0F0377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E28-B9BB-4503-B4F0-2D8AAE57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672-DDD5-4C47-AF62-6D4705AC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AB6-B242-41FA-ACE0-12DCBFD0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2FD-F197-4E97-B868-02635349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0C1-418A-43B4-A0A7-727D0C8F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E3A-8B83-46F1-9994-EBB64112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0EA0-A8B9-477E-B29D-5A67DA80A36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alle organismen met elkaar samenwerken in de wer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schooltv.nl/eigenwijzer/project/2935352/bio-bits-bovenbouw-ecologie/2935357/hom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ermen 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ttp://www.youtube.com/watch?v=n9eCjkn75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toop = meerdere biotopen, bijvoorbeeld de v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abitat = werkelijke plaats of ruimte waar een soort zich bevindt (‘het bewoont’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iche = plek waar een organisme voor kan komen, en de functie van een soort in een ecosysteem. Veldmuizen = voedselbron uil en planten- en zadenet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cosysteem = een gebied waarbinnen organismen verschillende relaties hebb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evensgemeenschap = alle organismen in een ecosyste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sfeer = de aar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lle organismen die een biotoop bewonen, vormen samen een levensgemeenschap die bestaat ui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producenten,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 de voedselmakers. De groene planten die met behulp van licht, koolstof, water en mineralen stoffen opbouw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consum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voedseleters. Met het onderscheid, dat planteneters direct, en vleeseters indirect van de planten lev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reduc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opruimers. Schimmels en bacteriën, die de dode stoffen omzetten in mineralen die ter beschikking komen van de plant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tis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s wat leeft, een invloed van een ander levend organisme op de omgev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biot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eft niet, licht, temperatuur, water, dag en nacht, klimaatvera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: 16.699.112 inwoners, oppervlakte: 41.526 km2. Bevolkingsdichtheid= 401,4 km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p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msterdam = druk, Twello = minder dr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agkra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venwicht in druk op omgeving en mogelijkheid hierin te voorzien (een ecosysteem kan een zekere hoeveelheid organismen 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voedselpiram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klas6b.classy.be/voedselpiramid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27:59Z</dcterms:created>
  <dc:creator>Saskia Wiegers</dc:creator>
  <dc:description/>
  <dc:language>en-US</dc:language>
  <cp:lastModifiedBy>Saskia Wiegers</cp:lastModifiedBy>
  <dcterms:modified xsi:type="dcterms:W3CDTF">2013-04-04T17:29:27Z</dcterms:modified>
  <cp:revision>13</cp:revision>
  <dc:subject/>
  <dc:title>PowerPoint-presentatie</dc:title>
</cp:coreProperties>
</file>