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A4B0-A34B-4CA3-8C32-AFA8E11E1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42DC-E927-44AF-9ACA-05259553E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4D29-2D81-4601-9A91-629D00521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A5F5-7482-44E8-BE24-54B209E3F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6DE9-E243-4467-B7BF-EA8439C72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78A5-B4A7-4E99-B736-115501101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C08D-5A14-4B58-AB4C-59563E5DC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9A1C-108C-47C9-93E3-013416AA4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49C5-129C-4D67-9BEA-6A080B26B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EA90-DEAE-42F5-8457-1FC94D01C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F19C-7FB2-474F-8210-ED2FC799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E337-4323-4011-9519-6F05C584D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16CAC-8971-4787-A6A4-AD14447907DC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Ecolog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Ecolog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oe alle organismen met elkaar samenwerken in de werel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teracti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http://www.schooltv.nl/eigenwijzer/project/2935352/bio-bits-bovenbouw-ecologie/2935357/home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Termen ecolog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http://www.youtube.com/watch?v=n9eCjkn75gU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Biotoop = meerdere biotopen, bijvoorbeeld de vo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Habitat = werkelijke plaats of ruimte waar een soort zich bevindt (‘het bewoont’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Niche = plek waar een organisme voor kan komen, en de functie van een soort in een ecosysteem. Veldmuizen = voedselbron uil en planten- en zadenete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Ecosysteem = een gebied waarbinnen organismen verschillende relaties hebbe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Levensgemeenschap = alle organismen in een ecosyste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Biosfeer = de aard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Alle organismen die een biotoop bewonen, vormen samen een levensgemeenschap die bestaat uit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700" spc="-1" strike="noStrike">
                <a:solidFill>
                  <a:srgbClr val="000000"/>
                </a:solidFill>
                <a:latin typeface="Calibri"/>
              </a:rPr>
              <a:t>producenten,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 de voedselmakers. De groene planten die met behulp van licht, koolstof, water en mineralen stoffen opbouwe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700" spc="-1" strike="noStrike">
                <a:solidFill>
                  <a:srgbClr val="000000"/>
                </a:solidFill>
                <a:latin typeface="Calibri"/>
              </a:rPr>
              <a:t>consumenten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, de voedseleters. Met het onderscheid, dat planteneters direct, en vleeseters indirect van de planten leve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700" spc="-1" strike="noStrike">
                <a:solidFill>
                  <a:srgbClr val="000000"/>
                </a:solidFill>
                <a:latin typeface="Calibri"/>
              </a:rPr>
              <a:t>reducenten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, de opruimers. Schimmels en bacteriën, die de dode stoffen omzetten in mineralen die ter beschikking komen van de plante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iotisc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Alles wat leeft, een invloed van een ander levend organisme op de omgev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biotis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Leeft niet, licht, temperatuur, water, dag en nacht, klimaatverande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ichthe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Nederland: 16.699.112 inwoners, oppervlakte: 41.526 km2. Bevolkingsdichtheid= 401,4 km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sprei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Amsterdam = druk, Twello = minder dru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raagkrac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venwicht in druk op omgeving en mogelijkheid hierin te voorzien (een ecosysteem kan een zekere hoeveelheid organismen drag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De voedselpiram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ttp://klas6b.classy.be/voedselpiramide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2T19:27:59Z</dcterms:created>
  <dc:creator>Saskia Wiegers</dc:creator>
  <dc:description/>
  <dc:language>en-US</dc:language>
  <cp:lastModifiedBy>Saskia Wiegers</cp:lastModifiedBy>
  <dcterms:modified xsi:type="dcterms:W3CDTF">2013-04-04T17:29:27Z</dcterms:modified>
  <cp:revision>13</cp:revision>
  <dc:subject/>
  <dc:title>PowerPoint-presentatie</dc:title>
</cp:coreProperties>
</file>