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67A-DB3A-43E7-94EB-2A2DB593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DC85-A6E2-431A-B849-1C7D646E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99A-B4CD-4B13-AAEA-8C67026F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AE9-E74C-4E4C-BFF2-4A2DFF29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08BE-BDBA-49D4-8FF7-E326FFF9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3019-E3C6-4551-A0A5-688E3C12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3A0E-1768-48F5-894F-86827DE3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79F4-F9E5-4EEA-A794-4D5AF47F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721A-CE3D-4003-B59E-C939A6A8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462C-312E-4A4E-B060-DF5B8713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D61-5E2F-45E1-AA1A-D5E250D1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B856-5E8F-4C84-9DF9-323CFAB3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1D69-7AC4-4942-8110-E860136047F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 alle organismen met elkaar samenwerken in de were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act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schooltv.nl/eigenwijzer/project/2935352/bio-bits-bovenbouw-ecologie/2935357/hom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ermen ec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ttp://www.youtube.com/watch?v=n9eCjkn75g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otoop = meerdere biotopen, bijvoorbeeld de v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Habitat = werkelijke plaats of ruimte waar een soort zich bevindt (‘het bewoont’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Niche = plek waar een organisme voor kan komen, en de functie van een soort in een ecosysteem. Veldmuizen = voedselbron uil en planten- en zadenet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cosysteem = een gebied waarbinnen organismen verschillende relaties hebb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Levensgemeenschap = alle organismen in een ecosyste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osfeer = de aar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Alle organismen die een biotoop bewonen, vormen samen een levensgemeenschap die bestaat ui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producenten,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 de voedselmakers. De groene planten die met behulp van licht, koolstof, water en mineralen stoffen opbouw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consument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de voedseleters. Met het onderscheid, dat planteneters direct, en vleeseters indirect van de planten lev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700" spc="-1" strike="noStrike">
                <a:solidFill>
                  <a:srgbClr val="000000"/>
                </a:solidFill>
                <a:latin typeface="Calibri"/>
              </a:rPr>
              <a:t>reducent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, de opruimers. Schimmels en bacteriën, die de dode stoffen omzetten in mineralen die ter beschikking komen van de plant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tis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les wat leeft, een invloed van een ander levend organisme op de omgev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biot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eeft niet, licht, temperatuur, water, dag en nacht, klimaatverand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cht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ederland: 16.699.112 inwoners, oppervlakte: 41.526 km2. Bevolkingsdichtheid= 401,4 km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pre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msterdam = druk, Twello = minder dru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aagkra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venwicht in druk op omgeving en mogelijkheid hierin te voorzien (een ecosysteem kan een zekere hoeveelheid organismen drag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voedselpiram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klas6b.classy.be/voedselpiramid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9:27:59Z</dcterms:created>
  <dc:creator>Saskia Wiegers</dc:creator>
  <dc:description/>
  <dc:language>en-US</dc:language>
  <cp:lastModifiedBy>Saskia Wiegers</cp:lastModifiedBy>
  <dcterms:modified xsi:type="dcterms:W3CDTF">2013-04-04T17:29:27Z</dcterms:modified>
  <cp:revision>13</cp:revision>
  <dc:subject/>
  <dc:title>PowerPoint-presentatie</dc:title>
</cp:coreProperties>
</file>