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8768-EAB3-4A86-B912-C5C1B7747E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5978-606A-4521-B316-39A43723B80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E9C7-16C0-460F-B6F6-52EC5B8071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517-0C0A-4B1A-88AF-8400F6C3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3F8-B19F-4DA8-917A-49395FB7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E8E-7D7A-43AE-81E2-41934685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F33-7EF5-4B81-969D-8A146D84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896-91E1-4FC2-89AA-5CF115D2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795-02B4-4425-BE59-46995A35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D47-73DD-4717-B126-BD7029A8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053-0F20-40D7-8BAC-6F159700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633-8FF5-4B31-8B9D-AF510771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7A6-1AA6-4D16-9BFE-9E9C2ABC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11C-CE29-4208-BB02-95337DA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624-8164-40B7-B4A6-B6547EF1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78EC-9A00-4BCB-B19F-E7316B3532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52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Klaarzetten van   </a:t>
            </a:r>
            <a:br>
              <a:rPr sz="2000"/>
            </a:b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  het strijkij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85800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  Vul het maatbekertje voor de helft met water.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42900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16280" y="41580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3  Doe het water in de opening.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   (dit water wordt later stoom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80880" y="2286000"/>
            <a:ext cx="2819520" cy="20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480" y="2362320"/>
            <a:ext cx="223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Je hebt nodig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pl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ij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maatbekert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kledingst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13716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en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- Zet eerst de strijkplank klaa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352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o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86200" y="3124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4   Zet het strijkijzer in de houder van de strijkpla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3886200" y="563868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5   Pak het kledingstuk wat je gaat strijken. Zoek het etiket met de symbo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Tjongol\Mijn documenten\Tjongol\Singelland\over de lessen\planning jaar 3\was\klaarzetten vd strijkplank\mini - klaarzetten vd strijkplank\mini-100_4182.jpg"/>
          <p:cNvPicPr/>
          <p:nvPr/>
        </p:nvPicPr>
        <p:blipFill>
          <a:blip r:embed="rId1"/>
          <a:stretch/>
        </p:blipFill>
        <p:spPr>
          <a:xfrm>
            <a:off x="533520" y="754380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C:\Documents and Settings\Tjongol\Mijn documenten\Tjongol\Singelland\over de lessen\planning jaar 3\was\klaarzetten vd strijkplank\mini - klaarzetten vd strijkplank\mini-100_4184.jpg"/>
          <p:cNvPicPr/>
          <p:nvPr/>
        </p:nvPicPr>
        <p:blipFill>
          <a:blip r:embed="rId2"/>
          <a:stretch/>
        </p:blipFill>
        <p:spPr>
          <a:xfrm>
            <a:off x="3886200" y="12193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C:\Documents and Settings\Tjongol\Mijn documenten\Tjongol\Singelland\over de lessen\planning jaar 3\was\klaarzetten vd strijkplank\mini - klaarzetten vd strijkplank\mini-100_4191_edited.jpg"/>
          <p:cNvPicPr/>
          <p:nvPr/>
        </p:nvPicPr>
        <p:blipFill>
          <a:blip r:embed="rId3"/>
          <a:stretch/>
        </p:blipFill>
        <p:spPr>
          <a:xfrm>
            <a:off x="3886200" y="373392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3962520" y="85345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Een kledingstuk heeft: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 - een etiket met de maat. 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b - en een etiket met symbol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4" descr="C:\Documents and Settings\Tjongol\Mijn documenten\Tjongol\Singelland\over de lessen\planning jaar 3\was\klaarzetten van het strijkijzer\mini-P9250015_edited.JPG"/>
          <p:cNvPicPr/>
          <p:nvPr/>
        </p:nvPicPr>
        <p:blipFill>
          <a:blip r:embed="rId4"/>
          <a:stretch/>
        </p:blipFill>
        <p:spPr>
          <a:xfrm>
            <a:off x="457200" y="4572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C:\Documents and Settings\Tjongol\Mijn documenten\Tjongol\Singelland\over de lessen\planning jaar 3\was\klaarzetten van het strijkijzer\mini-P9270037.JPG"/>
          <p:cNvPicPr/>
          <p:nvPr/>
        </p:nvPicPr>
        <p:blipFill>
          <a:blip r:embed="rId5"/>
          <a:stretch/>
        </p:blipFill>
        <p:spPr>
          <a:xfrm>
            <a:off x="3886200" y="64771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76280" y="3445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6. Bekijk het etiket met de symbolen. Tel het aantal stippen in het strijkijz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3124080"/>
            <a:ext cx="25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7.  Draai aan de grote knop van het strijkijzer. Stel deze ook in op één stip. Net als op het eti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880" y="63244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8.  Zet de stoomknop op ‘0’.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nders gaat het apparaat   straks direct stomen en dat is gevaarlijk. </a:t>
            </a:r>
            <a:r>
              <a:rPr b="0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Stoom is heel heet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284640" y="128520"/>
            <a:ext cx="0" cy="977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645000" y="34452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9. Doe de stekker in het stopcontact. 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Vanaf nu mag je de </a:t>
            </a:r>
            <a:r>
              <a:rPr b="1" lang="nl-NL" sz="1400" spc="-1" strike="noStrike">
                <a:solidFill>
                  <a:srgbClr val="cc0000"/>
                </a:solidFill>
                <a:latin typeface="Arial"/>
              </a:rPr>
              <a:t>onderkant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 van het strijkijzer niet meer aanraken.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733920" y="3276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0. Het lampje gaat branden. Dat betekent: het apparaat warmt 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657600" y="868680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Nakij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Hangt het snoer goed vrij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C:\Documents and Settings\Tjongol\Mijn documenten\Tjongol\Singelland\over de lessen\planning jaar 3\was\klaarzetten vd strijkplank\mini - klaarzetten vd strijkplank\mini-P1010003.JPG"/>
          <p:cNvPicPr/>
          <p:nvPr/>
        </p:nvPicPr>
        <p:blipFill>
          <a:blip r:embed="rId1"/>
          <a:stretch/>
        </p:blipFill>
        <p:spPr>
          <a:xfrm>
            <a:off x="533520" y="114300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Oval 21"/>
          <p:cNvSpPr/>
          <p:nvPr/>
        </p:nvSpPr>
        <p:spPr>
          <a:xfrm>
            <a:off x="1523880" y="2286000"/>
            <a:ext cx="762120" cy="685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2" descr="C:\Documents and Settings\Tjongol\Mijn documenten\Tjongol\Singelland\over de lessen\planning jaar 3\was\klaarzetten vd strijkplank\mini - klaarzetten vd strijkplank\mini-P1010004.JPG"/>
          <p:cNvPicPr/>
          <p:nvPr/>
        </p:nvPicPr>
        <p:blipFill>
          <a:blip r:embed="rId2"/>
          <a:stretch/>
        </p:blipFill>
        <p:spPr>
          <a:xfrm>
            <a:off x="533520" y="419112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4" name="Oval 23"/>
          <p:cNvSpPr/>
          <p:nvPr/>
        </p:nvSpPr>
        <p:spPr>
          <a:xfrm>
            <a:off x="1371600" y="4495680"/>
            <a:ext cx="762120" cy="15242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5" descr="C:\Documents and Settings\Tjongol\Mijn documenten\Tjongol\Singelland\over de lessen\planning jaar 3\was\klaarzetten vd strijkplank\mini - klaarzetten vd strijkplank\mini-P1010057.JPG"/>
          <p:cNvPicPr/>
          <p:nvPr/>
        </p:nvPicPr>
        <p:blipFill>
          <a:blip r:embed="rId3"/>
          <a:stretch/>
        </p:blipFill>
        <p:spPr>
          <a:xfrm>
            <a:off x="3733920" y="1295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C:\Documents and Settings\Tjongol\Mijn documenten\Tjongol\Singelland\over de lessen\planning jaar 3\was\klaarzetten vd strijkplank\mini - klaarzetten vd strijkplank\mini-P1010008.JPG"/>
          <p:cNvPicPr/>
          <p:nvPr/>
        </p:nvPicPr>
        <p:blipFill>
          <a:blip r:embed="rId4"/>
          <a:stretch/>
        </p:blipFill>
        <p:spPr>
          <a:xfrm>
            <a:off x="3809880" y="4038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7"/>
          <p:cNvSpPr/>
          <p:nvPr/>
        </p:nvSpPr>
        <p:spPr>
          <a:xfrm>
            <a:off x="3733920" y="6172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1.  Even wachten. Het lampje is uit. Het apparaat is nu kla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8" descr="C:\Documents and Settings\Tjongol\Mijn documenten\Tjongol\Singelland\over de lessen\planning jaar 3\was\klaarzetten vd strijkplank\mini - klaarzetten vd strijkplank\mini-P1010007.JPG"/>
          <p:cNvPicPr/>
          <p:nvPr/>
        </p:nvPicPr>
        <p:blipFill>
          <a:blip r:embed="rId5"/>
          <a:stretch/>
        </p:blipFill>
        <p:spPr>
          <a:xfrm>
            <a:off x="3733920" y="670572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C:\Documents and Settings\Tjongol\Mijn documenten\Tjongol\Singelland\over de lessen\planning jaar 3\was\klaarzetten van het strijkijzer\mini-P9250033_edited.JPG"/>
          <p:cNvPicPr/>
          <p:nvPr/>
        </p:nvPicPr>
        <p:blipFill>
          <a:blip r:embed="rId6"/>
          <a:stretch/>
        </p:blipFill>
        <p:spPr>
          <a:xfrm>
            <a:off x="457200" y="7391520"/>
            <a:ext cx="2451240" cy="18381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1219320" y="7772400"/>
            <a:ext cx="45720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 flipH="1">
            <a:off x="685440" y="81532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33520" y="9448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533520" y="93726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2 wolkjes = symbool veel stoom. </a:t>
            </a:r>
            <a:br>
              <a:rPr sz="1200"/>
            </a:b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0 = symbool voor geen st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5"/>
          <p:cNvSpPr/>
          <p:nvPr/>
        </p:nvSpPr>
        <p:spPr>
          <a:xfrm flipV="1">
            <a:off x="2438280" y="9296280"/>
            <a:ext cx="76212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1981080" y="7848720"/>
            <a:ext cx="38124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7"/>
          <p:cNvSpPr/>
          <p:nvPr/>
        </p:nvSpPr>
        <p:spPr>
          <a:xfrm flipH="1" flipV="1">
            <a:off x="2286000" y="8152920"/>
            <a:ext cx="914400" cy="1143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33:18Z</dcterms:created>
  <dc:creator>Tjongol</dc:creator>
  <dc:description/>
  <dc:language>en-US</dc:language>
  <cp:lastModifiedBy>G.v.Bruggen</cp:lastModifiedBy>
  <dcterms:modified xsi:type="dcterms:W3CDTF">2012-02-15T07:43:35Z</dcterms:modified>
  <cp:revision>29</cp:revision>
  <dc:subject/>
  <dc:title>Werkkaart strijken</dc:title>
</cp:coreProperties>
</file>