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7280" y="739440"/>
            <a:ext cx="25606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E88D-1D0B-45B1-938B-AAC4E44D421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3537-F1C1-416D-A42A-55D5115475F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254D-6088-4C5E-BC5A-C30623817FE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5C3-BBFC-4C18-97C7-9E0C2AE7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D03-BC52-4C03-9504-EFF4DF71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2C7-35F6-4F6D-92B3-9A57F78D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465-4E89-466E-8312-FC2DF3A3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7CC-9630-4051-895D-0792CDA0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DAB-70DC-4C6A-841D-26CADC44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045-61D8-4F68-A15B-F2D2D91A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343-AAC9-4516-961E-D32F0DE0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ED5-6AD9-4358-882F-0047C941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F3B3-9382-4F90-B1D0-D27E144C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828-6685-4927-9F9D-BBB86B63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51C-90B0-46FD-8A67-0A3D8130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861F-61F8-482E-94A1-2F7B1B2A0D5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2521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Klaarzetten van   </a:t>
            </a:r>
            <a:br>
              <a:rPr sz="2000"/>
            </a:b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  het strijkijz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685800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  Vul het maatbekertje voor de helft met water.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429000" y="0"/>
            <a:ext cx="0" cy="990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716280" y="415800"/>
            <a:ext cx="266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3  Doe het water in de opening.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   (dit water wordt later stoom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80880" y="2286000"/>
            <a:ext cx="2819520" cy="2057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09480" y="2362320"/>
            <a:ext cx="2232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ffffff"/>
                </a:solidFill>
                <a:uFillTx/>
                <a:latin typeface="Arial"/>
              </a:rPr>
              <a:t>Je hebt nodig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plan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ij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maatbekert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kledingst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1371600"/>
            <a:ext cx="29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en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- Zet eerst de strijkplank klaar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33520" y="6553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o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3886200" y="31240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4   Zet het strijkijzer in de houder van de strijkplan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3886200" y="563868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5   Pak het kledingstuk wat je gaat strijken. Zoek het etiket met de symbol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7" descr="C:\Documents and Settings\Tjongol\Mijn documenten\Tjongol\Singelland\over de lessen\planning jaar 3\was\klaarzetten vd strijkplank\mini - klaarzetten vd strijkplank\mini-100_4182.jpg"/>
          <p:cNvPicPr/>
          <p:nvPr/>
        </p:nvPicPr>
        <p:blipFill>
          <a:blip r:embed="rId1"/>
          <a:stretch/>
        </p:blipFill>
        <p:spPr>
          <a:xfrm>
            <a:off x="533520" y="7543800"/>
            <a:ext cx="2447640" cy="183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C:\Documents and Settings\Tjongol\Mijn documenten\Tjongol\Singelland\over de lessen\planning jaar 3\was\klaarzetten vd strijkplank\mini - klaarzetten vd strijkplank\mini-100_4184.jpg"/>
          <p:cNvPicPr/>
          <p:nvPr/>
        </p:nvPicPr>
        <p:blipFill>
          <a:blip r:embed="rId2"/>
          <a:stretch/>
        </p:blipFill>
        <p:spPr>
          <a:xfrm>
            <a:off x="3886200" y="12193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C:\Documents and Settings\Tjongol\Mijn documenten\Tjongol\Singelland\over de lessen\planning jaar 3\was\klaarzetten vd strijkplank\mini - klaarzetten vd strijkplank\mini-100_4191_edited.jpg"/>
          <p:cNvPicPr/>
          <p:nvPr/>
        </p:nvPicPr>
        <p:blipFill>
          <a:blip r:embed="rId3"/>
          <a:stretch/>
        </p:blipFill>
        <p:spPr>
          <a:xfrm>
            <a:off x="3886200" y="373392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3962520" y="853452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Een kledingstuk heeft: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 - een etiket met de maat. 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b - en een etiket met symbol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4" descr="C:\Documents and Settings\Tjongol\Mijn documenten\Tjongol\Singelland\over de lessen\planning jaar 3\was\klaarzetten van het strijkijzer\mini-P9250015_edited.JPG"/>
          <p:cNvPicPr/>
          <p:nvPr/>
        </p:nvPicPr>
        <p:blipFill>
          <a:blip r:embed="rId4"/>
          <a:stretch/>
        </p:blipFill>
        <p:spPr>
          <a:xfrm>
            <a:off x="457200" y="4572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5" descr="C:\Documents and Settings\Tjongol\Mijn documenten\Tjongol\Singelland\over de lessen\planning jaar 3\was\klaarzetten van het strijkijzer\mini-P9270037.JPG"/>
          <p:cNvPicPr/>
          <p:nvPr/>
        </p:nvPicPr>
        <p:blipFill>
          <a:blip r:embed="rId5"/>
          <a:stretch/>
        </p:blipFill>
        <p:spPr>
          <a:xfrm>
            <a:off x="3886200" y="647712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476280" y="3445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6. Bekijk het etiket met de symbolen. Tel het aantal stippen in het strijkijz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3124080"/>
            <a:ext cx="251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7.  Draai aan de grote knop van het strijkijzer. Stel deze ook in op één stip. Net als op het etike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880" y="6324480"/>
            <a:ext cx="273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8.  Zet de stoomknop op ‘0’.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nders gaat het apparaat   straks direct stomen en dat is gevaarlijk. </a:t>
            </a:r>
            <a:r>
              <a:rPr b="0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Stoom is heel heet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284640" y="128520"/>
            <a:ext cx="0" cy="977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645000" y="344520"/>
            <a:ext cx="251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9. Doe de stekker in het stopcontact. 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Vanaf nu mag je de </a:t>
            </a:r>
            <a:r>
              <a:rPr b="1" lang="nl-NL" sz="1400" spc="-1" strike="noStrike">
                <a:solidFill>
                  <a:srgbClr val="cc0000"/>
                </a:solidFill>
                <a:latin typeface="Arial"/>
              </a:rPr>
              <a:t>onderkant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 van het strijkijzer niet meer aanraken.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3733920" y="32767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0. Het lampje gaat branden. Dat betekent: het apparaat warmt o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657600" y="8686800"/>
            <a:ext cx="28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Nakij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Hangt het snoer goed vrij?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0" descr="C:\Documents and Settings\Tjongol\Mijn documenten\Tjongol\Singelland\over de lessen\planning jaar 3\was\klaarzetten vd strijkplank\mini - klaarzetten vd strijkplank\mini-P1010003.JPG"/>
          <p:cNvPicPr/>
          <p:nvPr/>
        </p:nvPicPr>
        <p:blipFill>
          <a:blip r:embed="rId1"/>
          <a:stretch/>
        </p:blipFill>
        <p:spPr>
          <a:xfrm>
            <a:off x="533520" y="114300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2" name="Oval 21"/>
          <p:cNvSpPr/>
          <p:nvPr/>
        </p:nvSpPr>
        <p:spPr>
          <a:xfrm>
            <a:off x="1523880" y="2286000"/>
            <a:ext cx="762120" cy="6858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2" descr="C:\Documents and Settings\Tjongol\Mijn documenten\Tjongol\Singelland\over de lessen\planning jaar 3\was\klaarzetten vd strijkplank\mini - klaarzetten vd strijkplank\mini-P1010004.JPG"/>
          <p:cNvPicPr/>
          <p:nvPr/>
        </p:nvPicPr>
        <p:blipFill>
          <a:blip r:embed="rId2"/>
          <a:stretch/>
        </p:blipFill>
        <p:spPr>
          <a:xfrm>
            <a:off x="533520" y="419112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4" name="Oval 23"/>
          <p:cNvSpPr/>
          <p:nvPr/>
        </p:nvSpPr>
        <p:spPr>
          <a:xfrm>
            <a:off x="1371600" y="4495680"/>
            <a:ext cx="762120" cy="15242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5" descr="C:\Documents and Settings\Tjongol\Mijn documenten\Tjongol\Singelland\over de lessen\planning jaar 3\was\klaarzetten vd strijkplank\mini - klaarzetten vd strijkplank\mini-P1010057.JPG"/>
          <p:cNvPicPr/>
          <p:nvPr/>
        </p:nvPicPr>
        <p:blipFill>
          <a:blip r:embed="rId3"/>
          <a:stretch/>
        </p:blipFill>
        <p:spPr>
          <a:xfrm>
            <a:off x="3733920" y="12952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C:\Documents and Settings\Tjongol\Mijn documenten\Tjongol\Singelland\over de lessen\planning jaar 3\was\klaarzetten vd strijkplank\mini - klaarzetten vd strijkplank\mini-P1010008.JPG"/>
          <p:cNvPicPr/>
          <p:nvPr/>
        </p:nvPicPr>
        <p:blipFill>
          <a:blip r:embed="rId4"/>
          <a:stretch/>
        </p:blipFill>
        <p:spPr>
          <a:xfrm>
            <a:off x="3809880" y="403848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7"/>
          <p:cNvSpPr/>
          <p:nvPr/>
        </p:nvSpPr>
        <p:spPr>
          <a:xfrm>
            <a:off x="3733920" y="61722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1.  Even wachten. Het lampje is uit. Het apparaat is nu kla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8" descr="C:\Documents and Settings\Tjongol\Mijn documenten\Tjongol\Singelland\over de lessen\planning jaar 3\was\klaarzetten vd strijkplank\mini - klaarzetten vd strijkplank\mini-P1010007.JPG"/>
          <p:cNvPicPr/>
          <p:nvPr/>
        </p:nvPicPr>
        <p:blipFill>
          <a:blip r:embed="rId5"/>
          <a:stretch/>
        </p:blipFill>
        <p:spPr>
          <a:xfrm>
            <a:off x="3733920" y="670572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C:\Documents and Settings\Tjongol\Mijn documenten\Tjongol\Singelland\over de lessen\planning jaar 3\was\klaarzetten van het strijkijzer\mini-P9250033_edited.JPG"/>
          <p:cNvPicPr/>
          <p:nvPr/>
        </p:nvPicPr>
        <p:blipFill>
          <a:blip r:embed="rId6"/>
          <a:stretch/>
        </p:blipFill>
        <p:spPr>
          <a:xfrm>
            <a:off x="457200" y="7391520"/>
            <a:ext cx="2451240" cy="1838160"/>
          </a:xfrm>
          <a:prstGeom prst="rect">
            <a:avLst/>
          </a:prstGeom>
          <a:ln w="0">
            <a:noFill/>
          </a:ln>
        </p:spPr>
      </p:pic>
      <p:sp>
        <p:nvSpPr>
          <p:cNvPr id="80" name="Oval 31"/>
          <p:cNvSpPr/>
          <p:nvPr/>
        </p:nvSpPr>
        <p:spPr>
          <a:xfrm>
            <a:off x="1219320" y="7772400"/>
            <a:ext cx="45720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2"/>
          <p:cNvSpPr/>
          <p:nvPr/>
        </p:nvSpPr>
        <p:spPr>
          <a:xfrm flipH="1">
            <a:off x="685440" y="8153280"/>
            <a:ext cx="685800" cy="129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533520" y="94489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533520" y="93726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2 wolkjes = symbool veel stoom. </a:t>
            </a:r>
            <a:br>
              <a:rPr sz="1200"/>
            </a:b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0 = symbool voor geen st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5"/>
          <p:cNvSpPr/>
          <p:nvPr/>
        </p:nvSpPr>
        <p:spPr>
          <a:xfrm flipV="1">
            <a:off x="2438280" y="9296280"/>
            <a:ext cx="762120" cy="457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36"/>
          <p:cNvSpPr/>
          <p:nvPr/>
        </p:nvSpPr>
        <p:spPr>
          <a:xfrm>
            <a:off x="1981080" y="7848720"/>
            <a:ext cx="38124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7"/>
          <p:cNvSpPr/>
          <p:nvPr/>
        </p:nvSpPr>
        <p:spPr>
          <a:xfrm flipH="1" flipV="1">
            <a:off x="2286000" y="8152920"/>
            <a:ext cx="914400" cy="1143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0:33:18Z</dcterms:created>
  <dc:creator>Tjongol</dc:creator>
  <dc:description/>
  <dc:language>en-US</dc:language>
  <cp:lastModifiedBy>G.v.Bruggen</cp:lastModifiedBy>
  <dcterms:modified xsi:type="dcterms:W3CDTF">2012-02-15T07:43:35Z</dcterms:modified>
  <cp:revision>29</cp:revision>
  <dc:subject/>
  <dc:title>Werkkaart strijken</dc:title>
</cp:coreProperties>
</file>