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907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87280" y="739440"/>
            <a:ext cx="256068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1025-899E-4A90-B432-3AA0B77B9FD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087640" y="739800"/>
            <a:ext cx="2560680" cy="37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jdelijke aanduiding voor dianumm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A35E-3533-4167-BEC0-553C8877460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2087640" y="739800"/>
            <a:ext cx="2560680" cy="37004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ijdelijke aanduiding voor dianumm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31BD-1BB0-43D6-9B5D-52CB811E2DA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6BA7-60BA-494C-AC98-FE3ACF797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774A-77BE-4114-AE78-47B34641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A5DD-680C-4AC7-857C-82AF5A017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6203-7AAB-4D32-BA53-2C609201A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BCD1-6388-434D-8E41-ADBFF77E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043C-202B-48C5-974A-9F80A8D0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1F36-8C01-41C5-8EE2-280B631F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E21F-3299-4ABA-A2FB-54C90A51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D881-914E-43A7-BCC1-D34EFC22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565C-A19A-4580-B69C-9F2AA810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D56D-A83E-43F3-AABD-CF0CF71B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B75A-D67E-41AD-A485-481E4ED2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930A-E202-4BC2-94E6-32EA5FE0266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25210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nl-NL" sz="2000" spc="-1" strike="noStrike">
                <a:solidFill>
                  <a:srgbClr val="3333cc"/>
                </a:solidFill>
                <a:latin typeface="Arial"/>
              </a:rPr>
              <a:t>Klaarzetten van   </a:t>
            </a:r>
            <a:br>
              <a:rPr sz="2000"/>
            </a:br>
            <a:r>
              <a:rPr b="1" lang="nl-NL" sz="2000" spc="-1" strike="noStrike">
                <a:solidFill>
                  <a:srgbClr val="3333cc"/>
                </a:solidFill>
                <a:latin typeface="Arial"/>
              </a:rPr>
              <a:t>    het strijkijz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6858000"/>
            <a:ext cx="26668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1  Vul het maatbekertje voor de helft met water. </a:t>
            </a: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7"/>
          <p:cNvSpPr/>
          <p:nvPr/>
        </p:nvSpPr>
        <p:spPr>
          <a:xfrm>
            <a:off x="3429000" y="0"/>
            <a:ext cx="0" cy="990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3716280" y="415800"/>
            <a:ext cx="266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3  Doe het water in de opening.</a:t>
            </a:r>
            <a:br>
              <a:rPr sz="1400"/>
            </a:b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    (dit water wordt later stoom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380880" y="2286000"/>
            <a:ext cx="2819520" cy="20574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609480" y="2362320"/>
            <a:ext cx="22320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 u="sng">
                <a:solidFill>
                  <a:srgbClr val="ffffff"/>
                </a:solidFill>
                <a:uFillTx/>
                <a:latin typeface="Arial"/>
              </a:rPr>
              <a:t>Je hebt nodig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- een strijkplan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- een strijkij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een maatbekertj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wat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een kledingstu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380880" y="1371600"/>
            <a:ext cx="2952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 u="sng">
                <a:solidFill>
                  <a:srgbClr val="3333cc"/>
                </a:solidFill>
                <a:uFillTx/>
                <a:latin typeface="Arial"/>
              </a:rPr>
              <a:t>Denken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- Zet eerst de strijkplank klaar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533520" y="655308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 u="sng">
                <a:solidFill>
                  <a:srgbClr val="3333cc"/>
                </a:solidFill>
                <a:uFillTx/>
                <a:latin typeface="Arial"/>
              </a:rPr>
              <a:t>Doen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3886200" y="3124080"/>
            <a:ext cx="251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4   Zet het strijkijzer in de houder van de strijkplank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0"/>
          <p:cNvSpPr/>
          <p:nvPr/>
        </p:nvSpPr>
        <p:spPr>
          <a:xfrm>
            <a:off x="3886200" y="5638680"/>
            <a:ext cx="251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5   Pak het kledingstuk wat je gaat strijken. Zoek het etiket met de symbole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7" descr="C:\Documents and Settings\Tjongol\Mijn documenten\Tjongol\Singelland\over de lessen\planning jaar 3\was\klaarzetten vd strijkplank\mini - klaarzetten vd strijkplank\mini-100_4182.jpg"/>
          <p:cNvPicPr/>
          <p:nvPr/>
        </p:nvPicPr>
        <p:blipFill>
          <a:blip r:embed="rId1"/>
          <a:stretch/>
        </p:blipFill>
        <p:spPr>
          <a:xfrm>
            <a:off x="533520" y="7543800"/>
            <a:ext cx="2447640" cy="1835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9" descr="C:\Documents and Settings\Tjongol\Mijn documenten\Tjongol\Singelland\over de lessen\planning jaar 3\was\klaarzetten vd strijkplank\mini - klaarzetten vd strijkplank\mini-100_4184.jpg"/>
          <p:cNvPicPr/>
          <p:nvPr/>
        </p:nvPicPr>
        <p:blipFill>
          <a:blip r:embed="rId2"/>
          <a:stretch/>
        </p:blipFill>
        <p:spPr>
          <a:xfrm>
            <a:off x="3886200" y="121932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0" descr="C:\Documents and Settings\Tjongol\Mijn documenten\Tjongol\Singelland\over de lessen\planning jaar 3\was\klaarzetten vd strijkplank\mini - klaarzetten vd strijkplank\mini-100_4191_edited.jpg"/>
          <p:cNvPicPr/>
          <p:nvPr/>
        </p:nvPicPr>
        <p:blipFill>
          <a:blip r:embed="rId3"/>
          <a:stretch/>
        </p:blipFill>
        <p:spPr>
          <a:xfrm>
            <a:off x="3886200" y="3733920"/>
            <a:ext cx="2448000" cy="18349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2"/>
          <p:cNvSpPr/>
          <p:nvPr/>
        </p:nvSpPr>
        <p:spPr>
          <a:xfrm>
            <a:off x="3962520" y="8534520"/>
            <a:ext cx="2666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Een kledingstuk heeft: </a:t>
            </a:r>
            <a:br>
              <a:rPr sz="1400"/>
            </a:b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a - een etiket met de maat.  </a:t>
            </a:r>
            <a:br>
              <a:rPr sz="1400"/>
            </a:b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b - en een etiket met symbol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4" descr="C:\Documents and Settings\Tjongol\Mijn documenten\Tjongol\Singelland\over de lessen\planning jaar 3\was\klaarzetten van het strijkijzer\mini-P9250015_edited.JPG"/>
          <p:cNvPicPr/>
          <p:nvPr/>
        </p:nvPicPr>
        <p:blipFill>
          <a:blip r:embed="rId4"/>
          <a:stretch/>
        </p:blipFill>
        <p:spPr>
          <a:xfrm>
            <a:off x="457200" y="457200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5" descr="C:\Documents and Settings\Tjongol\Mijn documenten\Tjongol\Singelland\over de lessen\planning jaar 3\was\klaarzetten van het strijkijzer\mini-P9270037.JPG"/>
          <p:cNvPicPr/>
          <p:nvPr/>
        </p:nvPicPr>
        <p:blipFill>
          <a:blip r:embed="rId5"/>
          <a:stretch/>
        </p:blipFill>
        <p:spPr>
          <a:xfrm>
            <a:off x="3886200" y="6477120"/>
            <a:ext cx="24480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476280" y="344520"/>
            <a:ext cx="251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6. Bekijk het etiket met de symbolen. Tel het aantal stippen in het strijkijzer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380880" y="3124080"/>
            <a:ext cx="2519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7.  Draai aan de grote knop van het strijkijzer. Stel deze ook in op één stip. Net als op het etike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380880" y="6324480"/>
            <a:ext cx="2735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8.  Zet de stoomknop op ‘0’. </a:t>
            </a:r>
            <a:br>
              <a:rPr sz="1400"/>
            </a:b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Anders gaat het apparaat   straks direct stomen en dat is gevaarlijk. </a:t>
            </a:r>
            <a:r>
              <a:rPr b="0" lang="nl-NL" sz="1400" spc="-1" strike="noStrike" u="sng">
                <a:solidFill>
                  <a:srgbClr val="3333cc"/>
                </a:solidFill>
                <a:uFillTx/>
                <a:latin typeface="Arial"/>
              </a:rPr>
              <a:t>Stoom is heel heet</a:t>
            </a: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2"/>
          <p:cNvSpPr/>
          <p:nvPr/>
        </p:nvSpPr>
        <p:spPr>
          <a:xfrm>
            <a:off x="3284640" y="128520"/>
            <a:ext cx="0" cy="977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3645000" y="344520"/>
            <a:ext cx="2519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9. Doe de stekker in het stopcontact. </a:t>
            </a:r>
            <a:r>
              <a:rPr b="0" lang="nl-NL" sz="1400" spc="-1" strike="noStrike">
                <a:solidFill>
                  <a:srgbClr val="cc0000"/>
                </a:solidFill>
                <a:latin typeface="Arial"/>
              </a:rPr>
              <a:t>Vanaf nu mag je de </a:t>
            </a:r>
            <a:r>
              <a:rPr b="1" lang="nl-NL" sz="1400" spc="-1" strike="noStrike">
                <a:solidFill>
                  <a:srgbClr val="cc0000"/>
                </a:solidFill>
                <a:latin typeface="Arial"/>
              </a:rPr>
              <a:t>onderkant</a:t>
            </a:r>
            <a:r>
              <a:rPr b="0" lang="nl-NL" sz="1400" spc="-1" strike="noStrike">
                <a:solidFill>
                  <a:srgbClr val="cc0000"/>
                </a:solidFill>
                <a:latin typeface="Arial"/>
              </a:rPr>
              <a:t> van het strijkijzer niet meer aanraken.</a:t>
            </a: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5"/>
          <p:cNvSpPr/>
          <p:nvPr/>
        </p:nvSpPr>
        <p:spPr>
          <a:xfrm>
            <a:off x="3733920" y="3276720"/>
            <a:ext cx="251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10. Het lampje gaat branden. Dat betekent: het apparaat warmt op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3657600" y="8686800"/>
            <a:ext cx="2879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 u="sng">
                <a:solidFill>
                  <a:srgbClr val="3333cc"/>
                </a:solidFill>
                <a:uFillTx/>
                <a:latin typeface="Arial"/>
              </a:rPr>
              <a:t>Nakijken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Hangt het snoer goed vrij?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0" descr="C:\Documents and Settings\Tjongol\Mijn documenten\Tjongol\Singelland\over de lessen\planning jaar 3\was\klaarzetten vd strijkplank\mini - klaarzetten vd strijkplank\mini-P1010003.JPG"/>
          <p:cNvPicPr/>
          <p:nvPr/>
        </p:nvPicPr>
        <p:blipFill>
          <a:blip r:embed="rId1"/>
          <a:stretch/>
        </p:blipFill>
        <p:spPr>
          <a:xfrm>
            <a:off x="533520" y="1143000"/>
            <a:ext cx="2447640" cy="1836720"/>
          </a:xfrm>
          <a:prstGeom prst="rect">
            <a:avLst/>
          </a:prstGeom>
          <a:ln w="0">
            <a:noFill/>
          </a:ln>
        </p:spPr>
      </p:pic>
      <p:sp>
        <p:nvSpPr>
          <p:cNvPr id="72" name="Oval 21"/>
          <p:cNvSpPr/>
          <p:nvPr/>
        </p:nvSpPr>
        <p:spPr>
          <a:xfrm>
            <a:off x="1523880" y="2286000"/>
            <a:ext cx="762120" cy="68580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2" descr="C:\Documents and Settings\Tjongol\Mijn documenten\Tjongol\Singelland\over de lessen\planning jaar 3\was\klaarzetten vd strijkplank\mini - klaarzetten vd strijkplank\mini-P1010004.JPG"/>
          <p:cNvPicPr/>
          <p:nvPr/>
        </p:nvPicPr>
        <p:blipFill>
          <a:blip r:embed="rId2"/>
          <a:stretch/>
        </p:blipFill>
        <p:spPr>
          <a:xfrm>
            <a:off x="533520" y="4191120"/>
            <a:ext cx="2447640" cy="1836720"/>
          </a:xfrm>
          <a:prstGeom prst="rect">
            <a:avLst/>
          </a:prstGeom>
          <a:ln w="0">
            <a:noFill/>
          </a:ln>
        </p:spPr>
      </p:pic>
      <p:sp>
        <p:nvSpPr>
          <p:cNvPr id="74" name="Oval 23"/>
          <p:cNvSpPr/>
          <p:nvPr/>
        </p:nvSpPr>
        <p:spPr>
          <a:xfrm>
            <a:off x="1371600" y="4495680"/>
            <a:ext cx="762120" cy="152424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25" descr="C:\Documents and Settings\Tjongol\Mijn documenten\Tjongol\Singelland\over de lessen\planning jaar 3\was\klaarzetten vd strijkplank\mini - klaarzetten vd strijkplank\mini-P1010057.JPG"/>
          <p:cNvPicPr/>
          <p:nvPr/>
        </p:nvPicPr>
        <p:blipFill>
          <a:blip r:embed="rId3"/>
          <a:stretch/>
        </p:blipFill>
        <p:spPr>
          <a:xfrm>
            <a:off x="3733920" y="129528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6" descr="C:\Documents and Settings\Tjongol\Mijn documenten\Tjongol\Singelland\over de lessen\planning jaar 3\was\klaarzetten vd strijkplank\mini - klaarzetten vd strijkplank\mini-P1010008.JPG"/>
          <p:cNvPicPr/>
          <p:nvPr/>
        </p:nvPicPr>
        <p:blipFill>
          <a:blip r:embed="rId4"/>
          <a:stretch/>
        </p:blipFill>
        <p:spPr>
          <a:xfrm>
            <a:off x="3809880" y="4038480"/>
            <a:ext cx="2448000" cy="18367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27"/>
          <p:cNvSpPr/>
          <p:nvPr/>
        </p:nvSpPr>
        <p:spPr>
          <a:xfrm>
            <a:off x="3733920" y="617220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11.  Even wachten. Het lampje is uit. Het apparaat is nu kla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8" descr="C:\Documents and Settings\Tjongol\Mijn documenten\Tjongol\Singelland\over de lessen\planning jaar 3\was\klaarzetten vd strijkplank\mini - klaarzetten vd strijkplank\mini-P1010007.JPG"/>
          <p:cNvPicPr/>
          <p:nvPr/>
        </p:nvPicPr>
        <p:blipFill>
          <a:blip r:embed="rId5"/>
          <a:stretch/>
        </p:blipFill>
        <p:spPr>
          <a:xfrm>
            <a:off x="3733920" y="6705720"/>
            <a:ext cx="2447640" cy="1836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0" descr="C:\Documents and Settings\Tjongol\Mijn documenten\Tjongol\Singelland\over de lessen\planning jaar 3\was\klaarzetten van het strijkijzer\mini-P9250033_edited.JPG"/>
          <p:cNvPicPr/>
          <p:nvPr/>
        </p:nvPicPr>
        <p:blipFill>
          <a:blip r:embed="rId6"/>
          <a:stretch/>
        </p:blipFill>
        <p:spPr>
          <a:xfrm>
            <a:off x="457200" y="7391520"/>
            <a:ext cx="2451240" cy="1838160"/>
          </a:xfrm>
          <a:prstGeom prst="rect">
            <a:avLst/>
          </a:prstGeom>
          <a:ln w="0">
            <a:noFill/>
          </a:ln>
        </p:spPr>
      </p:pic>
      <p:sp>
        <p:nvSpPr>
          <p:cNvPr id="80" name="Oval 31"/>
          <p:cNvSpPr/>
          <p:nvPr/>
        </p:nvSpPr>
        <p:spPr>
          <a:xfrm>
            <a:off x="1219320" y="7772400"/>
            <a:ext cx="457200" cy="3808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32"/>
          <p:cNvSpPr/>
          <p:nvPr/>
        </p:nvSpPr>
        <p:spPr>
          <a:xfrm flipH="1">
            <a:off x="685440" y="8153280"/>
            <a:ext cx="685800" cy="12956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3"/>
          <p:cNvSpPr/>
          <p:nvPr/>
        </p:nvSpPr>
        <p:spPr>
          <a:xfrm>
            <a:off x="533520" y="944892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4"/>
          <p:cNvSpPr/>
          <p:nvPr/>
        </p:nvSpPr>
        <p:spPr>
          <a:xfrm>
            <a:off x="533520" y="9372600"/>
            <a:ext cx="236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3333cc"/>
                </a:solidFill>
                <a:latin typeface="Times New Roman"/>
              </a:rPr>
              <a:t>2 wolkjes = symbool veel stoom. </a:t>
            </a:r>
            <a:br>
              <a:rPr sz="1200"/>
            </a:br>
            <a:r>
              <a:rPr b="0" lang="nl-NL" sz="1200" spc="-1" strike="noStrike">
                <a:solidFill>
                  <a:srgbClr val="3333cc"/>
                </a:solidFill>
                <a:latin typeface="Times New Roman"/>
              </a:rPr>
              <a:t>0 = symbool voor geen st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35"/>
          <p:cNvSpPr/>
          <p:nvPr/>
        </p:nvSpPr>
        <p:spPr>
          <a:xfrm flipV="1">
            <a:off x="2438280" y="9296280"/>
            <a:ext cx="762120" cy="4572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36"/>
          <p:cNvSpPr/>
          <p:nvPr/>
        </p:nvSpPr>
        <p:spPr>
          <a:xfrm>
            <a:off x="1981080" y="7848720"/>
            <a:ext cx="381240" cy="3808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37"/>
          <p:cNvSpPr/>
          <p:nvPr/>
        </p:nvSpPr>
        <p:spPr>
          <a:xfrm flipH="1" flipV="1">
            <a:off x="2286000" y="8152920"/>
            <a:ext cx="914400" cy="1143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0:33:18Z</dcterms:created>
  <dc:creator>Tjongol</dc:creator>
  <dc:description/>
  <dc:language>en-US</dc:language>
  <cp:lastModifiedBy>G.v.Bruggen</cp:lastModifiedBy>
  <dcterms:modified xsi:type="dcterms:W3CDTF">2012-02-15T07:43:35Z</dcterms:modified>
  <cp:revision>29</cp:revision>
  <dc:subject/>
  <dc:title>Werkkaart strijken</dc:title>
</cp:coreProperties>
</file>