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013-3213-4234-BAC5-AD62A9FA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B3A-FDAC-46C1-80B8-6124F9F0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0F54-BA77-44EF-98B9-8961669F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05F-1AE2-4F1F-BED2-799EAC1F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7DF5-72B3-41EF-B617-F3D02F88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69DE-CA26-4138-BE86-E2B88B87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2732-05E4-424E-B833-178DBE82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9E00-00FA-4F11-A05A-75F7D2C5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17D1-1DDA-4C0C-AAB7-3D6A65B0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4B6F-C4EE-4841-AC1D-27B8A3D4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70D3-ACBE-46A3-8041-BE086C40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A88-D7AC-4597-8C7E-782D1C90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7378-392B-424A-888D-266305E9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803A-BB0F-44D6-9085-F7535C8E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5D4C-8C0A-4983-8322-0642B032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03EA-4F88-4F9D-9446-8DCA37B4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0D00-4C69-455D-BC24-E6412377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183-2FFA-4BCB-8CDB-776B53E7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A7EC-46D3-4D32-9C0D-074E1862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A2A-A483-4120-8E92-74CFC08F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560-ED98-4567-ACF8-B524BCB3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F0E-F0C1-4397-ADE7-EC346917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AE12-C1CE-443B-BBF5-48A5CD9F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F35-0DB9-49E2-84C3-95BEE120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A698-6516-46AD-B25A-C2ED6B83662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C665-513B-4200-AACF-12980524199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sers.rcn.com/jkimball.ma.ultranet/BiologyPages/I/Insecticides.html" TargetMode="External"/><Relationship Id="rId2" Type="http://schemas.openxmlformats.org/officeDocument/2006/relationships/hyperlink" Target="http://users.rcn.com/jkimball.ma.ultranet/BiologyPages/I/Insecticides.html" TargetMode="External"/><Relationship Id="rId3" Type="http://schemas.openxmlformats.org/officeDocument/2006/relationships/hyperlink" Target="http://users.rcn.com/jkimball.ma.ultranet/BiologyPages/I/Insecticides.html" TargetMode="External"/><Relationship Id="rId4" Type="http://schemas.openxmlformats.org/officeDocument/2006/relationships/hyperlink" Target="http://users.rcn.com/jkimball.ma.ultranet/BiologyPages/I/Insecticides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arbeidsveiligheid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d Hendrix AOC O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 u="sng">
                <a:solidFill>
                  <a:srgbClr val="330033"/>
                </a:solidFill>
                <a:uFillTx/>
                <a:latin typeface="Times New Roman"/>
              </a:rPr>
              <a:t>Opname van middel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invlo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huid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kleding handschoenen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aard oplosmiddel -&gt; vetten, EC'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plaaats van cont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toestand van de hu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longen: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e giftig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llergieë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(huid) ontsteki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ïnvloeding voortpla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orbeelden van R zinnen (risi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0 Schadelijk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1 Schadelijk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2 Schadelijk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3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4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5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6 Zeer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7 Zeer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8 Zeer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9 Vormt vergiftig gas in contact met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0 Kan bij gebruik licht ontvlambaar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1 Vormt vergiftigde gassen in contact met z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S zinnen (safety veilighei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 Achter slot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 Buiten bereik van kinderen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9 Op een goed geventileerde plaats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3 Verwijderd houden van eet en drinkwaren en van dierenv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0 Niet eten of drin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1 Niet ro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2 Stof niet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1577880" y="1600200"/>
          <a:ext cx="64454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600200"/>
                    <a:ext cx="64454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sker A2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 = bescherming tegen organische dam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 = bescherming stofdeeltjes (partic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ilters na gebruik afdoppen of luchtdicht bew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sduur: 8 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schoe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itril of neopreen kunstst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2P3 fil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535788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lgelaatsmask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95640" y="1639800"/>
            <a:ext cx="5976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Stara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chnische maatregel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oede algemene ventilatie zou in de meeste omstandigheden voldoende moe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zij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atselijke afzuiging kan nodig zijn voor sommige werkzaamhe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bescherm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goedgekeurde adembescherming voorzien van filterbussen al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enswaarden en/of de comfortwaarde mogelijk overschreden wo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in noodgevallen een goedgekeurd persluchtademhalingstoestel (typ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verdru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handen/huidbescherm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schone, lichaamsbedekkende kleding met lange mouwen. Gebruik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 niet doordringbare handschoe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 noodgevallen: Draag beschermende kleding die ondoorlaatbaar is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. De keuze van specifieke kledingstukken zal afhangen va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werkwij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ogen/van het gezich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een zuurbr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Round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chnische cont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herhaald of langdurig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emisch-bestendige handschoenen d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ademhalings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dien aanbevolen, de leverancier van de persoonlijke beschermingsuitrusting raadplegen teneinde het ge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 van uitrusting te kennen voor een welbepaalde toepa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et welke wetten heb je te make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smiddelenbesl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orgvuligheidsart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splaat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Persoonlijke bescherm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hankelijk van middel en wijze van 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anuit een cabine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e informatie op veilgheids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ww.fytostat.n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gever moet instru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 moet toep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et gewasbeschermingsmiddelen en biocide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scheid professioneel- niet professioneel op eti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wasbeschermings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registratie midd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ïntegreerd t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rt 24 BGB (</a:t>
            </a:r>
            <a:r>
              <a:rPr b="1" lang="nl-NL" sz="2400" spc="-1" strike="noStrike">
                <a:solidFill>
                  <a:srgbClr val="330033"/>
                </a:solidFill>
                <a:latin typeface="Arial Unicode MS"/>
              </a:rPr>
              <a:t>besluit gewasbeschermingsmiddelen en biociden</a:t>
            </a:r>
            <a:r>
              <a:rPr b="1" lang="nl-NL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pothouder administre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middel,  N nummer, hoeveelheid middel dat afgeleverd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en adresgegevens ontv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en professionele middelen aan licentie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stelling5"/>
          <p:cNvPicPr/>
          <p:nvPr/>
        </p:nvPicPr>
        <p:blipFill>
          <a:blip r:embed="rId1"/>
          <a:stretch/>
        </p:blipFill>
        <p:spPr>
          <a:xfrm>
            <a:off x="684360" y="1700280"/>
            <a:ext cx="4208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Registratieplicht tel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middel en N numm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en waar toege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heid en grootte perceel/oppervla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iddelenka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deugdelijk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 400 kg onder wet gewas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fsluitb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iligheidspictogram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ntileert, niet op een werkruim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oeders boven, vloeistoffen o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kb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bsorberend materiaal in de omge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anneer contact met bestrijdingsmiddelen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jdens spuitwerkzaam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inigen spuitappar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rbetreding kas of gewas. R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 en repa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962730_661_1207830800027-poten,_spuiten,_ploegen_en_zaaien_dus_voorjaar_12"/>
          <p:cNvPicPr/>
          <p:nvPr/>
        </p:nvPicPr>
        <p:blipFill>
          <a:blip r:embed="rId1"/>
          <a:stretch/>
        </p:blipFill>
        <p:spPr>
          <a:xfrm>
            <a:off x="1187280" y="83664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ute giftigheid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D-50 waar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thale Dosis : in mg per kg lichaamsge­wicht waarbij 50% van de proefdieren binnen twee weken ster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gassen in ml per l concentrat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 ora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dshoof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0-2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askru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00- 20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 mgr = een duizendste gr per k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bruine%20rat%20close-up1_tcm7-16809"/>
          <p:cNvPicPr/>
          <p:nvPr/>
        </p:nvPicPr>
        <p:blipFill>
          <a:blip r:embed="rId1"/>
          <a:stretch/>
        </p:blipFill>
        <p:spPr>
          <a:xfrm>
            <a:off x="5292720" y="1982880"/>
            <a:ext cx="3024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69"/>
          <p:cNvGraphicFramePr/>
          <p:nvPr/>
        </p:nvGraphicFramePr>
        <p:xfrm>
          <a:off x="0" y="1343160"/>
          <a:ext cx="882000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3160"/>
                    <a:ext cx="88200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trijdingsmiddelen en gezond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041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065240" y="771480"/>
          <a:ext cx="7013520" cy="5329440"/>
        </p:xfrm>
        <a:graphic>
          <a:graphicData uri="http://schemas.openxmlformats.org/drawingml/2006/table">
            <a:tbl>
              <a:tblPr/>
              <a:tblGrid>
                <a:gridCol w="2657520"/>
                <a:gridCol w="2685960"/>
                <a:gridCol w="1670040"/>
              </a:tblGrid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LD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Rat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1"/>
                        </a:rPr>
                        <a:t>Aldica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Temik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2"/>
                        </a:rPr>
                        <a:t>Carbary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Sev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3"/>
                        </a:rPr>
                        <a:t>D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4"/>
                        </a:rPr>
                        <a:t>Dield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lubenzuron ("Dimil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tin 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pr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 mi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xych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ronyl but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er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eth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1:49:11Z</dcterms:created>
  <dc:creator>AOC-OOST</dc:creator>
  <dc:description/>
  <dc:language>en-US</dc:language>
  <cp:lastModifiedBy>Wied Hendrix</cp:lastModifiedBy>
  <dcterms:modified xsi:type="dcterms:W3CDTF">2014-12-01T07:53:34Z</dcterms:modified>
  <cp:revision>18</cp:revision>
  <dc:subject/>
  <dc:title>arbeidsveiligheid</dc:title>
</cp:coreProperties>
</file>