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png" ContentType="image/pn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7AD0-0C85-4A21-BA38-B14966DD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9564-2D57-4E70-A072-1163B94B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A9CD-268F-4E83-9391-D32E88BE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D3B7-943F-4509-AD5C-4B1FE5328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B252-D463-4C02-B071-0D6BF52D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DF3E-75D2-477B-B19C-D88CD3DA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4651-DBE6-43AB-8D9A-D6898C3C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B1DD-FA05-40CD-8995-ED060771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94C4-25DB-426C-866A-E7BDFABC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0C5B-1F79-4FBF-9F39-04ABFDBD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E116-1D64-492D-8E3C-A7670B6D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ED68-E9DB-491B-8F94-11152F54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AD35-0E7D-46D0-B088-8294542A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A6F5-F537-4D33-B1F4-2402089F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30EB-DB69-4B9F-A86F-D8FFDC6D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F17D-220F-4E54-AA19-E676D534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E83E-FFAC-4F14-9E21-B216218B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E493-C8A3-45F3-8D8D-9E420554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0EA6-123D-4B6F-A687-BA3BE808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346F-5198-4EA3-88AD-80770B65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BCFC-4EC6-4787-BA19-713A7B09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8DA0-F2BE-410D-8274-246E31E2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A853-1CC1-4F05-A97D-1D1388A9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F582-E114-4F48-B2C6-29567853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30BC-3C09-4871-A042-762E9A6571ED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0E07-F058-40DD-BF86-8AD1DD830861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sers.rcn.com/jkimball.ma.ultranet/BiologyPages/I/Insecticides.html" TargetMode="External"/><Relationship Id="rId2" Type="http://schemas.openxmlformats.org/officeDocument/2006/relationships/hyperlink" Target="http://users.rcn.com/jkimball.ma.ultranet/BiologyPages/I/Insecticides.html" TargetMode="External"/><Relationship Id="rId3" Type="http://schemas.openxmlformats.org/officeDocument/2006/relationships/hyperlink" Target="http://users.rcn.com/jkimball.ma.ultranet/BiologyPages/I/Insecticides.html" TargetMode="External"/><Relationship Id="rId4" Type="http://schemas.openxmlformats.org/officeDocument/2006/relationships/hyperlink" Target="http://users.rcn.com/jkimball.ma.ultranet/BiologyPages/I/Insecticides.html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330033"/>
                </a:solidFill>
                <a:latin typeface="Times New Roman"/>
              </a:rPr>
              <a:t>arbeidsveiligheid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ed Hendrix AOC O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800" spc="-1" strike="noStrike" u="sng">
                <a:solidFill>
                  <a:srgbClr val="330033"/>
                </a:solidFill>
                <a:uFillTx/>
                <a:latin typeface="Times New Roman"/>
              </a:rPr>
              <a:t>Opname van middel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 h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n invlo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huidtyp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kleding handschoenen!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aard oplosmiddel -&gt; vetten, EC'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plaaats van conta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toestand van de hui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 longen: inad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sli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giftighei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ronische giftighe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ankerverwekk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llergieë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(huid) ontsteki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eïnvloeding voortplan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oorbeelden van R zinnen (risico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0 Schadelijk bij inade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1 Schadelijk bij aanraking met de h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2 Schadelijk bij opname door de 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3 Vergiftig bij inade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4 Vergiftig bij aanraking met de h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5 Vergiftig bij opname door de 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6 Zeer vergiftig bij inade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7 Zeer vergiftig bij aanraking met de h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8 Zeer vergiftig bij opname door de 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9 Vormt vergiftig gas in contact met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30 Kan bij gebruik licht ontvlambaar w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31 Vormt vergiftigde gassen in contact met z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S zinnen (safety veiligheid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1 Achter slot be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 Buiten bereik van kinderen be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9 Op een goed geventileerde plaats be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13 Verwijderd houden van eet en drinkwaren en van dierenvo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0 Niet eten of drinken tijdens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1 Niet roken tijdens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2 Stof niet inad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Beschermende kle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5" name="Object 3"/>
          <p:cNvGraphicFramePr/>
          <p:nvPr/>
        </p:nvGraphicFramePr>
        <p:xfrm>
          <a:off x="1577880" y="1600200"/>
          <a:ext cx="644544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600200"/>
                    <a:ext cx="644544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Beschermende kle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sker A2P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 = bescherming tegen organische dam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 = bescherming stofdeeltjes (partic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ilters na gebruik afdoppen of luchtdicht bewa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sduur: 8 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ndschoen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Nitril of neopreen kunststo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A2P3 filt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763640" y="1989000"/>
            <a:ext cx="535788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olgelaatsmask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195640" y="1639800"/>
            <a:ext cx="59767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eiligheidsblad Staran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Technische maatregel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oede algemene ventilatie zou in de meeste omstandigheden voldoende moe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zij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laatselijke afzuiging kan nodig zijn voor sommige werkzaamhe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dembescherm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bruik goedgekeurde adembescherming voorzien van filterbussen al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renswaarden en/of de comfortwaarde mogelijk overschreden wo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bruik in noodgevallen een goedgekeurd persluchtademhalingstoestel (typ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verdruk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scherming van de handen/huidbescherm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raag schone, lichaamsbedekkende kleding met lange mouwen. Gebruik voor 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roduct niet doordringbare handschoen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In noodgevallen: Draag beschermende kleding die ondoorlaatbaar is voor 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roduct. De keuze van specifieke kledingstukken zal afhangen van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werkwij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scherming van de ogen/van het gezich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raag een zuurbri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eiligheidsblad Roundu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echnische cont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ijzondere vereisten wanneer gebruikt zoals aanbev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scherming van de 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ijzondere vereisten wanneer gebruikt zoals aanbev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scherming van de h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herhaald of langdurig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emisch-bestendige handschoenen dra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scherming van de ademhalingsw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ijzondere vereisten wanneer gebruikt zoals aanbev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dien aanbevolen, de leverancier van de persoonlijke beschermingsuitrusting raadplegen teneinde het gep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ype van uitrusting te kennen voor een welbepaalde toepas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Met welke wetten heb je te maken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O-w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trijdingsmiddelenbesl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orgvuligheidsartik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eschermende kl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asplaats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Persoonlijke bescherm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hankelijk van middel en wijze van toe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Handmati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anuit een cabine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e informatie op veilgheidsb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ww.fytostat.n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gever moet instru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nemer moet toep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330033"/>
                </a:solidFill>
                <a:latin typeface="Times New Roman"/>
              </a:rPr>
              <a:t>Wet gewasbeschermingsmiddelen en biocide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scheid professioneel- niet professioneel op eti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ichting gewasbeschermings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ichting registratie midde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ichting geïntegreerd te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Art 24 BGB (</a:t>
            </a:r>
            <a:r>
              <a:rPr b="1" lang="nl-NL" sz="2400" spc="-1" strike="noStrike">
                <a:solidFill>
                  <a:srgbClr val="330033"/>
                </a:solidFill>
                <a:latin typeface="Arial Unicode MS"/>
              </a:rPr>
              <a:t>besluit gewasbeschermingsmiddelen en biociden</a:t>
            </a:r>
            <a:r>
              <a:rPr b="1" lang="nl-NL" sz="24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pothouder administree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m middel,  N nummer, hoeveelheid middel dat afgeleverd wo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m en adresgegevens ontva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en professionele middelen aan licentiehou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stelling5"/>
          <p:cNvPicPr/>
          <p:nvPr/>
        </p:nvPicPr>
        <p:blipFill>
          <a:blip r:embed="rId1"/>
          <a:stretch/>
        </p:blipFill>
        <p:spPr>
          <a:xfrm>
            <a:off x="684360" y="1700280"/>
            <a:ext cx="42084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Registratieplicht tel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middel en N numm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nneer en waar toegep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heid en grootte perceel/oppervlak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middelenkas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et deugdelijk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t 400 kg onder wet gewasbescherming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fsluitba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iligheidspictogram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ntileert, niet op een werkruim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oeders boven, vloeistoffen o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Lekbak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bsorberend materiaal in de omge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330033"/>
                </a:solidFill>
                <a:latin typeface="Times New Roman"/>
              </a:rPr>
              <a:t>Wanneer contact met bestrijdingsmiddelen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ijdens spuitwerkzaam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inigen spuitappara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rbetreding kas of gewas. R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houd en repa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1962730_661_1207830800027-poten,_spuiten,_ploegen_en_zaaien_dus_voorjaar_12"/>
          <p:cNvPicPr/>
          <p:nvPr/>
        </p:nvPicPr>
        <p:blipFill>
          <a:blip r:embed="rId1"/>
          <a:stretch/>
        </p:blipFill>
        <p:spPr>
          <a:xfrm>
            <a:off x="1187280" y="836640"/>
            <a:ext cx="669636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giftighei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ute giftigheid: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cc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D-50 waar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Lethale Dosis : in mg per kg lichaamsge­wicht waarbij 50% van de proefdieren binnen twee weken sterf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ij gassen in ml per l concentrati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Giftigheid ora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dshoof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0-200 mgr per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dereaskru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00- 2000 mgr per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 mgr = een duizendste gr per kg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bruine%20rat%20close-up1_tcm7-16809"/>
          <p:cNvPicPr/>
          <p:nvPr/>
        </p:nvPicPr>
        <p:blipFill>
          <a:blip r:embed="rId1"/>
          <a:stretch/>
        </p:blipFill>
        <p:spPr>
          <a:xfrm>
            <a:off x="5292720" y="1982880"/>
            <a:ext cx="302436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69"/>
          <p:cNvGraphicFramePr/>
          <p:nvPr/>
        </p:nvGraphicFramePr>
        <p:xfrm>
          <a:off x="0" y="1343160"/>
          <a:ext cx="8820000" cy="40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3160"/>
                    <a:ext cx="882000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Bestrijdingsmiddelen en gezondhei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3041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065240" y="771480"/>
          <a:ext cx="7013520" cy="5329440"/>
        </p:xfrm>
        <a:graphic>
          <a:graphicData uri="http://schemas.openxmlformats.org/drawingml/2006/table">
            <a:tbl>
              <a:tblPr/>
              <a:tblGrid>
                <a:gridCol w="2657520"/>
                <a:gridCol w="2685960"/>
                <a:gridCol w="1670040"/>
              </a:tblGrid>
              <a:tr h="96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l LD</a:t>
                      </a:r>
                      <a:r>
                        <a:rPr b="1" lang="nl-NL" sz="18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Rats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g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1"/>
                        </a:rPr>
                        <a:t>Aldica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"Temik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a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2"/>
                        </a:rPr>
                        <a:t>Carbaryl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"Sevin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a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3"/>
                        </a:rPr>
                        <a:t>D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ated hydrocar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4"/>
                        </a:rPr>
                        <a:t>Dield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ated hydrocar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lubenzuron ("Dimilin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tin inhib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th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ophos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pre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H mim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xych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ated hydrocar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th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ophos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peronyl butox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erg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rethr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 ex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e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 ex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1:49:11Z</dcterms:created>
  <dc:creator>AOC-OOST</dc:creator>
  <dc:description/>
  <dc:language>en-US</dc:language>
  <cp:lastModifiedBy>Wied Hendrix</cp:lastModifiedBy>
  <dcterms:modified xsi:type="dcterms:W3CDTF">2014-12-01T07:53:34Z</dcterms:modified>
  <cp:revision>18</cp:revision>
  <dc:subject/>
  <dc:title>arbeidsveiligheid</dc:title>
</cp:coreProperties>
</file>