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4F5-4ED7-42A1-95EF-9D7A18F1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87D-CBE2-4FA4-BB32-FAFAE134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9B6-C11E-4DDA-BDD9-8D4D7F5B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C36-E8B6-45C4-8E8E-4C392159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2375-05D3-4488-9B52-1DBE480A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1A5E-509D-47E4-A67C-DC0B8831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225B-25EA-439A-A81F-D2A17089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37FE-C756-4CBF-8A79-25857624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0710-35A0-42F0-9D0F-09A7EC8C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4788-07AA-4BCA-85DB-397E63DB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34FA-E452-43CB-AA09-A73C1224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161-E8A1-43DC-B0CD-A18E9248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0889-491C-4E46-B4D4-11E12858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82CB-7C58-459A-BAAF-47EDC4B5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DFA2-0A72-4087-B640-BDFFE191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60CC-B62F-4F11-B02A-992E9F42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D7BA-FEC2-478A-8DBA-A985DFBD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3AF-0FC1-4A1E-9DCA-3E0B418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A07-24EE-4CF8-B582-EE0C0133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10E-B845-46E8-A6FB-9E13DF2F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AA7-27D6-488F-9C87-B3096DAC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BB5-0DD4-409C-99A7-0E072B1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664-00B1-4BBD-9BBD-011F8B2F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DDA-C0EF-411D-B43E-656F08A4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716F-A636-456F-B9A8-5CDEC64C22F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AB08-061C-4C8F-BD6F-0951DC85B48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" TargetMode="External"/><Relationship Id="rId2" Type="http://schemas.openxmlformats.org/officeDocument/2006/relationships/hyperlink" Target="http://users.rcn.com/jkimball.ma.ultranet/BiologyPages/I/Insecticides.html" TargetMode="External"/><Relationship Id="rId3" Type="http://schemas.openxmlformats.org/officeDocument/2006/relationships/hyperlink" Target="http://users.rcn.com/jkimball.ma.ultranet/BiologyPages/I/Insecticides.html" TargetMode="External"/><Relationship Id="rId4" Type="http://schemas.openxmlformats.org/officeDocument/2006/relationships/hyperlink" Target="http://users.rcn.com/jkimball.ma.ultranet/BiologyPages/I/Insecticides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sker A2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 = bescherming tegen organische dam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 = bescherming stofdeeltjes (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ilters na gebruik afdoppen of luchtdicht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sduur: 8 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schoe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tril of neopreen kunstst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2P3 fil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578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lgelaatsmask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639800"/>
            <a:ext cx="597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rt 24 BGB (</a:t>
            </a:r>
            <a:r>
              <a:rPr b="1" lang="nl-NL" sz="2400" spc="-1" strike="noStrike">
                <a:solidFill>
                  <a:srgbClr val="330033"/>
                </a:solidFill>
                <a:latin typeface="Arial Unicode MS"/>
              </a:rPr>
              <a:t>besluit gewasbeschermingsmiddelen en biociden</a:t>
            </a:r>
            <a:r>
              <a:rPr b="1" lang="nl-NL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othouder administre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middel,  N nummer, hoeveelheid middel dat afgeleverd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en adresgegevens ontv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en professionele middelen aan licentie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telling5"/>
          <p:cNvPicPr/>
          <p:nvPr/>
        </p:nvPicPr>
        <p:blipFill>
          <a:blip r:embed="rId1"/>
          <a:stretch/>
        </p:blipFill>
        <p:spPr>
          <a:xfrm>
            <a:off x="684360" y="170028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Registratieplicht tel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middel en N n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en waar toege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heid en grootte perceel/oppervl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 R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0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lubenzuron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Wied Hendrix</cp:lastModifiedBy>
  <dcterms:modified xsi:type="dcterms:W3CDTF">2014-12-01T07:53:34Z</dcterms:modified>
  <cp:revision>18</cp:revision>
  <dc:subject/>
  <dc:title>arbeidsveiligheid</dc:title>
</cp:coreProperties>
</file>