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7.png" ContentType="image/pn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D902-E1EA-453F-A24F-91AD38FDE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D910-7627-4759-AB4B-1AE8F05F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DE2F-CECD-4E65-A0DF-40AD50224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2BD3-63FC-46C8-9E30-E59E81CDE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C363-969A-433D-9B88-BAF65CD15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A6ED-81CF-412E-ABF0-EBB44CD3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CFE9-2C38-4293-90EE-2C6D06B6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B7CC-FF1D-4905-9869-27C84071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D7FF-6EB8-4C60-9BF7-9E388F41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C0AE-9F5B-426B-878A-3358DE00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D721-E4DA-40D9-92FE-0583A45A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BA7C-A867-4328-A6A2-BAA77FC8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B8667-0AA3-43DE-BBC3-D9AA5596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A2F2-F1FA-4D6E-A49A-C3232CAE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5764-04EE-4E1E-98B1-03C846A3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6200A-F526-4D9C-8FD9-5ADED367C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7E140-E884-4AC8-A61C-80C9975B1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675D-DE82-4C69-B708-8C9C2D88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1B18-3486-4BE6-A7DC-341494D4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85EA-39E0-4460-920C-3BD4C72D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9FF7-1CBE-4D18-A627-AB1E51E2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32F4-C864-4C56-8AE5-5925458E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0DC0-CB09-4E2E-98F7-CA1939E0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8C4D-4AFA-4B82-92AA-55A1F742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51DF-1FD3-4942-B5A9-AA3AA18C0A80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9468-4FC0-4AB0-AEFB-4A58211C9ED6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sers.rcn.com/jkimball.ma.ultranet/BiologyPages/I/Insecticides.html" TargetMode="External"/><Relationship Id="rId2" Type="http://schemas.openxmlformats.org/officeDocument/2006/relationships/hyperlink" Target="http://users.rcn.com/jkimball.ma.ultranet/BiologyPages/I/Insecticides.html" TargetMode="External"/><Relationship Id="rId3" Type="http://schemas.openxmlformats.org/officeDocument/2006/relationships/hyperlink" Target="http://users.rcn.com/jkimball.ma.ultranet/BiologyPages/I/Insecticides.html" TargetMode="External"/><Relationship Id="rId4" Type="http://schemas.openxmlformats.org/officeDocument/2006/relationships/hyperlink" Target="http://users.rcn.com/jkimball.ma.ultranet/BiologyPages/I/Insecticides.html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330033"/>
                </a:solidFill>
                <a:latin typeface="Times New Roman"/>
              </a:rPr>
              <a:t>arbeidsveiligheid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ied Hendrix AOC O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800" spc="-1" strike="noStrike" u="sng">
                <a:solidFill>
                  <a:srgbClr val="330033"/>
                </a:solidFill>
                <a:uFillTx/>
                <a:latin typeface="Times New Roman"/>
              </a:rPr>
              <a:t>Opname van middel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de h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n invlo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# huidtyp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# kleding handschoenen!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# aard oplosmiddel -&gt; vetten, EC'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# plaaats van contac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# toestand van de hui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de longen: inad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sli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giftighei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ronische giftighei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Kankerverwekk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llergieë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(huid) ontsteking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eïnvloeding voortplan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Voorbeelden van R zinnen (risico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0 Schadelijk bij inade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1 Schadelijk bij aanraking met de h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2 Schadelijk bij opname door de m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3 Vergiftig bij inade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4 Vergiftig bij aanraking met de h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5 Vergiftig bij opname door de m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6 Zeer vergiftig bij inade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7 Zeer vergiftig bij aanraking met de h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8 Zeer vergiftig bij opname door de m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9 Vormt vergiftig gas in contact met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30 Kan bij gebruik licht ontvlambaar wo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31 Vormt vergiftigde gassen in contact met zu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S zinnen (safety veiligheid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1 Achter slot bewa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2 Buiten bereik van kinderen bewa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9 Op een goed geventileerde plaats bewa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13 Verwijderd houden van eet en drinkwaren en van dierenvoe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20 Niet eten of drinken tijdens ge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21 Niet roken tijdens ge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22 Stof niet inad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Beschermende kle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5" name="Object 3"/>
          <p:cNvGraphicFramePr/>
          <p:nvPr/>
        </p:nvGraphicFramePr>
        <p:xfrm>
          <a:off x="1577880" y="1600200"/>
          <a:ext cx="644544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600200"/>
                    <a:ext cx="644544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Beschermende kle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sker A2P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 = bescherming tegen organische damp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P = bescherming stofdeeltjes (partic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ilters na gebruik afdoppen of luchtdicht bewa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sduur: 8 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ndschoen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Nitril of neopreen kunststo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A2P3 filt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763640" y="1989000"/>
            <a:ext cx="535788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volgelaatsmask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2195640" y="1639800"/>
            <a:ext cx="597672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Veiligheidsblad Staran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Technische maatregel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oede algemene ventilatie zou in de meeste omstandigheden voldoende moe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zij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laatselijke afzuiging kan nodig zijn voor sommige werkzaamhe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Adembescherm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ebruik goedgekeurde adembescherming voorzien van filterbussen al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renswaarden en/of de comfortwaarde mogelijk overschreden wo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ebruik in noodgevallen een goedgekeurd persluchtademhalingstoestel (typ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verdruk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Bescherming van de handen/huidbescherm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raag schone, lichaamsbedekkende kleding met lange mouwen. Gebruik voor 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roduct niet doordringbare handschoen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In noodgevallen: Draag beschermende kleding die ondoorlaatbaar is voor 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roduct. De keuze van specifieke kledingstukken zal afhangen van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werkwijz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Bescherming van de ogen/van het gezich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raag een zuurbri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Veiligheidsblad Roundup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Technische contr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bijzondere vereisten wanneer gebruikt zoals aanbevo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escherming van de 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bijzondere vereisten wanneer gebruikt zoals aanbevo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escherming van de h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herhaald of langdurig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hemisch-bestendige handschoenen dra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escherming van de ademhalingsw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bijzondere vereisten wanneer gebruikt zoals aanbevo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dien aanbevolen, de leverancier van de persoonlijke beschermingsuitrusting raadplegen teneinde het gep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ype van uitrusting te kennen voor een welbepaalde toepass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Met welke wetten heb je te maken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BO-w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trijdingsmiddelenbesl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orgvuligheidsartik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eschermende kle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asplaats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Persoonlijke bescherm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hankelijk van middel en wijze van toe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Handmati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anuit een cabine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ie informatie op veilgheidsb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ww.fytostat.n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gever moet instru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nemer moet toepa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330033"/>
                </a:solidFill>
                <a:latin typeface="Times New Roman"/>
              </a:rPr>
              <a:t>Wet gewasbeschermingsmiddelen en biocide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scheid professioneel- niet professioneel op eti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plichting gewasbeschermingspl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plichting registratie middel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plichting geïntegreerd tel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Art 24 BGB (</a:t>
            </a:r>
            <a:r>
              <a:rPr b="1" lang="nl-NL" sz="2400" spc="-1" strike="noStrike">
                <a:solidFill>
                  <a:srgbClr val="330033"/>
                </a:solidFill>
                <a:latin typeface="Arial Unicode MS"/>
              </a:rPr>
              <a:t>besluit gewasbeschermingsmiddelen en biociden</a:t>
            </a:r>
            <a:r>
              <a:rPr b="1" lang="nl-NL" sz="24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pothouder administree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am middel,  N nummer, hoeveelheid middel dat afgeleverd wor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am en adresgegevens ontva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leen professionele middelen aan licentiehou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stelling5"/>
          <p:cNvPicPr/>
          <p:nvPr/>
        </p:nvPicPr>
        <p:blipFill>
          <a:blip r:embed="rId1"/>
          <a:stretch/>
        </p:blipFill>
        <p:spPr>
          <a:xfrm>
            <a:off x="684360" y="1700280"/>
            <a:ext cx="42084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Registratieplicht tel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am middel en N numme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nneer en waar toegep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veelheid en grootte perceel/oppervlak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middelenkas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et deugdelijk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t 400 kg onder wet gewasbeschermingsmid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fsluitba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eiligheidspictogramm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entileert, niet op een werkruim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Poeders boven, vloeistoffen on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Lekbak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bsorberend materiaal in de omgev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330033"/>
                </a:solidFill>
                <a:latin typeface="Times New Roman"/>
              </a:rPr>
              <a:t>Wanneer contact met bestrijdingsmiddelen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ijdens spuitwerkzaam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inigen spuitapparat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rbetreding kas of gewas. R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houd en repar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1962730_661_1207830800027-poten,_spuiten,_ploegen_en_zaaien_dus_voorjaar_12"/>
          <p:cNvPicPr/>
          <p:nvPr/>
        </p:nvPicPr>
        <p:blipFill>
          <a:blip r:embed="rId1"/>
          <a:stretch/>
        </p:blipFill>
        <p:spPr>
          <a:xfrm>
            <a:off x="1187280" y="836640"/>
            <a:ext cx="669636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giftighei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ute giftigheid: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cc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D-50 waar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Lethale Dosis : in mg per kg lichaamsge­wicht waarbij 50% van de proefdieren binnen twee weken sterf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ij gassen in ml per l concentrati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Giftigheid ora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dshoof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0-200 mgr per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dereaskru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00- 2000 mgr per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 mgr = een duizendste gr per kg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bruine%20rat%20close-up1_tcm7-16809"/>
          <p:cNvPicPr/>
          <p:nvPr/>
        </p:nvPicPr>
        <p:blipFill>
          <a:blip r:embed="rId1"/>
          <a:stretch/>
        </p:blipFill>
        <p:spPr>
          <a:xfrm>
            <a:off x="5292720" y="1982880"/>
            <a:ext cx="302436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Object 69"/>
          <p:cNvGraphicFramePr/>
          <p:nvPr/>
        </p:nvGraphicFramePr>
        <p:xfrm>
          <a:off x="0" y="1343160"/>
          <a:ext cx="8820000" cy="40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6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3160"/>
                    <a:ext cx="8820000" cy="40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Bestrijdingsmiddelen en gezondhei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3041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065240" y="771480"/>
          <a:ext cx="7013520" cy="5329440"/>
        </p:xfrm>
        <a:graphic>
          <a:graphicData uri="http://schemas.openxmlformats.org/drawingml/2006/table">
            <a:tbl>
              <a:tblPr/>
              <a:tblGrid>
                <a:gridCol w="2657520"/>
                <a:gridCol w="2685960"/>
                <a:gridCol w="1670040"/>
              </a:tblGrid>
              <a:tr h="96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m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l LD</a:t>
                      </a:r>
                      <a:r>
                        <a:rPr b="1" lang="nl-NL" sz="18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 Rats</a:t>
                      </a:r>
                      <a:br>
                        <a:rPr sz="1800"/>
                      </a:b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g/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  <a:hlinkClick r:id="rId1"/>
                        </a:rPr>
                        <a:t>Aldicarb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"Temik"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am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  <a:hlinkClick r:id="rId2"/>
                        </a:rPr>
                        <a:t>Carbaryl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"Sevin"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am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  <a:hlinkClick r:id="rId3"/>
                        </a:rPr>
                        <a:t>D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nated hydrocarb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  <a:hlinkClick r:id="rId4"/>
                        </a:rPr>
                        <a:t>Dieldr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nated hydrocarb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lubenzuron ("Dimilin"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tin inhibi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th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ophos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pre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H mim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xych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nated hydrocarb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th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ophos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peronyl butox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erg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rethr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 ex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te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 ex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1:49:11Z</dcterms:created>
  <dc:creator>AOC-OOST</dc:creator>
  <dc:description/>
  <dc:language>en-US</dc:language>
  <cp:lastModifiedBy>Wied Hendrix</cp:lastModifiedBy>
  <dcterms:modified xsi:type="dcterms:W3CDTF">2014-12-01T07:53:34Z</dcterms:modified>
  <cp:revision>18</cp:revision>
  <dc:subject/>
  <dc:title>arbeidsveiligheid</dc:title>
</cp:coreProperties>
</file>