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6D7-0E06-41E6-889C-AFE2EEB0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318-2DE1-4401-B22A-C6DB5BD4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007-754C-4EEF-B640-3F9DC497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E7B-561D-49BB-9030-70F03CA1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212B-7EE1-453E-BD7E-19247E55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5824-0E81-4D9A-934A-A069A785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BDB5-8433-48FF-ADD4-21008371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E7B0-3FFE-45B7-941A-B821D63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BDAE-976D-4AF0-9B2B-C7F3DC4C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D027-FED0-4E18-A0E5-B76C1780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7186-08D3-4CA4-AB32-1D008818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6E6-6613-4755-9A53-0A1F6448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853C-02BB-4AF9-882F-72DE66E6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E8C1-D4A0-48BB-A1EC-7BBA94F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F713-94AA-4033-A671-8DFBC2C1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6207-3DA6-4F9B-9C79-AAD1622D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BB4D-D641-4E17-9DF8-F7361179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DF4-692A-4F68-A4B8-C9D78393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E51-EAD9-404D-94DD-9837D34C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5DA-9BE3-4D84-8AC0-46F18B1B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52A-6719-4F0B-B09A-3175A09D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EE4-0D88-41AC-AAA3-32A6E6A2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84F-1845-47D7-A09F-037EC5B4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4A8-AE1F-4E7C-9F3B-C654407F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8FAC-B12D-4439-8CB8-C42EF27989B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12EF-D783-423B-AF89-82BE00F393A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" TargetMode="External"/><Relationship Id="rId2" Type="http://schemas.openxmlformats.org/officeDocument/2006/relationships/hyperlink" Target="http://users.rcn.com/jkimball.ma.ultranet/BiologyPages/I/Insecticides.html" TargetMode="External"/><Relationship Id="rId3" Type="http://schemas.openxmlformats.org/officeDocument/2006/relationships/hyperlink" Target="http://users.rcn.com/jkimball.ma.ultranet/BiologyPages/I/Insecticides.html" TargetMode="External"/><Relationship Id="rId4" Type="http://schemas.openxmlformats.org/officeDocument/2006/relationships/hyperlink" Target="http://users.rcn.com/jkimball.ma.ultranet/BiologyPages/I/Insecticides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sker A2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 = bescherming tegen organische dam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 = bescherming stofdeeltjes (p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ilters na gebruik afdoppen of luchtdicht bew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sduur: 8 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schoe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tril of neopreen kunstst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2P3 fil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35788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lgelaatsmask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5640" y="1639800"/>
            <a:ext cx="5976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rt 24 BGB (</a:t>
            </a:r>
            <a:r>
              <a:rPr b="1" lang="nl-NL" sz="2400" spc="-1" strike="noStrike">
                <a:solidFill>
                  <a:srgbClr val="330033"/>
                </a:solidFill>
                <a:latin typeface="Arial Unicode MS"/>
              </a:rPr>
              <a:t>besluit gewasbeschermingsmiddelen en biociden</a:t>
            </a:r>
            <a:r>
              <a:rPr b="1" lang="nl-NL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pothouder administre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middel,  N nummer, hoeveelheid middel dat afgeleverd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en adresgegevens ontv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en professionele middelen aan licentie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telling5"/>
          <p:cNvPicPr/>
          <p:nvPr/>
        </p:nvPicPr>
        <p:blipFill>
          <a:blip r:embed="rId1"/>
          <a:stretch/>
        </p:blipFill>
        <p:spPr>
          <a:xfrm>
            <a:off x="684360" y="1700280"/>
            <a:ext cx="4208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Registratieplicht tel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middel en N numm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en waar toege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heid en grootte perceel/oppervla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 R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04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lubenzuron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Wied Hendrix</cp:lastModifiedBy>
  <dcterms:modified xsi:type="dcterms:W3CDTF">2014-12-01T07:53:34Z</dcterms:modified>
  <cp:revision>18</cp:revision>
  <dc:subject/>
  <dc:title>arbeidsveiligheid</dc:title>
</cp:coreProperties>
</file>