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DED-BF98-47C4-8CD6-2A394870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0D5-5E4D-4EA2-AFD2-FD0555D3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1E8-5603-461A-AB1C-698D209F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4FF-0FF2-4455-951D-C33895FC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E052-9E56-467D-AB26-8CE5532C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F4F6-458C-46D0-869B-07B8FC57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98C8-FDF5-4343-B37F-4956D39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6887-6A35-45B2-B487-DE1DDDA8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B902-FAC8-41C4-A61F-BD493D73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2D39-B174-4B10-9290-B033CE0B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8694-5317-4679-81F8-640A3C40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827-0EB1-49F9-82F7-3C5925B5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B107-1E02-4BEF-95F7-E12D815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902E-A0E0-41BD-9F37-07291F0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625B-DD07-4F04-AB52-7392F39B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903C-3C6F-41A7-BA26-6EE94EFD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821-8BA9-4838-A2B5-326A8228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0B7-DDB5-4859-8C55-D43B06A8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200-47EA-41CF-A63C-A43AFF9C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99C-9E27-4276-88B0-77867AB0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A0A-2D87-4327-9CD0-EFCFDF46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E6F-DBCE-4717-B4B4-99360D58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346-36EE-4B7F-A141-34BE1EF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84B-A985-44C0-BF17-70B118B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08A-3C4D-445D-8316-EDF1EC1622A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76D6-B906-48D3-855A-F9036B03511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" TargetMode="External"/><Relationship Id="rId2" Type="http://schemas.openxmlformats.org/officeDocument/2006/relationships/hyperlink" Target="http://users.rcn.com/jkimball.ma.ultranet/BiologyPages/I/Insecticides.html" TargetMode="External"/><Relationship Id="rId3" Type="http://schemas.openxmlformats.org/officeDocument/2006/relationships/hyperlink" Target="http://users.rcn.com/jkimball.ma.ultranet/BiologyPages/I/Insecticides.html" TargetMode="External"/><Relationship Id="rId4" Type="http://schemas.openxmlformats.org/officeDocument/2006/relationships/hyperlink" Target="http://users.rcn.com/jkimball.ma.ultranet/BiologyPages/I/Insecticides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sker A2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 = bescherming tegen organische dam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 = bescherming stofdeeltjes (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ilters na gebruik afdoppen of luchtdicht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sduur: 8 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schoe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tril of neopreen kunstst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2P3 fil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578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lgelaatsmask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639800"/>
            <a:ext cx="597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rt 24 BGB (</a:t>
            </a:r>
            <a:r>
              <a:rPr b="1" lang="nl-NL" sz="2400" spc="-1" strike="noStrike">
                <a:solidFill>
                  <a:srgbClr val="330033"/>
                </a:solidFill>
                <a:latin typeface="Arial Unicode MS"/>
              </a:rPr>
              <a:t>besluit gewasbeschermingsmiddelen en biociden</a:t>
            </a:r>
            <a:r>
              <a:rPr b="1" lang="nl-NL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othouder administre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middel,  N nummer, hoeveelheid middel dat afgeleverd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en adresgegevens ontv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en professionele middelen aan licentie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telling5"/>
          <p:cNvPicPr/>
          <p:nvPr/>
        </p:nvPicPr>
        <p:blipFill>
          <a:blip r:embed="rId1"/>
          <a:stretch/>
        </p:blipFill>
        <p:spPr>
          <a:xfrm>
            <a:off x="684360" y="170028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Registratieplicht tel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middel en N n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en waar toege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heid en grootte perceel/oppervl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 R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0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lubenzuron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Wied Hendrix</cp:lastModifiedBy>
  <dcterms:modified xsi:type="dcterms:W3CDTF">2014-12-01T07:53:34Z</dcterms:modified>
  <cp:revision>18</cp:revision>
  <dc:subject/>
  <dc:title>arbeidsveiligheid</dc:title>
</cp:coreProperties>
</file>