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49B-2102-4A55-B2BF-5BD3C3E3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FF3-F758-4DC0-AB12-E22535BC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2AC-060A-4E20-A104-036B10FA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90F-2BEB-44DF-9A62-C7C0D153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479E-4F39-45EB-A122-C69484CA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F180-6622-43ED-A1E0-D1017F40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C5D7-050D-424E-A452-AA23DCAB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DE27-AC21-4FD7-A810-0F143919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1DF5-CBAA-4FE6-97E3-3356AC23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353E-D323-4C07-A965-3BE0CEAB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258D-89A9-452A-A217-4A80E3A0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0F6-2D47-4E90-8F07-66C3F2F3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DEFC-2929-432F-A028-17E1D735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584B-A834-4917-9D5B-0A8EE7E6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2D1A-1990-4703-BC2D-67587F45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14F7-6B35-4C63-8BAD-E5A1FE42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E73F-701A-4737-BA95-F52EF866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9DB-303B-4F15-8A47-81C51060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23D-7DDA-47D4-A8D8-FAA2CF4E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692-880B-40C6-B988-82100B60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111-82F6-4182-9992-487A34B8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86E-6680-4EFB-B0AE-5D2EE481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586-9C44-4044-8300-DD872A17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96F-4BC0-452C-B4D6-4450159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1644-F059-4B2E-968B-76CB2C7246C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F8F2-BCFC-4B23-8BCF-50D6A05A7AB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I/Insecticides.html" TargetMode="External"/><Relationship Id="rId2" Type="http://schemas.openxmlformats.org/officeDocument/2006/relationships/hyperlink" Target="http://users.rcn.com/jkimball.ma.ultranet/BiologyPages/I/Insecticides.html" TargetMode="External"/><Relationship Id="rId3" Type="http://schemas.openxmlformats.org/officeDocument/2006/relationships/hyperlink" Target="http://users.rcn.com/jkimball.ma.ultranet/BiologyPages/I/Insecticides.html" TargetMode="External"/><Relationship Id="rId4" Type="http://schemas.openxmlformats.org/officeDocument/2006/relationships/hyperlink" Target="http://users.rcn.com/jkimball.ma.ultranet/BiologyPages/I/Insecticides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arbeidsveilighe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d Hendrix AOC O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 u="sng">
                <a:solidFill>
                  <a:srgbClr val="330033"/>
                </a:solidFill>
                <a:uFillTx/>
                <a:latin typeface="Times New Roman"/>
              </a:rPr>
              <a:t>Opname van middel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invlo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huid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kleding handschoenen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aard oplosmiddel -&gt; vetten, EC'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plaaats v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# toestand van de hu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 longen: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e giftig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ergieë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(huid) ontsteki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ïnvloeding voortpla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orbeelden van R zinnen (risi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0 Schadelijk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1 Schadelijk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2 Schadelijk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3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4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5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6 Zeer vergiftig bij inad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7 Zeer vergiftig bij aanraking met de h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8 Zeer vergiftig bij opname door de 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29 Vormt vergiftig gas in contact me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0 Kan bij gebruik licht ontvlambaar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 31 Vormt vergiftigde gassen in contact met z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S zinnen (safety veilighei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 Achter slot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 Buiten bereik van kinderen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9 Op een goed geventileerde plaats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13 Verwijderd houden van eet en drinkwaren en van dierenv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0 Niet eten of drin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1 Niet roken tijdens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 22 Stof niet inad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577880" y="1600200"/>
          <a:ext cx="6445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600200"/>
                    <a:ext cx="6445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chermende kle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sker A2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 = bescherming tegen organische dam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 = bescherming stofdeeltjes (p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ilters na gebruik afdoppen of luchtdicht bew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sduur: 8 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schoe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itril of neopreen kunstst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2P3 fil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35788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olgelaatsmask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5640" y="1639800"/>
            <a:ext cx="5976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Stara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echnische maatregel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oede algemene ventilatie zou in de meeste omstandigheden voldoende mo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atselijke afzuiging kan nodig zijn voor sommige werkzaamhe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bescherm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goedgekeurde adembescherming voorzien van filterbussen al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enswaarden en/of de comfortwaarde mogelijk overschreden 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bruik in noodgevallen een goedgekeurd persluchtademhalingstoestel (ty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verdru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handen/huidbescherm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schone, lichaamsbedekkende kleding met lange mouwen. Gebruik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 niet doordringbare handschoe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n noodgevallen: Draag beschermende kleding die ondoorlaatbaar is voor 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duct. De keuze van specifieke kledingstukken zal afhangen va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erkwij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scherming van de ogen/van het gezic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raag een zuurbr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Veiligheidsblad Round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chnische cont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herhaald of langdurig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misch-bestendige handschoenen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scherming van de ademhalings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ijzondere vereisten wanneer gebruikt zoals aanbev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ien aanbevolen, de leverancier van de persoonlijke beschermingsuitrusting raadplegen teneinde het ge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 van uitrusting te kennen voor een welbepaalde toepa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et welke wetten heb je te make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trijdingsmiddelenbesl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orgvuligheidsart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splaat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Persoonlijke bescher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hankelijk van middel en wijze van 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nuit een cabine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e informatie op veilgheids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ww.fytostat.n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gever moet instru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 moet toep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et gewasbeschermingsmiddelen en biocide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cheid professioneel- niet professioneel op eti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wasbeschermings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registrati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ichting geïntegreerd t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Art 24 BGB (</a:t>
            </a:r>
            <a:r>
              <a:rPr b="1" lang="nl-NL" sz="2400" spc="-1" strike="noStrike">
                <a:solidFill>
                  <a:srgbClr val="330033"/>
                </a:solidFill>
                <a:latin typeface="Arial Unicode MS"/>
              </a:rPr>
              <a:t>besluit gewasbeschermingsmiddelen en biociden</a:t>
            </a:r>
            <a:r>
              <a:rPr b="1" lang="nl-NL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pothouder administre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middel,  N nummer, hoeveelheid middel dat afgeleverd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en adresgegevens ontv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en professionele middelen aan licentie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telling5"/>
          <p:cNvPicPr/>
          <p:nvPr/>
        </p:nvPicPr>
        <p:blipFill>
          <a:blip r:embed="rId1"/>
          <a:stretch/>
        </p:blipFill>
        <p:spPr>
          <a:xfrm>
            <a:off x="684360" y="1700280"/>
            <a:ext cx="4208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Registratieplicht tel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middel en N numm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en waar toege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heid en grootte perceel/oppervla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middelenka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deugdelijk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400 kg onder wet gewas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fsluitb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iligheidspictogram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ntileert, niet op een werkruim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oeders boven, vloeistoffen o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kb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bsorberend materiaal in de omge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Wanneer contact met bestrijdingsmiddelen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jdens spuitwerkzaam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inigen spuitappa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rbetreding kas of gewas. R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 en repa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962730_661_1207830800027-poten,_spuiten,_ploegen_en_zaaien_dus_voorjaar_12"/>
          <p:cNvPicPr/>
          <p:nvPr/>
        </p:nvPicPr>
        <p:blipFill>
          <a:blip r:embed="rId1"/>
          <a:stretch/>
        </p:blipFill>
        <p:spPr>
          <a:xfrm>
            <a:off x="1187280" y="83664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ute giftigheid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D-50 waar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ethale Dosis : in mg per kg lichaamsge­wicht waarbij 50% van de proefdieren binnen twee weken ster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gassen in ml per l concentrat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Giftigheid ora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dshoof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0-2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askru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00- 2000 mgr per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mgr = een duizendste gr per k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bruine%20rat%20close-up1_tcm7-16809"/>
          <p:cNvPicPr/>
          <p:nvPr/>
        </p:nvPicPr>
        <p:blipFill>
          <a:blip r:embed="rId1"/>
          <a:stretch/>
        </p:blipFill>
        <p:spPr>
          <a:xfrm>
            <a:off x="5292720" y="1982880"/>
            <a:ext cx="3024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69"/>
          <p:cNvGraphicFramePr/>
          <p:nvPr/>
        </p:nvGraphicFramePr>
        <p:xfrm>
          <a:off x="0" y="1343160"/>
          <a:ext cx="8820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820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Bestrijdingsmiddelen en gezondhe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04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65240" y="771480"/>
          <a:ext cx="7013520" cy="5329440"/>
        </p:xfrm>
        <a:graphic>
          <a:graphicData uri="http://schemas.openxmlformats.org/drawingml/2006/table">
            <a:tbl>
              <a:tblPr/>
              <a:tblGrid>
                <a:gridCol w="2657520"/>
                <a:gridCol w="2685960"/>
                <a:gridCol w="1670040"/>
              </a:tblGrid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LD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Rat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1"/>
                        </a:rPr>
                        <a:t>Aldica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Temik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2"/>
                        </a:rPr>
                        <a:t>Carbary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"Sev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a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3"/>
                        </a:rPr>
                        <a:t>D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  <a:hlinkClick r:id="rId4"/>
                        </a:rPr>
                        <a:t>Dield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lubenzuron ("Dimilin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tin 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pr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 mi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ated hydro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h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o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ronyl but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er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th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ex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49:11Z</dcterms:created>
  <dc:creator>AOC-OOST</dc:creator>
  <dc:description/>
  <dc:language>en-US</dc:language>
  <cp:lastModifiedBy>Wied Hendrix</cp:lastModifiedBy>
  <dcterms:modified xsi:type="dcterms:W3CDTF">2014-12-01T07:53:34Z</dcterms:modified>
  <cp:revision>18</cp:revision>
  <dc:subject/>
  <dc:title>arbeidsveiligheid</dc:title>
</cp:coreProperties>
</file>