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9.png" ContentType="image/png"/>
  <Override PartName="/ppt/media/image39.png" ContentType="image/png"/>
  <Override PartName="/ppt/media/image25.png" ContentType="image/png"/>
  <Override PartName="/ppt/media/image10.wmf" ContentType="image/x-wmf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33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6F3EA-0435-48C4-B6BB-8376A37736EF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EE90F-5EB6-4F3F-96CB-818EB205424D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4390D-8994-49FB-A0B0-52EC02A4B2D0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692280" y="7556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BE64F-4753-4478-87CB-4AB102969A39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2BDE7-29A7-4039-952D-0CA82CA8D625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9A2DFF-B654-494C-BCD1-47494D404087}" type="slidenum">
              <a:rPr b="0" lang="en-GB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0E2E1-0F12-42FA-A5A5-1C0F3901FA66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2B108-CE53-4BD2-8A17-92B4CA191FB1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Werkprocessen zijn vaak niet gebonden aan de diverse eilanden (afdelingen/sectoren) die binnen de organisatie besta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DEFC4-36DC-415F-BC55-B197F58624DE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1FA26-CFE7-4E7E-9232-75B76A103717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D54C3-465F-4425-BA81-8DB82C0AF704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78911-4537-444C-BFE0-ACBA9DA0E7D2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F178F-013C-417B-8CCA-A467EE099DC5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B6D40-2F4B-47B0-935E-14CAF864D13C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3C0EB-EF95-44D3-8F5A-FFFE8FDE481E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AC938-CCF1-443E-9888-341E15CA8F9E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D298C-7582-4A9D-BF09-2B9C8CB8FC35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BA787-08D1-4F75-A612-7B12A587B7A8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272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256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272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256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03280" y="1239840"/>
            <a:ext cx="719928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272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256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9272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256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03280" y="1239840"/>
            <a:ext cx="719928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7129440" y="5373720"/>
            <a:ext cx="16192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3AA016BB-C5B0-4262-BAA5-BD6E83701CF4}" type="slidenum">
              <a:rPr b="0" lang="en-GB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8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9850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5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28.png"/><Relationship Id="rId23" Type="http://schemas.openxmlformats.org/officeDocument/2006/relationships/image" Target="../media/image30.png"/><Relationship Id="rId24" Type="http://schemas.openxmlformats.org/officeDocument/2006/relationships/image" Target="../media/image31.png"/><Relationship Id="rId25" Type="http://schemas.openxmlformats.org/officeDocument/2006/relationships/image" Target="../media/image32.png"/><Relationship Id="rId26" Type="http://schemas.openxmlformats.org/officeDocument/2006/relationships/image" Target="../media/image33.png"/><Relationship Id="rId27" Type="http://schemas.openxmlformats.org/officeDocument/2006/relationships/image" Target="../media/image34.png"/><Relationship Id="rId28" Type="http://schemas.openxmlformats.org/officeDocument/2006/relationships/image" Target="../media/image35.pn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Organisaties in verschillende vormen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692360" y="1184400"/>
            <a:ext cx="613080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"/>
          <p:cNvGrpSpPr/>
          <p:nvPr/>
        </p:nvGrpSpPr>
        <p:grpSpPr>
          <a:xfrm>
            <a:off x="1552680" y="1125360"/>
            <a:ext cx="6057360" cy="5295960"/>
            <a:chOff x="1552680" y="1125360"/>
            <a:chExt cx="6057360" cy="5295960"/>
          </a:xfrm>
        </p:grpSpPr>
        <p:grpSp>
          <p:nvGrpSpPr>
            <p:cNvPr id="113" name="Group 2"/>
            <p:cNvGrpSpPr/>
            <p:nvPr/>
          </p:nvGrpSpPr>
          <p:grpSpPr>
            <a:xfrm>
              <a:off x="1552680" y="1125360"/>
              <a:ext cx="6057360" cy="5295960"/>
              <a:chOff x="1552680" y="1125360"/>
              <a:chExt cx="6057360" cy="5295960"/>
            </a:xfrm>
          </p:grpSpPr>
          <p:pic>
            <p:nvPicPr>
              <p:cNvPr id="114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2040" y="1125360"/>
                <a:ext cx="5295600" cy="529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175440" y="320292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9560" y="464832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Pictur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1552680" y="3288240"/>
                <a:ext cx="143424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7" descr=""/>
              <p:cNvPicPr/>
              <p:nvPr/>
            </p:nvPicPr>
            <p:blipFill>
              <a:blip r:embed="rId5"/>
              <a:stretch/>
            </p:blipFill>
            <p:spPr>
              <a:xfrm>
                <a:off x="1996560" y="191736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Picture 8" descr=""/>
              <p:cNvPicPr/>
              <p:nvPr/>
            </p:nvPicPr>
            <p:blipFill>
              <a:blip r:embed="rId6"/>
              <a:stretch/>
            </p:blipFill>
            <p:spPr>
              <a:xfrm>
                <a:off x="5650200" y="1868040"/>
                <a:ext cx="143424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9" descr=""/>
              <p:cNvPicPr/>
              <p:nvPr/>
            </p:nvPicPr>
            <p:blipFill>
              <a:blip r:embed="rId7"/>
              <a:stretch/>
            </p:blipFill>
            <p:spPr>
              <a:xfrm>
                <a:off x="5899320" y="4435560"/>
                <a:ext cx="1470960" cy="120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1" name="Picture 10" descr=""/>
            <p:cNvPicPr/>
            <p:nvPr/>
          </p:nvPicPr>
          <p:blipFill>
            <a:blip r:embed="rId8"/>
            <a:stretch/>
          </p:blipFill>
          <p:spPr>
            <a:xfrm>
              <a:off x="4052880" y="1512720"/>
              <a:ext cx="103824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1"/>
          <p:cNvGrpSpPr/>
          <p:nvPr/>
        </p:nvGrpSpPr>
        <p:grpSpPr>
          <a:xfrm>
            <a:off x="2889360" y="2154240"/>
            <a:ext cx="3362040" cy="3362400"/>
            <a:chOff x="2889360" y="2154240"/>
            <a:chExt cx="3362040" cy="3362400"/>
          </a:xfrm>
        </p:grpSpPr>
        <p:pic>
          <p:nvPicPr>
            <p:cNvPr id="123" name="Picture 12" descr=""/>
            <p:cNvPicPr/>
            <p:nvPr/>
          </p:nvPicPr>
          <p:blipFill>
            <a:blip r:embed="rId9"/>
            <a:stretch/>
          </p:blipFill>
          <p:spPr>
            <a:xfrm>
              <a:off x="2889360" y="2154240"/>
              <a:ext cx="3362040" cy="33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3" descr=""/>
            <p:cNvPicPr/>
            <p:nvPr/>
          </p:nvPicPr>
          <p:blipFill>
            <a:blip r:embed="rId10"/>
            <a:stretch/>
          </p:blipFill>
          <p:spPr>
            <a:xfrm>
              <a:off x="5469120" y="3067920"/>
              <a:ext cx="555120" cy="177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4" descr=""/>
            <p:cNvPicPr/>
            <p:nvPr/>
          </p:nvPicPr>
          <p:blipFill>
            <a:blip r:embed="rId11"/>
            <a:stretch/>
          </p:blipFill>
          <p:spPr>
            <a:xfrm>
              <a:off x="3958560" y="2523600"/>
              <a:ext cx="1224720" cy="2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5" descr=""/>
            <p:cNvPicPr/>
            <p:nvPr/>
          </p:nvPicPr>
          <p:blipFill>
            <a:blip r:embed="rId12"/>
            <a:stretch/>
          </p:blipFill>
          <p:spPr>
            <a:xfrm>
              <a:off x="3099960" y="3156840"/>
              <a:ext cx="528480" cy="1591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Group 16"/>
            <p:cNvGrpSpPr/>
            <p:nvPr/>
          </p:nvGrpSpPr>
          <p:grpSpPr>
            <a:xfrm>
              <a:off x="3579120" y="4551840"/>
              <a:ext cx="838800" cy="568080"/>
              <a:chOff x="3579120" y="4551840"/>
              <a:chExt cx="838800" cy="568080"/>
            </a:xfrm>
          </p:grpSpPr>
          <p:pic>
            <p:nvPicPr>
              <p:cNvPr id="128" name="Picture 17" descr=""/>
              <p:cNvPicPr/>
              <p:nvPr/>
            </p:nvPicPr>
            <p:blipFill>
              <a:blip r:embed="rId13"/>
              <a:stretch/>
            </p:blipFill>
            <p:spPr>
              <a:xfrm>
                <a:off x="3579120" y="4551840"/>
                <a:ext cx="476280" cy="56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8" descr=""/>
              <p:cNvPicPr/>
              <p:nvPr/>
            </p:nvPicPr>
            <p:blipFill>
              <a:blip r:embed="rId14"/>
              <a:stretch/>
            </p:blipFill>
            <p:spPr>
              <a:xfrm>
                <a:off x="3941640" y="4551840"/>
                <a:ext cx="476280" cy="56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9" descr=""/>
              <p:cNvPicPr/>
              <p:nvPr/>
            </p:nvPicPr>
            <p:blipFill>
              <a:blip r:embed="rId15"/>
              <a:stretch/>
            </p:blipFill>
            <p:spPr>
              <a:xfrm>
                <a:off x="3717000" y="4596120"/>
                <a:ext cx="655200" cy="145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Group 20"/>
            <p:cNvGrpSpPr/>
            <p:nvPr/>
          </p:nvGrpSpPr>
          <p:grpSpPr>
            <a:xfrm>
              <a:off x="3357360" y="2639520"/>
              <a:ext cx="973440" cy="750240"/>
              <a:chOff x="3357360" y="2639520"/>
              <a:chExt cx="973440" cy="750240"/>
            </a:xfrm>
          </p:grpSpPr>
          <p:grpSp>
            <p:nvGrpSpPr>
              <p:cNvPr id="132" name="Group 21"/>
              <p:cNvGrpSpPr/>
              <p:nvPr/>
            </p:nvGrpSpPr>
            <p:grpSpPr>
              <a:xfrm>
                <a:off x="3357360" y="2639520"/>
                <a:ext cx="600840" cy="699480"/>
                <a:chOff x="3357360" y="2639520"/>
                <a:chExt cx="600840" cy="699480"/>
              </a:xfrm>
            </p:grpSpPr>
            <p:pic>
              <p:nvPicPr>
                <p:cNvPr id="133" name="Picture 2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357360" y="2639520"/>
                  <a:ext cx="600840" cy="69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467520" y="2934720"/>
                  <a:ext cx="382680" cy="24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5" name="Group 24"/>
              <p:cNvGrpSpPr/>
              <p:nvPr/>
            </p:nvGrpSpPr>
            <p:grpSpPr>
              <a:xfrm>
                <a:off x="3729960" y="2688840"/>
                <a:ext cx="600840" cy="700920"/>
                <a:chOff x="3729960" y="2688840"/>
                <a:chExt cx="600840" cy="700920"/>
              </a:xfrm>
            </p:grpSpPr>
            <p:pic>
              <p:nvPicPr>
                <p:cNvPr id="136" name="Picture 2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729960" y="2688840"/>
                  <a:ext cx="600840" cy="70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26" descr=""/>
                <p:cNvPicPr/>
                <p:nvPr/>
              </p:nvPicPr>
              <p:blipFill>
                <a:blip r:embed="rId19">
                  <a:lum contrast="12000"/>
                </a:blip>
                <a:stretch/>
              </p:blipFill>
              <p:spPr>
                <a:xfrm>
                  <a:off x="3819600" y="3020400"/>
                  <a:ext cx="422280" cy="142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8" name="Group 27"/>
            <p:cNvGrpSpPr/>
            <p:nvPr/>
          </p:nvGrpSpPr>
          <p:grpSpPr>
            <a:xfrm>
              <a:off x="5208840" y="3264840"/>
              <a:ext cx="555120" cy="905760"/>
              <a:chOff x="5208840" y="3264840"/>
              <a:chExt cx="555120" cy="905760"/>
            </a:xfrm>
          </p:grpSpPr>
          <p:pic>
            <p:nvPicPr>
              <p:cNvPr id="139" name="Picture 2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208840" y="3264840"/>
                <a:ext cx="55512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29" descr=""/>
              <p:cNvPicPr/>
              <p:nvPr/>
            </p:nvPicPr>
            <p:blipFill>
              <a:blip r:embed="rId21"/>
              <a:stretch/>
            </p:blipFill>
            <p:spPr>
              <a:xfrm>
                <a:off x="5244840" y="3402360"/>
                <a:ext cx="282600" cy="254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" name="Group 30"/>
            <p:cNvGrpSpPr/>
            <p:nvPr/>
          </p:nvGrpSpPr>
          <p:grpSpPr>
            <a:xfrm>
              <a:off x="5245200" y="3671280"/>
              <a:ext cx="567720" cy="905760"/>
              <a:chOff x="5245200" y="3671280"/>
              <a:chExt cx="567720" cy="905760"/>
            </a:xfrm>
          </p:grpSpPr>
          <p:pic>
            <p:nvPicPr>
              <p:cNvPr id="142" name="Picture 31" descr=""/>
              <p:cNvPicPr/>
              <p:nvPr/>
            </p:nvPicPr>
            <p:blipFill>
              <a:blip r:embed="rId22"/>
              <a:stretch/>
            </p:blipFill>
            <p:spPr>
              <a:xfrm>
                <a:off x="5257440" y="3671280"/>
                <a:ext cx="55548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Picture 32" descr=""/>
              <p:cNvPicPr/>
              <p:nvPr/>
            </p:nvPicPr>
            <p:blipFill>
              <a:blip r:embed="rId23"/>
              <a:stretch/>
            </p:blipFill>
            <p:spPr>
              <a:xfrm>
                <a:off x="5245200" y="3846600"/>
                <a:ext cx="282960" cy="253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4" name="Text Box 33"/>
          <p:cNvSpPr/>
          <p:nvPr/>
        </p:nvSpPr>
        <p:spPr>
          <a:xfrm>
            <a:off x="1908000" y="40464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0b95d"/>
                </a:solidFill>
                <a:latin typeface="Verdana"/>
              </a:rPr>
              <a:t>Omge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4"/>
          <p:cNvGrpSpPr/>
          <p:nvPr/>
        </p:nvGrpSpPr>
        <p:grpSpPr>
          <a:xfrm>
            <a:off x="3711600" y="3030480"/>
            <a:ext cx="1716120" cy="1716120"/>
            <a:chOff x="3711600" y="3030480"/>
            <a:chExt cx="1716120" cy="1716120"/>
          </a:xfrm>
        </p:grpSpPr>
        <p:pic>
          <p:nvPicPr>
            <p:cNvPr id="146" name="Picture 35" descr=""/>
            <p:cNvPicPr/>
            <p:nvPr/>
          </p:nvPicPr>
          <p:blipFill>
            <a:blip r:embed="rId24"/>
            <a:stretch/>
          </p:blipFill>
          <p:spPr>
            <a:xfrm>
              <a:off x="3711600" y="3030480"/>
              <a:ext cx="1716120" cy="17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6" descr=""/>
            <p:cNvPicPr/>
            <p:nvPr/>
          </p:nvPicPr>
          <p:blipFill>
            <a:blip r:embed="rId25"/>
            <a:stretch/>
          </p:blipFill>
          <p:spPr>
            <a:xfrm>
              <a:off x="4111200" y="3431880"/>
              <a:ext cx="956160" cy="23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7" descr=""/>
            <p:cNvPicPr/>
            <p:nvPr/>
          </p:nvPicPr>
          <p:blipFill>
            <a:blip r:embed="rId26"/>
            <a:stretch/>
          </p:blipFill>
          <p:spPr>
            <a:xfrm>
              <a:off x="4149000" y="3621960"/>
              <a:ext cx="941760" cy="94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38" descr=""/>
            <p:cNvPicPr/>
            <p:nvPr/>
          </p:nvPicPr>
          <p:blipFill>
            <a:blip r:embed="rId27"/>
            <a:stretch/>
          </p:blipFill>
          <p:spPr>
            <a:xfrm>
              <a:off x="3879360" y="3691800"/>
              <a:ext cx="486720" cy="66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39" descr=""/>
            <p:cNvPicPr/>
            <p:nvPr/>
          </p:nvPicPr>
          <p:blipFill>
            <a:blip r:embed="rId28"/>
            <a:stretch/>
          </p:blipFill>
          <p:spPr>
            <a:xfrm>
              <a:off x="4693320" y="4032720"/>
              <a:ext cx="502200" cy="550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2920" y="1391760"/>
            <a:ext cx="7201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0b95d"/>
                </a:solidFill>
                <a:latin typeface="Verdana"/>
              </a:rPr>
              <a:t>bijvoorbeeld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1187280" y="1773360"/>
            <a:ext cx="7343640" cy="4987440"/>
            <a:chOff x="1187280" y="1773360"/>
            <a:chExt cx="7343640" cy="4987440"/>
          </a:xfrm>
        </p:grpSpPr>
        <p:pic>
          <p:nvPicPr>
            <p:cNvPr id="153" name="Picture 3" descr=""/>
            <p:cNvPicPr/>
            <p:nvPr/>
          </p:nvPicPr>
          <p:blipFill>
            <a:blip r:embed="rId1"/>
            <a:stretch/>
          </p:blipFill>
          <p:spPr>
            <a:xfrm>
              <a:off x="1258560" y="1888920"/>
              <a:ext cx="6336000" cy="48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4"/>
            <p:cNvSpPr/>
            <p:nvPr/>
          </p:nvSpPr>
          <p:spPr>
            <a:xfrm>
              <a:off x="1187280" y="3141000"/>
              <a:ext cx="18727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Sociale 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"/>
            <p:cNvSpPr/>
            <p:nvPr/>
          </p:nvSpPr>
          <p:spPr>
            <a:xfrm>
              <a:off x="6226560" y="4580280"/>
              <a:ext cx="1872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urger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2268000" y="1773360"/>
              <a:ext cx="27363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Ruimtelijke orden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3058560" y="2349000"/>
              <a:ext cx="791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I&amp;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3199680" y="3656880"/>
              <a:ext cx="24472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ouw &amp; Won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3707640" y="4723200"/>
              <a:ext cx="2086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Personeels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2268000" y="5659560"/>
              <a:ext cx="2376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Planning &amp; Contro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6586920" y="5588280"/>
              <a:ext cx="1944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estuurs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834920" y="6235920"/>
              <a:ext cx="7916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DIV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5469480" y="1915920"/>
              <a:ext cx="291060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Vergunning &amp; Handhav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02920" y="1362240"/>
            <a:ext cx="720108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0b95d"/>
                </a:solidFill>
                <a:latin typeface="Verdana"/>
              </a:rPr>
              <a:t>Basisarchitectuur</a:t>
            </a:r>
            <a:endParaRPr b="1" lang="en-US" sz="24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900000" y="1886040"/>
            <a:ext cx="6696360" cy="49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72043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0b95d"/>
                </a:solidFill>
                <a:latin typeface="Verdana"/>
              </a:rPr>
              <a:t>Inrichting overheid als geheel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28840" y="1989000"/>
            <a:ext cx="73944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463680" y="1125360"/>
            <a:ext cx="828504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KCC light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2124000" y="2708280"/>
            <a:ext cx="792360" cy="331308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3313080"/>
              <a:gd name="textAreaBottom" fmla="*/ 3274560 h 3313080"/>
            </a:gdLst>
            <a:ahLst/>
            <a:rect l="textAreaLeft" t="textAreaTop" r="textAreaRight" b="textAreaBottom"/>
            <a:pathLst>
              <a:path w="21600" h="90284">
                <a:moveTo>
                  <a:pt x="3600" y="0"/>
                </a:moveTo>
                <a:arcTo wR="3600" hR="3600" stAng="16200000" swAng="-5400000"/>
                <a:lnTo>
                  <a:pt x="0" y="86684"/>
                </a:lnTo>
                <a:arcTo wR="3600" hR="3600" stAng="10800000" swAng="-5400000"/>
                <a:lnTo>
                  <a:pt x="18000" y="902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4284720" y="2708280"/>
            <a:ext cx="4032360" cy="3313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kafdel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179280" y="2997360"/>
            <a:ext cx="1800360" cy="1439640"/>
          </a:xfrm>
          <a:prstGeom prst="wedgeRectCallout">
            <a:avLst>
              <a:gd name="adj1" fmla="val 57143"/>
              <a:gd name="adj2" fmla="val 830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erste klant-contact, lichte intake, alle kana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2987640" y="4076640"/>
            <a:ext cx="1295280" cy="720720"/>
          </a:xfrm>
          <a:prstGeom prst="leftRightArrow">
            <a:avLst>
              <a:gd name="adj1" fmla="val 50000"/>
              <a:gd name="adj2" fmla="val 357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58920" y="1628640"/>
            <a:ext cx="2592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900000" y="1268280"/>
            <a:ext cx="3167280" cy="5040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ont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572000" y="1268280"/>
            <a:ext cx="4176720" cy="5040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d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1619280" y="141300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-loket/P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6659640" y="1413000"/>
            <a:ext cx="1944720" cy="1584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aaksyste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6732720" y="4076640"/>
            <a:ext cx="1873080" cy="1657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MS/R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4716360" y="4076640"/>
            <a:ext cx="1873440" cy="1657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gevens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ga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4643280" y="1413000"/>
            <a:ext cx="1872000" cy="1584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ake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ga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619280" y="227664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ennisba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1619280" y="31417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3"/>
          <p:cNvSpPr/>
          <p:nvPr/>
        </p:nvSpPr>
        <p:spPr>
          <a:xfrm>
            <a:off x="1619280" y="407664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4"/>
          <p:cNvSpPr/>
          <p:nvPr/>
        </p:nvSpPr>
        <p:spPr>
          <a:xfrm>
            <a:off x="1619280" y="501336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1692360" y="549360"/>
            <a:ext cx="720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90b95d"/>
                </a:solidFill>
                <a:latin typeface="Verdana"/>
              </a:rPr>
              <a:t>Functies in front en mid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4716360" y="321300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iceb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7"/>
          <p:cNvSpPr/>
          <p:nvPr/>
        </p:nvSpPr>
        <p:spPr>
          <a:xfrm>
            <a:off x="6732720" y="321300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TC/D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56360" y="764640"/>
            <a:ext cx="172872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800" spc="-1" strike="noStrike">
                <a:solidFill>
                  <a:srgbClr val="90b95d"/>
                </a:solidFill>
                <a:latin typeface="Verdana"/>
              </a:rPr>
              <a:t>Bron: raad.delft.nl</a:t>
            </a:r>
            <a:endParaRPr b="1" lang="en-US" sz="8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7870680" cy="53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826920" y="1668600"/>
            <a:ext cx="720108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868320" y="981000"/>
            <a:ext cx="788040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Verdana"/>
              </a:rPr>
              <a:t>Zijn er meer modellen / organisatievormen te verzinnen?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84872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85080" y="260280"/>
            <a:ext cx="107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800" spc="-1" strike="noStrike">
                <a:solidFill>
                  <a:srgbClr val="90b95d"/>
                </a:solidFill>
                <a:latin typeface="Verdana"/>
              </a:rPr>
              <a:t>www.raalte.nl</a:t>
            </a:r>
            <a:endParaRPr b="1" lang="en-US" sz="8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530280" y="976320"/>
            <a:ext cx="828972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190520" y="1125360"/>
            <a:ext cx="77742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Overheid, samenleving en informatie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relse, J. (Jack)</dc:creator>
  <dc:description/>
  <dc:language>en-US</dc:language>
  <cp:lastModifiedBy>Karelse, J. (Jack)</cp:lastModifiedBy>
  <dcterms:modified xsi:type="dcterms:W3CDTF">2012-03-21T10:45:35Z</dcterms:modified>
  <cp:revision>8</cp:revision>
  <dc:subject/>
  <dc:title>Dia 1</dc:title>
</cp:coreProperties>
</file>