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B6B8-B8ED-49C6-8C84-8F73453B5E9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275D-3794-4631-A126-691CD0B8B9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67F50BB5-5D5E-4634-8196-53658D6D7159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informatie, verantwoording of bewijs binnen werkpro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belang bedrijfsvoering / geldende selectie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welke metadata / digitale duurzaam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autoris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pslaan en beschrijv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ar(in) worden documenten opgeslag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gegevens worden vastgelegd en door wi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kennen jull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worden gebruikt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hronolog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Alfabe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Numer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ystema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nderwer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bject, subjec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werkproc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Zaakgerich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Selecteren, Verwijderen en Bewa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 aan de hand van selectielijs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: Plich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vang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Beschikbaarstellen!!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ie mag er wat raadplegen, wijzigen, verwijde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nneer wordt wat gepubliceerd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 vinden gebruikers de voor hen relevante informatie en document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lleen archiefstukken/record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of ook overige informat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Recordkeeping processen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Recordkeeping processen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astleggen/verwer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a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rde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rij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nalyse wet- en regelgeving, eisen bedrijfsvoering en verantwoording, risico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zie hierv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archief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rchiefstuk/maker/context, plaats in systeem en relatie met andere stukk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doel: bewijs leveren dat stuk is opgemaakt of opgenomen in 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classificatie activiteiten, leggen van koppelingen, indexe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juiste media en bewaarcond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ie verkrijgt toegang, onder welke voorwaard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gen verplaatsen en gebruik van archiefstukken, voortgangsbew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systematische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overbreng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bevoegdheden, beslissingen en keu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ordt voldaan aan de gestelde eis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doet systeem aan verwachtingen (evaluatie, bijstelling)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leid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permanent programma voor opleiding voor iedere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Vastleggen, vangen (capture)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et identificeren van document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aken van de keuze of een document in de collect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oet worden opgen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2-03-21T12:27:35Z</dcterms:modified>
  <cp:revision>38</cp:revision>
  <dc:subject/>
  <dc:title>Dia 1</dc:title>
</cp:coreProperties>
</file>