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9.png" ContentType="image/png"/>
  <Override PartName="/ppt/media/image39.png" ContentType="image/png"/>
  <Override PartName="/ppt/media/image25.png" ContentType="image/png"/>
  <Override PartName="/ppt/media/image10.wmf" ContentType="image/x-wmf"/>
  <Override PartName="/ppt/media/image31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33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32C1E-CF8D-47DD-8391-AC755E29B3B1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0B2D5-9627-43CC-A321-97779345CAC6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44E7A-ECAE-41B9-B8F2-CD8BD194398E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692280" y="7556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99254-49AA-4418-97C6-52300D7D7CBF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8524D-CF22-4E70-B615-DD4CED98F8ED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F80E9A-DAFD-4C9C-B9E7-C137917BB4E9}" type="slidenum">
              <a:rPr b="0" lang="en-GB" sz="11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89880-D246-45B5-8E15-B7887E8CDE9C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F7752-248E-4ACE-9108-1D078D81608F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Werkprocessen zijn vaak niet gebonden aan de diverse eilanden (afdelingen/sectoren) die binnen de organisatie besta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AAD2E-3158-4A9E-B306-0441F2FC9AD8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E625B-E5FF-40EC-B3DB-650D8AE8C017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5F988-B831-44EF-B276-A0A2CA246571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3FAB7-5505-4ABA-B83C-2D54AADE9B25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82D21-4FD9-4F35-8C4B-C606624CAF57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C276A-3103-4597-811B-C28902DA623E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755D07-F2D4-4232-96B1-9902C05B1060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B5F81-B8F0-44C6-8CFB-81C714AF504D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46050-EF6F-43D7-9B6D-AFE1745B0B8A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910BD-1C4D-44CF-8F23-7B0CDE7BAADE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1532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2724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2564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2724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2564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403280" y="1239840"/>
            <a:ext cx="719928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21532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21532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2724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2564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92724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42564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403280" y="1239840"/>
            <a:ext cx="719928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1532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45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7000"/>
              </a:lnSpc>
              <a:spcBef>
                <a:spcPts val="45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7000"/>
              </a:lnSpc>
              <a:spcBef>
                <a:spcPts val="45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7129440" y="5373720"/>
            <a:ext cx="16192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Pagina </a:t>
            </a:r>
            <a:fld id="{58CEFCD2-EA57-4250-8DCE-727CB40928F8}" type="slidenum">
              <a:rPr b="0" lang="en-GB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58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59850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5.png"/><Relationship Id="rId19" Type="http://schemas.openxmlformats.org/officeDocument/2006/relationships/image" Target="../media/image27.png"/><Relationship Id="rId20" Type="http://schemas.openxmlformats.org/officeDocument/2006/relationships/image" Target="../media/image28.png"/><Relationship Id="rId21" Type="http://schemas.openxmlformats.org/officeDocument/2006/relationships/image" Target="../media/image29.png"/><Relationship Id="rId22" Type="http://schemas.openxmlformats.org/officeDocument/2006/relationships/image" Target="../media/image28.png"/><Relationship Id="rId23" Type="http://schemas.openxmlformats.org/officeDocument/2006/relationships/image" Target="../media/image30.png"/><Relationship Id="rId24" Type="http://schemas.openxmlformats.org/officeDocument/2006/relationships/image" Target="../media/image31.png"/><Relationship Id="rId25" Type="http://schemas.openxmlformats.org/officeDocument/2006/relationships/image" Target="../media/image32.png"/><Relationship Id="rId26" Type="http://schemas.openxmlformats.org/officeDocument/2006/relationships/image" Target="../media/image33.png"/><Relationship Id="rId27" Type="http://schemas.openxmlformats.org/officeDocument/2006/relationships/image" Target="../media/image34.png"/><Relationship Id="rId28" Type="http://schemas.openxmlformats.org/officeDocument/2006/relationships/image" Target="../media/image35.png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02920" y="1407600"/>
            <a:ext cx="7201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90b95d"/>
                </a:solidFill>
                <a:latin typeface="Verdana"/>
              </a:rPr>
              <a:t>Organisaties in verschillende vormen</a:t>
            </a:r>
            <a:endParaRPr b="1" lang="en-US" sz="18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692360" y="1184400"/>
            <a:ext cx="613080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1"/>
          <p:cNvGrpSpPr/>
          <p:nvPr/>
        </p:nvGrpSpPr>
        <p:grpSpPr>
          <a:xfrm>
            <a:off x="1552680" y="1125360"/>
            <a:ext cx="6057360" cy="5295960"/>
            <a:chOff x="1552680" y="1125360"/>
            <a:chExt cx="6057360" cy="5295960"/>
          </a:xfrm>
        </p:grpSpPr>
        <p:grpSp>
          <p:nvGrpSpPr>
            <p:cNvPr id="113" name="Group 2"/>
            <p:cNvGrpSpPr/>
            <p:nvPr/>
          </p:nvGrpSpPr>
          <p:grpSpPr>
            <a:xfrm>
              <a:off x="1552680" y="1125360"/>
              <a:ext cx="6057360" cy="5295960"/>
              <a:chOff x="1552680" y="1125360"/>
              <a:chExt cx="6057360" cy="5295960"/>
            </a:xfrm>
          </p:grpSpPr>
          <p:pic>
            <p:nvPicPr>
              <p:cNvPr id="114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922040" y="1125360"/>
                <a:ext cx="5295600" cy="529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Pictur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6175440" y="3202920"/>
                <a:ext cx="1434600" cy="106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1969560" y="4648320"/>
                <a:ext cx="1434600" cy="106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Picture 6" descr=""/>
              <p:cNvPicPr/>
              <p:nvPr/>
            </p:nvPicPr>
            <p:blipFill>
              <a:blip r:embed="rId4"/>
              <a:stretch/>
            </p:blipFill>
            <p:spPr>
              <a:xfrm>
                <a:off x="1552680" y="3288240"/>
                <a:ext cx="1434240" cy="106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Picture 7" descr=""/>
              <p:cNvPicPr/>
              <p:nvPr/>
            </p:nvPicPr>
            <p:blipFill>
              <a:blip r:embed="rId5"/>
              <a:stretch/>
            </p:blipFill>
            <p:spPr>
              <a:xfrm>
                <a:off x="1996560" y="1917360"/>
                <a:ext cx="1434600" cy="106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Picture 8" descr=""/>
              <p:cNvPicPr/>
              <p:nvPr/>
            </p:nvPicPr>
            <p:blipFill>
              <a:blip r:embed="rId6"/>
              <a:stretch/>
            </p:blipFill>
            <p:spPr>
              <a:xfrm>
                <a:off x="5650200" y="1868040"/>
                <a:ext cx="1434240" cy="106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Picture 9" descr=""/>
              <p:cNvPicPr/>
              <p:nvPr/>
            </p:nvPicPr>
            <p:blipFill>
              <a:blip r:embed="rId7"/>
              <a:stretch/>
            </p:blipFill>
            <p:spPr>
              <a:xfrm>
                <a:off x="5899320" y="4435560"/>
                <a:ext cx="1470960" cy="120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1" name="Picture 10" descr=""/>
            <p:cNvPicPr/>
            <p:nvPr/>
          </p:nvPicPr>
          <p:blipFill>
            <a:blip r:embed="rId8"/>
            <a:stretch/>
          </p:blipFill>
          <p:spPr>
            <a:xfrm>
              <a:off x="4052880" y="1512720"/>
              <a:ext cx="1038240" cy="2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Group 11"/>
          <p:cNvGrpSpPr/>
          <p:nvPr/>
        </p:nvGrpSpPr>
        <p:grpSpPr>
          <a:xfrm>
            <a:off x="2889360" y="2154240"/>
            <a:ext cx="3362040" cy="3362400"/>
            <a:chOff x="2889360" y="2154240"/>
            <a:chExt cx="3362040" cy="3362400"/>
          </a:xfrm>
        </p:grpSpPr>
        <p:pic>
          <p:nvPicPr>
            <p:cNvPr id="123" name="Picture 12" descr=""/>
            <p:cNvPicPr/>
            <p:nvPr/>
          </p:nvPicPr>
          <p:blipFill>
            <a:blip r:embed="rId9"/>
            <a:stretch/>
          </p:blipFill>
          <p:spPr>
            <a:xfrm>
              <a:off x="2889360" y="2154240"/>
              <a:ext cx="3362040" cy="33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13" descr=""/>
            <p:cNvPicPr/>
            <p:nvPr/>
          </p:nvPicPr>
          <p:blipFill>
            <a:blip r:embed="rId10"/>
            <a:stretch/>
          </p:blipFill>
          <p:spPr>
            <a:xfrm>
              <a:off x="5469120" y="3067920"/>
              <a:ext cx="555120" cy="177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14" descr=""/>
            <p:cNvPicPr/>
            <p:nvPr/>
          </p:nvPicPr>
          <p:blipFill>
            <a:blip r:embed="rId11"/>
            <a:stretch/>
          </p:blipFill>
          <p:spPr>
            <a:xfrm>
              <a:off x="3958560" y="2523600"/>
              <a:ext cx="1224720" cy="2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5" descr=""/>
            <p:cNvPicPr/>
            <p:nvPr/>
          </p:nvPicPr>
          <p:blipFill>
            <a:blip r:embed="rId12"/>
            <a:stretch/>
          </p:blipFill>
          <p:spPr>
            <a:xfrm>
              <a:off x="3099960" y="3156840"/>
              <a:ext cx="528480" cy="1591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" name="Group 16"/>
            <p:cNvGrpSpPr/>
            <p:nvPr/>
          </p:nvGrpSpPr>
          <p:grpSpPr>
            <a:xfrm>
              <a:off x="3579120" y="4551840"/>
              <a:ext cx="838800" cy="568080"/>
              <a:chOff x="3579120" y="4551840"/>
              <a:chExt cx="838800" cy="568080"/>
            </a:xfrm>
          </p:grpSpPr>
          <p:pic>
            <p:nvPicPr>
              <p:cNvPr id="128" name="Picture 17" descr=""/>
              <p:cNvPicPr/>
              <p:nvPr/>
            </p:nvPicPr>
            <p:blipFill>
              <a:blip r:embed="rId13"/>
              <a:stretch/>
            </p:blipFill>
            <p:spPr>
              <a:xfrm>
                <a:off x="3579120" y="4551840"/>
                <a:ext cx="476280" cy="56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Picture 18" descr=""/>
              <p:cNvPicPr/>
              <p:nvPr/>
            </p:nvPicPr>
            <p:blipFill>
              <a:blip r:embed="rId14"/>
              <a:stretch/>
            </p:blipFill>
            <p:spPr>
              <a:xfrm>
                <a:off x="3941640" y="4551840"/>
                <a:ext cx="476280" cy="56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Picture 19" descr=""/>
              <p:cNvPicPr/>
              <p:nvPr/>
            </p:nvPicPr>
            <p:blipFill>
              <a:blip r:embed="rId15"/>
              <a:stretch/>
            </p:blipFill>
            <p:spPr>
              <a:xfrm>
                <a:off x="3717000" y="4596120"/>
                <a:ext cx="655200" cy="145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1" name="Group 20"/>
            <p:cNvGrpSpPr/>
            <p:nvPr/>
          </p:nvGrpSpPr>
          <p:grpSpPr>
            <a:xfrm>
              <a:off x="3357360" y="2639520"/>
              <a:ext cx="973440" cy="750240"/>
              <a:chOff x="3357360" y="2639520"/>
              <a:chExt cx="973440" cy="750240"/>
            </a:xfrm>
          </p:grpSpPr>
          <p:grpSp>
            <p:nvGrpSpPr>
              <p:cNvPr id="132" name="Group 21"/>
              <p:cNvGrpSpPr/>
              <p:nvPr/>
            </p:nvGrpSpPr>
            <p:grpSpPr>
              <a:xfrm>
                <a:off x="3357360" y="2639520"/>
                <a:ext cx="600840" cy="699480"/>
                <a:chOff x="3357360" y="2639520"/>
                <a:chExt cx="600840" cy="699480"/>
              </a:xfrm>
            </p:grpSpPr>
            <p:pic>
              <p:nvPicPr>
                <p:cNvPr id="133" name="Picture 2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357360" y="2639520"/>
                  <a:ext cx="600840" cy="699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467520" y="2934720"/>
                  <a:ext cx="382680" cy="246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5" name="Group 24"/>
              <p:cNvGrpSpPr/>
              <p:nvPr/>
            </p:nvGrpSpPr>
            <p:grpSpPr>
              <a:xfrm>
                <a:off x="3729960" y="2688840"/>
                <a:ext cx="600840" cy="700920"/>
                <a:chOff x="3729960" y="2688840"/>
                <a:chExt cx="600840" cy="700920"/>
              </a:xfrm>
            </p:grpSpPr>
            <p:pic>
              <p:nvPicPr>
                <p:cNvPr id="136" name="Picture 2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729960" y="2688840"/>
                  <a:ext cx="600840" cy="700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26" descr=""/>
                <p:cNvPicPr/>
                <p:nvPr/>
              </p:nvPicPr>
              <p:blipFill>
                <a:blip r:embed="rId19">
                  <a:lum contrast="12000"/>
                </a:blip>
                <a:stretch/>
              </p:blipFill>
              <p:spPr>
                <a:xfrm>
                  <a:off x="3819600" y="3020400"/>
                  <a:ext cx="422280" cy="142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38" name="Group 27"/>
            <p:cNvGrpSpPr/>
            <p:nvPr/>
          </p:nvGrpSpPr>
          <p:grpSpPr>
            <a:xfrm>
              <a:off x="5208840" y="3264840"/>
              <a:ext cx="555120" cy="905760"/>
              <a:chOff x="5208840" y="3264840"/>
              <a:chExt cx="555120" cy="905760"/>
            </a:xfrm>
          </p:grpSpPr>
          <p:pic>
            <p:nvPicPr>
              <p:cNvPr id="139" name="Picture 28" descr=""/>
              <p:cNvPicPr/>
              <p:nvPr/>
            </p:nvPicPr>
            <p:blipFill>
              <a:blip r:embed="rId20"/>
              <a:stretch/>
            </p:blipFill>
            <p:spPr>
              <a:xfrm>
                <a:off x="5208840" y="3264840"/>
                <a:ext cx="555120" cy="90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Picture 29" descr=""/>
              <p:cNvPicPr/>
              <p:nvPr/>
            </p:nvPicPr>
            <p:blipFill>
              <a:blip r:embed="rId21"/>
              <a:stretch/>
            </p:blipFill>
            <p:spPr>
              <a:xfrm>
                <a:off x="5244840" y="3402360"/>
                <a:ext cx="282600" cy="254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1" name="Group 30"/>
            <p:cNvGrpSpPr/>
            <p:nvPr/>
          </p:nvGrpSpPr>
          <p:grpSpPr>
            <a:xfrm>
              <a:off x="5245200" y="3671280"/>
              <a:ext cx="567720" cy="905760"/>
              <a:chOff x="5245200" y="3671280"/>
              <a:chExt cx="567720" cy="905760"/>
            </a:xfrm>
          </p:grpSpPr>
          <p:pic>
            <p:nvPicPr>
              <p:cNvPr id="142" name="Picture 31" descr=""/>
              <p:cNvPicPr/>
              <p:nvPr/>
            </p:nvPicPr>
            <p:blipFill>
              <a:blip r:embed="rId22"/>
              <a:stretch/>
            </p:blipFill>
            <p:spPr>
              <a:xfrm>
                <a:off x="5257440" y="3671280"/>
                <a:ext cx="555480" cy="90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Picture 32" descr=""/>
              <p:cNvPicPr/>
              <p:nvPr/>
            </p:nvPicPr>
            <p:blipFill>
              <a:blip r:embed="rId23"/>
              <a:stretch/>
            </p:blipFill>
            <p:spPr>
              <a:xfrm>
                <a:off x="5245200" y="3846600"/>
                <a:ext cx="282960" cy="253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4" name="Text Box 33"/>
          <p:cNvSpPr/>
          <p:nvPr/>
        </p:nvSpPr>
        <p:spPr>
          <a:xfrm>
            <a:off x="1908000" y="404640"/>
            <a:ext cx="62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0b95d"/>
                </a:solidFill>
                <a:latin typeface="Verdana"/>
              </a:rPr>
              <a:t>Omge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34"/>
          <p:cNvGrpSpPr/>
          <p:nvPr/>
        </p:nvGrpSpPr>
        <p:grpSpPr>
          <a:xfrm>
            <a:off x="3711600" y="3030480"/>
            <a:ext cx="1716120" cy="1716120"/>
            <a:chOff x="3711600" y="3030480"/>
            <a:chExt cx="1716120" cy="1716120"/>
          </a:xfrm>
        </p:grpSpPr>
        <p:pic>
          <p:nvPicPr>
            <p:cNvPr id="146" name="Picture 35" descr=""/>
            <p:cNvPicPr/>
            <p:nvPr/>
          </p:nvPicPr>
          <p:blipFill>
            <a:blip r:embed="rId24"/>
            <a:stretch/>
          </p:blipFill>
          <p:spPr>
            <a:xfrm>
              <a:off x="3711600" y="3030480"/>
              <a:ext cx="1716120" cy="17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36" descr=""/>
            <p:cNvPicPr/>
            <p:nvPr/>
          </p:nvPicPr>
          <p:blipFill>
            <a:blip r:embed="rId25"/>
            <a:stretch/>
          </p:blipFill>
          <p:spPr>
            <a:xfrm>
              <a:off x="4111200" y="3431880"/>
              <a:ext cx="956160" cy="23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37" descr=""/>
            <p:cNvPicPr/>
            <p:nvPr/>
          </p:nvPicPr>
          <p:blipFill>
            <a:blip r:embed="rId26"/>
            <a:stretch/>
          </p:blipFill>
          <p:spPr>
            <a:xfrm>
              <a:off x="4149000" y="3621960"/>
              <a:ext cx="941760" cy="94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38" descr=""/>
            <p:cNvPicPr/>
            <p:nvPr/>
          </p:nvPicPr>
          <p:blipFill>
            <a:blip r:embed="rId27"/>
            <a:stretch/>
          </p:blipFill>
          <p:spPr>
            <a:xfrm>
              <a:off x="3879360" y="3691800"/>
              <a:ext cx="486720" cy="66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39" descr=""/>
            <p:cNvPicPr/>
            <p:nvPr/>
          </p:nvPicPr>
          <p:blipFill>
            <a:blip r:embed="rId28"/>
            <a:stretch/>
          </p:blipFill>
          <p:spPr>
            <a:xfrm>
              <a:off x="4693320" y="4032720"/>
              <a:ext cx="502200" cy="550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2920" y="1391760"/>
            <a:ext cx="7201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90b95d"/>
                </a:solidFill>
                <a:latin typeface="Verdana"/>
              </a:rPr>
              <a:t>bijvoorbeeld</a:t>
            </a: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grpSp>
        <p:nvGrpSpPr>
          <p:cNvPr id="152" name="Group 2"/>
          <p:cNvGrpSpPr/>
          <p:nvPr/>
        </p:nvGrpSpPr>
        <p:grpSpPr>
          <a:xfrm>
            <a:off x="1187280" y="1773360"/>
            <a:ext cx="7343640" cy="4987440"/>
            <a:chOff x="1187280" y="1773360"/>
            <a:chExt cx="7343640" cy="4987440"/>
          </a:xfrm>
        </p:grpSpPr>
        <p:pic>
          <p:nvPicPr>
            <p:cNvPr id="153" name="Picture 3" descr=""/>
            <p:cNvPicPr/>
            <p:nvPr/>
          </p:nvPicPr>
          <p:blipFill>
            <a:blip r:embed="rId1"/>
            <a:stretch/>
          </p:blipFill>
          <p:spPr>
            <a:xfrm>
              <a:off x="1258560" y="1888920"/>
              <a:ext cx="6336000" cy="48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Rectangle 4"/>
            <p:cNvSpPr/>
            <p:nvPr/>
          </p:nvSpPr>
          <p:spPr>
            <a:xfrm>
              <a:off x="1187280" y="3141000"/>
              <a:ext cx="187272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Sociale zak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5"/>
            <p:cNvSpPr/>
            <p:nvPr/>
          </p:nvSpPr>
          <p:spPr>
            <a:xfrm>
              <a:off x="6226560" y="4580280"/>
              <a:ext cx="18727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Burgerzak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6"/>
            <p:cNvSpPr/>
            <p:nvPr/>
          </p:nvSpPr>
          <p:spPr>
            <a:xfrm>
              <a:off x="2268000" y="1773360"/>
              <a:ext cx="273636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Ruimtelijke ordenin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7"/>
            <p:cNvSpPr/>
            <p:nvPr/>
          </p:nvSpPr>
          <p:spPr>
            <a:xfrm>
              <a:off x="3058560" y="2349000"/>
              <a:ext cx="791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I&amp;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8"/>
            <p:cNvSpPr/>
            <p:nvPr/>
          </p:nvSpPr>
          <p:spPr>
            <a:xfrm>
              <a:off x="3199680" y="3656880"/>
              <a:ext cx="244728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Bouw &amp; Won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9"/>
            <p:cNvSpPr/>
            <p:nvPr/>
          </p:nvSpPr>
          <p:spPr>
            <a:xfrm>
              <a:off x="3707640" y="4723200"/>
              <a:ext cx="20869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Personeelszak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10"/>
            <p:cNvSpPr/>
            <p:nvPr/>
          </p:nvSpPr>
          <p:spPr>
            <a:xfrm>
              <a:off x="2268000" y="5659560"/>
              <a:ext cx="23760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Planning &amp; Contro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11"/>
            <p:cNvSpPr/>
            <p:nvPr/>
          </p:nvSpPr>
          <p:spPr>
            <a:xfrm>
              <a:off x="6586920" y="5588280"/>
              <a:ext cx="19440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Bestuurszak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12"/>
            <p:cNvSpPr/>
            <p:nvPr/>
          </p:nvSpPr>
          <p:spPr>
            <a:xfrm>
              <a:off x="1834920" y="6235920"/>
              <a:ext cx="79164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DIV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13"/>
            <p:cNvSpPr/>
            <p:nvPr/>
          </p:nvSpPr>
          <p:spPr>
            <a:xfrm>
              <a:off x="5469480" y="1915920"/>
              <a:ext cx="291060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Vergunning &amp; Handhavin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02920" y="1362240"/>
            <a:ext cx="720108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0b95d"/>
                </a:solidFill>
                <a:latin typeface="Verdana"/>
              </a:rPr>
              <a:t>Basisarchitectuur</a:t>
            </a:r>
            <a:endParaRPr b="1" lang="en-US" sz="2400" spc="-1" strike="noStrike">
              <a:solidFill>
                <a:srgbClr val="90b95d"/>
              </a:solidFill>
              <a:latin typeface="Verdana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900000" y="1886040"/>
            <a:ext cx="6696360" cy="49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720432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90b95d"/>
                </a:solidFill>
                <a:latin typeface="Verdana"/>
              </a:rPr>
              <a:t>Inrichting overheid als geheel</a:t>
            </a: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28840" y="1989000"/>
            <a:ext cx="73944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463680" y="1125360"/>
            <a:ext cx="828504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02920" y="1407600"/>
            <a:ext cx="7201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90b95d"/>
                </a:solidFill>
                <a:latin typeface="Verdana"/>
              </a:rPr>
              <a:t>KCC light</a:t>
            </a:r>
            <a:endParaRPr b="1" lang="en-US" sz="18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2124000" y="2708280"/>
            <a:ext cx="792360" cy="3313080"/>
          </a:xfrm>
          <a:custGeom>
            <a:avLst/>
            <a:gdLst>
              <a:gd name="textAreaLeft" fmla="*/ 38520 w 792360"/>
              <a:gd name="textAreaRight" fmla="*/ 753840 w 792360"/>
              <a:gd name="textAreaTop" fmla="*/ 38520 h 3313080"/>
              <a:gd name="textAreaBottom" fmla="*/ 3274560 h 3313080"/>
            </a:gdLst>
            <a:ahLst/>
            <a:rect l="textAreaLeft" t="textAreaTop" r="textAreaRight" b="textAreaBottom"/>
            <a:pathLst>
              <a:path w="21600" h="90284">
                <a:moveTo>
                  <a:pt x="3600" y="0"/>
                </a:moveTo>
                <a:arcTo wR="3600" hR="3600" stAng="16200000" swAng="-5400000"/>
                <a:lnTo>
                  <a:pt x="0" y="86684"/>
                </a:lnTo>
                <a:arcTo wR="3600" hR="3600" stAng="10800000" swAng="-5400000"/>
                <a:lnTo>
                  <a:pt x="18000" y="902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4284720" y="2708280"/>
            <a:ext cx="4032360" cy="3313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kafdelin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179280" y="2997360"/>
            <a:ext cx="1800360" cy="1439640"/>
          </a:xfrm>
          <a:prstGeom prst="wedgeRectCallout">
            <a:avLst>
              <a:gd name="adj1" fmla="val 57143"/>
              <a:gd name="adj2" fmla="val 830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erste klant-contact, lichte intake, alle kana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2987640" y="4076640"/>
            <a:ext cx="1295280" cy="720720"/>
          </a:xfrm>
          <a:prstGeom prst="leftRightArrow">
            <a:avLst>
              <a:gd name="adj1" fmla="val 50000"/>
              <a:gd name="adj2" fmla="val 357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nl-NL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258920" y="1628640"/>
            <a:ext cx="2592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900000" y="1268280"/>
            <a:ext cx="3167280" cy="50403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rontoff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572000" y="1268280"/>
            <a:ext cx="4176720" cy="50403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idoff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1619280" y="141300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-loket/PD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6659640" y="1413000"/>
            <a:ext cx="1944720" cy="1584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Zaaksyste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8"/>
          <p:cNvSpPr/>
          <p:nvPr/>
        </p:nvSpPr>
        <p:spPr>
          <a:xfrm>
            <a:off x="6732720" y="4076640"/>
            <a:ext cx="1873080" cy="16574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MS/R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4716360" y="4076640"/>
            <a:ext cx="1873440" cy="16574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egevens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gazij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0"/>
          <p:cNvSpPr/>
          <p:nvPr/>
        </p:nvSpPr>
        <p:spPr>
          <a:xfrm>
            <a:off x="4643280" y="1413000"/>
            <a:ext cx="1872000" cy="1584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Zaken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gazij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619280" y="227664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Kennisba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2"/>
          <p:cNvSpPr/>
          <p:nvPr/>
        </p:nvSpPr>
        <p:spPr>
          <a:xfrm>
            <a:off x="1619280" y="314172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K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3"/>
          <p:cNvSpPr/>
          <p:nvPr/>
        </p:nvSpPr>
        <p:spPr>
          <a:xfrm>
            <a:off x="1619280" y="407664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4"/>
          <p:cNvSpPr/>
          <p:nvPr/>
        </p:nvSpPr>
        <p:spPr>
          <a:xfrm>
            <a:off x="1619280" y="501336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1692360" y="549360"/>
            <a:ext cx="720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90b95d"/>
                </a:solidFill>
                <a:latin typeface="Verdana"/>
              </a:rPr>
              <a:t>Functies in front en midoff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16"/>
          <p:cNvSpPr/>
          <p:nvPr/>
        </p:nvSpPr>
        <p:spPr>
          <a:xfrm>
            <a:off x="4716360" y="321300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rviceb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17"/>
          <p:cNvSpPr/>
          <p:nvPr/>
        </p:nvSpPr>
        <p:spPr>
          <a:xfrm>
            <a:off x="6732720" y="3213000"/>
            <a:ext cx="180000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ZTC/D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56360" y="764640"/>
            <a:ext cx="172872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800" spc="-1" strike="noStrike">
                <a:solidFill>
                  <a:srgbClr val="90b95d"/>
                </a:solidFill>
                <a:latin typeface="Verdana"/>
              </a:rPr>
              <a:t>Bron: raad.delft.nl</a:t>
            </a:r>
            <a:endParaRPr b="1" lang="en-US" sz="800" spc="-1" strike="noStrike">
              <a:solidFill>
                <a:srgbClr val="90b95d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428480" y="1988640"/>
            <a:ext cx="7389720" cy="3311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2"/>
          <a:stretch/>
        </p:blipFill>
        <p:spPr>
          <a:xfrm>
            <a:off x="684360" y="1268280"/>
            <a:ext cx="7870680" cy="53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nl-NL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826920" y="1668600"/>
            <a:ext cx="7201080" cy="46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nl-NL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868320" y="981000"/>
            <a:ext cx="788040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nl-NL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42160" cy="57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Verdana"/>
              </a:rPr>
              <a:t>Zijn er meer modellen / organisatievormen te verzinnen?</a:t>
            </a: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nl-NL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784872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885080" y="260280"/>
            <a:ext cx="107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800" spc="-1" strike="noStrike">
                <a:solidFill>
                  <a:srgbClr val="90b95d"/>
                </a:solidFill>
                <a:latin typeface="Verdana"/>
              </a:rPr>
              <a:t>www.raalte.nl</a:t>
            </a:r>
            <a:endParaRPr b="1" lang="en-US" sz="800" spc="-1" strike="noStrike">
              <a:solidFill>
                <a:srgbClr val="90b95d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28480" y="1988640"/>
            <a:ext cx="7389720" cy="3311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530280" y="976320"/>
            <a:ext cx="828972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28480" y="1988640"/>
            <a:ext cx="7389720" cy="331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1190520" y="1125360"/>
            <a:ext cx="77742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2920" y="1407600"/>
            <a:ext cx="7201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90b95d"/>
                </a:solidFill>
                <a:latin typeface="Verdana"/>
              </a:rPr>
              <a:t>Overheid, samenleving en informatie</a:t>
            </a:r>
            <a:endParaRPr b="1" lang="en-US" sz="18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relse, J. (Jack)</dc:creator>
  <dc:description/>
  <dc:language>en-US</dc:language>
  <cp:lastModifiedBy>Karelse, J. (Jack)</cp:lastModifiedBy>
  <dcterms:modified xsi:type="dcterms:W3CDTF">2012-03-21T10:45:35Z</dcterms:modified>
  <cp:revision>8</cp:revision>
  <dc:subject/>
  <dc:title>Dia 1</dc:title>
</cp:coreProperties>
</file>