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move the slid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413B-793B-4F5C-A511-6F68560AF42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9831-DC12-47C9-8C15-248D104BFF8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79BA0150-F18F-4A9F-9E80-FECA71562499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201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Processen van recordmanagement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t zijn onze records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lang moeten we ze bewa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vinden we ze terug ( binnen hun context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houden we ze toegankelijk?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mag ze inzi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49560" y="2349360"/>
            <a:ext cx="739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informatie, verantwoording of bewijs binnen werkproc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belang bedrijfsvoering / geldende selectielij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welke metadata / digitale duurzaamhe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autoris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pslaan en beschrijv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aar(in) worden documenten opgeslag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gegevens worden vastgelegd en door wie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manieren van ordening kennen jullie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manieren van ordening worden gebruikt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hronolog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Alfabet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Numerie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ystemat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onderwerp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object, subjec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werkproc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Zaakgerich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Selecteren, Verwijderen en Bewa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lecteren aan de hand van selectielijs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wijderen: Plicht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war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vang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Beschikbaarstellen!!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ie mag er wat raadplegen, wijzigen, verwijde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anneer wordt wat gepubliceerd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oe vinden gebruikers de voor hen relevante informatie en document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lleen archiefstukken/record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of ook overige informatie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Recordkeeping processen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Recordkeeping processen Digitaal archive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astleggen/verwerv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slaa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rden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schrijv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lecte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wijde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wa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schikbaarstell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palen welke documenten worden opgenom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nalyse wet- en regelgeving, eisen bedrijfsvoering en verantwoording, risicoanaly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palen hoe lang archiefbescheiden bewaard moeten wor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zie hiervo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nemen van archiefbescheiden in archiefsyste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rchiefstuk/maker/context, plaats in systeem en relatie met andere stukk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Registrat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doel: bewijs leveren dat stuk is opgemaakt of opgenomen in syste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assificat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classificatie activiteiten, leggen van koppelingen, indexer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slag en behande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juiste media en bewaarcond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oega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wie verkrijgt toegang, onder welke voorwaard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olg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volgen verplaatsen en gebruik van archiefstukken, voortgangsbewak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Implementatie van verwijde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systematische </a:t>
            </a: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vernietiging</a:t>
            </a: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dan wel </a:t>
            </a: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overbrenging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Documenteren informatie- en archiefmanagementprocess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bevoegdheden, beslissingen en keu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Ook nog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oezicht en contro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wordt voldaan aan de gestelde eis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voldoet systeem aan verwachtingen (evaluatie, bijstelling)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leid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permanent programma voor opleiding voor iedere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Vastleggen, vangen (capture)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et identificeren van document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Maken van de keuze of een document in de collecti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moet worden opgeno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2-03-21T12:27:35Z</dcterms:modified>
  <cp:revision>38</cp:revision>
  <dc:subject/>
  <dc:title>Dia 1</dc:title>
</cp:coreProperties>
</file>