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jpeg" ContentType="image/jpeg"/>
  <Override PartName="/ppt/media/image21.jpeg" ContentType="image/jpeg"/>
  <Override PartName="/ppt/media/image18.png" ContentType="image/pn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20.gif" ContentType="image/gif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png" ContentType="image/png"/>
  <Override PartName="/ppt/media/image6.png" ContentType="image/png"/>
  <Override PartName="/ppt/media/image5.jpeg" ContentType="image/jpeg"/>
  <Override PartName="/ppt/media/image26.jpeg" ContentType="image/jpeg"/>
  <Override PartName="/ppt/media/image4.jpeg" ContentType="image/jpeg"/>
  <Override PartName="/ppt/media/image22.gif" ContentType="image/gif"/>
  <Override PartName="/ppt/media/image25.jpeg" ContentType="image/jpeg"/>
  <Override PartName="/ppt/media/image2.jpeg" ContentType="image/jpeg"/>
  <Override PartName="/ppt/media/image1.jpeg" ContentType="image/jpeg"/>
  <Override PartName="/ppt/media/image14.jpeg" ContentType="image/jpeg"/>
  <Override PartName="/ppt/media/image15.jpeg" ContentType="image/jpeg"/>
  <Override PartName="/ppt/media/image16.gif" ContentType="image/gif"/>
  <Override PartName="/ppt/media/image19.png" ContentType="image/png"/>
  <Override PartName="/ppt/media/image17.jpeg" ContentType="image/jpeg"/>
  <Override PartName="/ppt/media/image23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764338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DF932-9718-4F3C-A7E0-97C3D3E0B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BBB6A-26A9-4C31-BA2D-F95481134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4BCA6-FFF8-4E1E-BA3E-A437FB65A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08602-FD82-4DDF-87C7-97B4F4762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48AAB-0284-4980-9130-9CF6F53C2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5D63B-BCB9-43F4-B5E0-AFE62EDD5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295A5-178A-4B15-BBF1-2079DA653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3DFC4-2467-4287-BBF0-BA1BA6FB9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D0761-58C2-46D3-A400-80BAB733D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F6673-ACF8-44BF-B5BC-D93F81BF2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6D950-B8B4-43A3-B2AB-2EA43AF51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07E9C-7C96-456A-9C85-EF79F3696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08466-3606-46A2-B5B5-8CB5DB65B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3FA1D-3347-4BA1-A003-94B6D04EA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80530-4084-43EE-A0B6-FE7222140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9D0DA-8126-4834-8228-78D917A57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188F7-706B-4632-BB98-376D362BA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CDCDD-CE8A-45CD-B9B9-8FB0A3553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6F4BD-9784-41BE-833C-C7055DB39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AFE88-5446-4D0F-A58E-E87766B54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4D522-CB4C-4AE2-ABF7-BC3EE26B4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86959-7E11-4968-9121-1B7C3FFFE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12548-1DB3-4942-A6EC-34A43223B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DFA6B-7076-4D77-AF0F-899A34027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D46B7-D0C1-4A73-8F1A-65B4B53330DE}" type="datetime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28-07-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F668A-210F-488F-9AB2-FBA700464CDB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Rectangle 10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7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46" name="Rectangle 8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Rectangle 9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Rectangle 10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82A4E-A3A0-4040-865E-1E45650C0775}" type="datetime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28-07-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F64D4-829A-4755-A46F-E552581D4219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images.google.nl/imgres?imgurl=http://www.hln.be/static/FOTO/pe/14/2/5/art_large_590990.jpg&amp;imgrefurl=http://www.hln.be/hln/nl/33/Fit-Gezond/article/detail/557942/2008/12/17/Sarcasme-helpt-dementie-ontdekken.dhtml&amp;usg=__In8SkNytTqq_9LQlMCfFeXHyYBQ=&amp;h=332&amp;w=249&amp;sz=8&amp;hl=nl&amp;start=24&amp;sig2=I3-CAEXOfWsyBT0_MFfwUw&amp;um=1&amp;itbs=1&amp;tbnid=UVwXn6jRZtCJwM:&amp;tbnh=119&amp;tbnw=89&amp;prev=/images%3Fq%3Ddementie%26start%3D21%26um%3D1%26hl%3Dnl%26sa%3DN%26ndsp%3D21%26tbs%3Disch:1&amp;ei=qUWjS_SRMMKRjAer4rX7Dg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images.google.nl/imgres?imgurl=http://www.nwo.nl/images.nsf/pages/NWOP_5XCECS/%24file/Cognitie-groot.jpg&amp;imgrefurl=http://aarts3.web-log.nl/aarts3/2007/10/psychiatrie_geh.html&amp;h=350&amp;w=335&amp;sz=6&amp;hl=nl&amp;start=1&amp;tbnid=0E_kjXWvTCMMTM:&amp;tbnh=120&amp;tbnw=115&amp;prev=/images%3Fq%3Ddesori%25C3%25ABntatie%2Bin%2Bpersoon%26gbv%3D2%26svnum%3D10%26hl%3Dnl" TargetMode="External"/><Relationship Id="rId2" Type="http://schemas.openxmlformats.org/officeDocument/2006/relationships/image" Target="../media/image12.jpeg"/><Relationship Id="rId3" Type="http://schemas.openxmlformats.org/officeDocument/2006/relationships/hyperlink" Target="http://images.google.nl/imgres?imgurl=http://www.klarenbeekklokken.nl/pubklok1.JPG&amp;imgrefurl=http://www.klarenbeekklokken.nl/pubklokkenklarenbeek.htm&amp;h=400&amp;w=400&amp;sz=23&amp;hl=nl&amp;start=50&amp;tbnid=ZoDRF8DPsiLEeM:&amp;tbnh=124&amp;tbnw=124&amp;prev=/images%3Fq%3Dwandklok%26start%3D40%26gbv%3D2%26ndsp%3D20%26svnum%3D10%26hl%3Dnl%26sa%3DN" TargetMode="External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images.google.nl/imgres?imgurl=http://www.obeindhoven.nl/www/Informatiecentrum/Dossiers/images/dementie.jpg&amp;imgrefurl=http://aarts3.web-log.nl/aarts3/2007/10/psychiatrie_geh.html&amp;h=229&amp;w=227&amp;sz=26&amp;hl=nl&amp;start=16&amp;tbnid=-nT3RE_8PPd_OM:&amp;tbnh=108&amp;tbnw=107&amp;prev=/images%3Fq%3Dgeheugenstoornis%26gbv%3D2%26svnum%3D10%26hl%3Dnl" TargetMode="External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images.google.nl/imgres?imgurl=http://www.bachbloesemadvies.be/cms/cms/grafisch/tekst/96_206_depressie.jpg&amp;imgrefurl=http://www.bachbloesemadvies.be/home.asp%3Fp_id%3D599%26p_naam%3DBachbloesems%26tsectie%3D1%26offset%3D0&amp;h=423&amp;w=284&amp;sz=145&amp;hl=nl&amp;start=8&amp;tbnid=KzXGxhVEf8qGfM:&amp;tbnh=126&amp;tbnw=85&amp;prev=/images%3Fq%3Ddepressie%26gbv%3D2%26svnum%3D10%26hl%3Dnl" TargetMode="External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image" Target="../media/image23.gi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http://images.google.nl/imgres?imgurl=http://www.prometheusfleets.com/spotlight/images/overige/maskers.PNG&amp;imgrefurl=http://www.prometheusfleets.com/spotlight/theater_geschiedenis.html&amp;h=171&amp;w=160&amp;sz=21&amp;hl=nl&amp;start=1&amp;tbnid=Xv1giZUaQQTraM:&amp;tbnh=100&amp;tbnw=94&amp;prev=/images%3Fq%3Dlach%2Ben%2Been%2Btraan%26gbv%3D2%26svnum%3D10%26hl%3Dnl%26sa%3DX" TargetMode="External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images.google.nl/imgres?imgurl=http://www.beamsolid.com/psychiatrie/delier/pic/delier-pa.gif&amp;imgrefurl=http://www.beamsolid.com/psychiatrie/delier/delier-pa.shtml&amp;h=160&amp;w=123&amp;sz=8&amp;hl=nl&amp;start=3&amp;tbnid=bAXa3RWNyntoLM:&amp;tbnh=98&amp;tbnw=75&amp;prev=/images%3Fq%3Ddelier%26gbv%3D2%26svnum%3D10%26hl%3Dnl" TargetMode="External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ages.google.nl/imgres?imgurl=http://www.freewebs.com/doktersassistent/dementie.jpg&amp;imgrefurl=http://www.freewebs.com/doktersassistent/dementie.htm&amp;usg=__wZRm2ekb4OftAhVLwDVUjFHTWSw=&amp;h=259&amp;w=397&amp;sz=6&amp;hl=nl&amp;start=2&amp;sig2=gOwTKy9Z8GtoUYD4ddjTgA&amp;um=1&amp;itbs=1&amp;tbnid=E-dpR8fkfLjA_M:&amp;tbnh=81&amp;tbnw=124&amp;prev=/images%3Fq%3Ddementie%26um%3D1%26hl%3Dnl%26sa%3DN%26tbs%3Disch:1&amp;ei=vUSjS6_OEYqQjAepseXvCQ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http://images.google.nl/imgres?imgurl=http://www.pastoralekroes.nl/Dementie/afbeeldingen/Dementie_II_-_Ouderdomsdementie/dementie2.jpg&amp;imgrefurl=http://www.pastoralekroes.nl/Dementie/DementieII-Ouderdomsdemen.html&amp;usg=__RQfQ5NP04QjhIyt6ug_SMfgvP-o=&amp;h=156&amp;w=240&amp;sz=17&amp;hl=nl&amp;start=23&amp;sig2=VOp3ZLePM42dHTZHfbH-Hw&amp;um=1&amp;itbs=1&amp;tbnid=q6rOQPIX_5JpbM:&amp;tbnh=72&amp;tbnw=110&amp;prev=/images%3Fq%3Ddementie%26start%3D21%26um%3D1%26hl%3Dnl%26sa%3DN%26ndsp%3D21%26tbs%3Disch:1&amp;ei=qUWjS_SRMMKRjAer4rX7Dg" TargetMode="External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s.google.nl/imgres?imgurl=http://www.degelderseroos.nl/bestanden/pagina/Dementie.jpg&amp;imgrefurl=http://www.degelderseroos.nl/site/Actueel/Interactie&amp;usg=__SaL7PfJXmNv2A4KGNp08E7AO2Dk=&amp;h=300&amp;w=212&amp;sz=9&amp;hl=nl&amp;start=6&amp;sig2=3FLHd-ceMI_FmhGk9DxZeg&amp;um=1&amp;itbs=1&amp;tbnid=Sjx0YT2PncufGM:&amp;tbnh=116&amp;tbnw=82&amp;prev=/images%3Fq%3Ddementie%26um%3D1%26hl%3Dnl%26sa%3DN%26tbs%3Disch:1&amp;ei=vUSjS6_OEYqQjAepseXvCQ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hyperlink" Target="http://images.google.nl/imgres?imgurl=http://www.flaghouse.com/images/orangeGrove4.jpg&amp;imgrefurl=http://www.flaghouse.com/orangeGrove.asp&amp;h=300&amp;w=400&amp;sz=16&amp;hl=nl&amp;start=8&amp;tbnid=K2J6iOKnAvqwtM:&amp;tbnh=93&amp;tbnw=124&amp;prev=/images%3Fq%3Dsnoezelen%26gbv%3D2%26svnum%3D10%26hl%3Dnl" TargetMode="External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ages.google.nl/imgres?imgurl=http://www.pharmaselecta.nl/psonline/images/gijs/weetniet.gif&amp;imgrefurl=http://www.pharmaselecta.nl/site/index.php%3Foption%3Dcom_content%26task%3Dview%26id%3D277%26Itemid%3D53&amp;h=169&amp;w=99&amp;sz=4&amp;hl=nl&amp;start=5&amp;tbnid=ueNawOZnL3grPM:&amp;tbnh=99&amp;tbnw=58&amp;prev=/images%3Fq%3Dgeheugenverlies%26gbv%3D2%26svnum%3D10%26hl%3Dnl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images.google.nl/imgres?imgurl=https://www2.kuleuven.be/tiki/show_image.php%3Fid%3D138&amp;imgrefurl=https://www2.kuleuven.be/tiki/tiki-index.php%3Fpage%3Dsequencing&amp;h=300&amp;w=464&amp;sz=53&amp;hl=nl&amp;start=5&amp;tbnid=UrVtv6FmJ4644M:&amp;tbnh=83&amp;tbnw=128&amp;prev=/images%3Fq%3Dmoeilijkheden%2Bmet%2Bdenken%26gbv%3D2%26svnum%3D10%26hl%3Dnl" TargetMode="External"/><Relationship Id="rId4" Type="http://schemas.openxmlformats.org/officeDocument/2006/relationships/image" Target="../media/image5.jpeg"/><Relationship Id="rId5" Type="http://schemas.openxmlformats.org/officeDocument/2006/relationships/image" Target="../media/image6.png"/><Relationship Id="rId6" Type="http://schemas.openxmlformats.org/officeDocument/2006/relationships/hyperlink" Target="http://images.google.nl/imgres?imgurl=http://www.ikonrtv.nl/uploadedImgs/1boos.jpg&amp;imgrefurl=http://www.ikonrtv.nl/kerknieuws/nieuws.asp%3FoId%3D4265&amp;h=231&amp;w=246&amp;sz=16&amp;hl=nl&amp;start=6&amp;tbnid=uh_w5MYgSBDFyM:&amp;tbnh=103&amp;tbnw=110&amp;prev=/images%3Fq%3Dboos%26gbv%3D2%26svnum%3D10%26hl%3Dnl" TargetMode="External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Rectangle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0EDF9-8C7F-4716-A0A7-A0D4A62773F6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800" spc="-1" strike="noStrike">
                <a:solidFill>
                  <a:srgbClr val="999900"/>
                </a:solidFill>
                <a:latin typeface="Garamond"/>
              </a:rPr>
              <a:t>Zorgvragers met dementie: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327024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3CB41-EE6B-48C9-B215-8B52B3627DDC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Overige vormen van dementie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De oorzaak van dementie hoeft niet altijd in de hersenen te liggen maar kan ook door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Een stoornis in het afweersysteem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Vergiftiging door zink of aluminium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Vitaminegebrek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Long- en nieraandoeninge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Vormen van dementie</a:t>
            </a:r>
            <a:br>
              <a:rPr sz="4400"/>
            </a:br>
            <a:r>
              <a:rPr b="0" lang="nl-NL" sz="2000" spc="-1" strike="noStrike">
                <a:solidFill>
                  <a:srgbClr val="999900"/>
                </a:solidFill>
                <a:latin typeface="Garamond"/>
              </a:rPr>
              <a:t>Diagnose d.m.v. CT-scan</a:t>
            </a:r>
            <a:endParaRPr b="0" lang="en-US" sz="20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38" name="Picture 6" descr="art_large_59099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164360" y="4149720"/>
            <a:ext cx="1170000" cy="156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0AE55-3823-49B5-9185-027271AEE9A5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Overige vormen van dementie: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Korsakov-syndroo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Door langdurig alcoholmisbruik en een slechte voedingstoestan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Vergiftiging hersencell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Aids dementiecomplex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Late complicatie bij een klein deel van de niet behandelde HIV patiënte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De ziekte van Pic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Wordt veroorzaakt door een aandoening in het voorste deel van de hersenen, gekenmerkt door ballonvormige zenuwcell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Dementie bij syndroom van Dow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DD8FC-D22E-49FF-A640-D8CAFF5DD8C2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999900"/>
                </a:solidFill>
                <a:latin typeface="Garamond"/>
              </a:rPr>
              <a:t>Symptomen van het dementiesyndroom: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Symptomen van de eerste orde (symptomen die zich </a:t>
            </a:r>
            <a:r>
              <a:rPr b="0" lang="nl-NL" sz="2800" spc="-1" strike="noStrike">
                <a:solidFill>
                  <a:srgbClr val="999900"/>
                </a:solidFill>
                <a:latin typeface="Verdana"/>
              </a:rPr>
              <a:t>altijd</a:t>
            </a: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 voordoen bij een vorm van dementie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Symptomen van de tweede orde (symptomen die zich </a:t>
            </a:r>
            <a:r>
              <a:rPr b="0" lang="nl-NL" sz="2800" spc="-1" strike="noStrike">
                <a:solidFill>
                  <a:srgbClr val="999900"/>
                </a:solidFill>
                <a:latin typeface="Verdana"/>
              </a:rPr>
              <a:t>soms</a:t>
            </a: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 kunnen voordoen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B3F51-5FE4-4314-ADE0-1C4AAF3996B7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999900"/>
                </a:solidFill>
                <a:latin typeface="Garamond"/>
              </a:rPr>
              <a:t>Symptomen van dementie:</a:t>
            </a:r>
            <a:br>
              <a:rPr sz="4000"/>
            </a:br>
            <a:r>
              <a:rPr b="0" lang="nl-NL" sz="4000" spc="-1" strike="noStrike">
                <a:solidFill>
                  <a:srgbClr val="999900"/>
                </a:solidFill>
                <a:latin typeface="Garamond"/>
              </a:rPr>
              <a:t>Symptomen van de eerste orde: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Verdana"/>
              </a:rPr>
              <a:t>Geheugenstoornissen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Inprentingstoornissen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295280" indent="-380880">
              <a:spcBef>
                <a:spcPts val="60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Korte termijn geheug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714680" indent="-343080">
              <a:spcBef>
                <a:spcPts val="499"/>
              </a:spcBef>
              <a:buClr>
                <a:srgbClr val="66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Nieuwe informatie wordt niet opgeslag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95280" indent="-380880">
              <a:spcBef>
                <a:spcPts val="60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Lange termijn geheug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714680" indent="-343080">
              <a:spcBef>
                <a:spcPts val="499"/>
              </a:spcBef>
              <a:buClr>
                <a:srgbClr val="66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De goede herinneringen blijven het langste bestaa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1" name="Picture 7" descr="Herken dementie op tijd"/>
          <p:cNvPicPr/>
          <p:nvPr/>
        </p:nvPicPr>
        <p:blipFill>
          <a:blip r:embed="rId1"/>
          <a:stretch/>
        </p:blipFill>
        <p:spPr>
          <a:xfrm>
            <a:off x="6588000" y="4292640"/>
            <a:ext cx="1632240" cy="23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82FBF-7249-4C4F-812E-091BEE49BF20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999900"/>
                </a:solidFill>
                <a:latin typeface="Garamond"/>
              </a:rPr>
              <a:t>Desoriëntatie in:</a:t>
            </a: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 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Tij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De dementerende weet niet op welk tijdstip hij zich bevind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Plaa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De dementerende weet niet waar hij is en raakt de weg kwij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Perso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Familie en bekenden worden niet meer herken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Soms weet men zelfs niet meer wie men zelf i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6" name="Picture 5" descr="Cognitie-groot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5280" y="5661000"/>
            <a:ext cx="820800" cy="85572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7" descr="pubklok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596360" y="692280"/>
            <a:ext cx="1180800" cy="118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F20EE-2139-4D1F-A3FC-9B5F6440C5E1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Afasi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Een taalstoorni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Expressieve afasie (expressie = uitdrukken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De dementerende heeft moeite met het uiten van woord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Weet wat hij wil zeggen maar kan het woord niet vind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Receptieve afasie (receptie = ontvangen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De dementerende hoort de woorden wel, maar begrijpt de betekenis niet me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2" name="Picture 5" descr="leesplankje1"/>
          <p:cNvPicPr/>
          <p:nvPr/>
        </p:nvPicPr>
        <p:blipFill>
          <a:blip r:embed="rId1"/>
          <a:stretch/>
        </p:blipFill>
        <p:spPr>
          <a:xfrm>
            <a:off x="6732720" y="549360"/>
            <a:ext cx="1942920" cy="127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EE9D2-42E7-4E46-9AA6-91DA4D61D751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Agnosi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Het niet meer herkennen van voorwerpe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Aan de zintuigen mankeert niets, maar in het geheugen wordt niet opgeroepen om welk voorwerp het gaat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7" name="Picture 5" descr="dementi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588000" y="4149720"/>
            <a:ext cx="1446480" cy="14605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88A07-1AB3-447A-B9FC-AD8BF0158C9A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apraxi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Bij apraxie is een zorgvrager niet in staat een handeling doelbewust uit te voere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2" name="Picture 4" descr="kleding07"/>
          <p:cNvPicPr/>
          <p:nvPr/>
        </p:nvPicPr>
        <p:blipFill>
          <a:blip r:embed="rId1"/>
          <a:stretch/>
        </p:blipFill>
        <p:spPr>
          <a:xfrm>
            <a:off x="1763640" y="3429000"/>
            <a:ext cx="1521000" cy="165744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5" descr="wassen15"/>
          <p:cNvPicPr/>
          <p:nvPr/>
        </p:nvPicPr>
        <p:blipFill>
          <a:blip r:embed="rId2"/>
          <a:stretch/>
        </p:blipFill>
        <p:spPr>
          <a:xfrm>
            <a:off x="4788000" y="3357720"/>
            <a:ext cx="2550960" cy="23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ijdelijke aanduiding voor voettekst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Tijdelijke aanduiding voor dianumm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F1647-46C3-4021-8849-B7E38527C1AD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999900"/>
                </a:solidFill>
                <a:latin typeface="Garamond"/>
              </a:rPr>
              <a:t>Symptomen van de tweede orde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Persever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Confabuler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Verzamelzuch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Achterdoch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Decorumverli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Stemmingsstoorniss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Waarnemingsstoorniss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Denkstoorniss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Gedragsstoorniss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Verbale en fysieke agressi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(Motorische) onrus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Persoonlijkheids-verandering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Delier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84EF3-2024-4A20-8228-FF048CC4FA45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Perseverere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Herhaling van steeds dezelfde vragen en / of opmerkinge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Of de zorgvrager vertelt steeds hetzelfde verhaa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3" name="Picture 4" descr="ziekenhuis10"/>
          <p:cNvPicPr/>
          <p:nvPr/>
        </p:nvPicPr>
        <p:blipFill>
          <a:blip r:embed="rId1"/>
          <a:stretch/>
        </p:blipFill>
        <p:spPr>
          <a:xfrm>
            <a:off x="1332000" y="4221000"/>
            <a:ext cx="1218960" cy="121932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5" descr="ziekenhuis10"/>
          <p:cNvPicPr/>
          <p:nvPr/>
        </p:nvPicPr>
        <p:blipFill>
          <a:blip r:embed="rId2"/>
          <a:stretch/>
        </p:blipFill>
        <p:spPr>
          <a:xfrm>
            <a:off x="3492360" y="422100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6" descr="ziekenhuis10"/>
          <p:cNvPicPr/>
          <p:nvPr/>
        </p:nvPicPr>
        <p:blipFill>
          <a:blip r:embed="rId3"/>
          <a:stretch/>
        </p:blipFill>
        <p:spPr>
          <a:xfrm>
            <a:off x="5724360" y="422100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89439-CF5C-437A-B073-FD5B5CAB117F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97" name="Picture 3" descr="plaquesentangles2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F1E77-1307-463C-A34F-0D1CBECCE802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Confabulere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De zorgvrager kan zich een bepaald verhaal niet herinneren of is tijdens het vertellen de draad kwijtgeraakt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De lege plekken in zijn geheugen vult hij op met fantasieë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De zorgvrager doet dit volledig ter goeder trouw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DCF64-B137-42D6-99DC-342E9F75DD41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Verzamelzuch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Het verzamelen van allerlei voorwerpen en bewaart deze op een voor hem veilige plaa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De zorgvrager wil nog ergens controle over hebb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4" name="Picture 5" descr="index"/>
          <p:cNvPicPr/>
          <p:nvPr/>
        </p:nvPicPr>
        <p:blipFill>
          <a:blip r:embed="rId1"/>
          <a:stretch/>
        </p:blipFill>
        <p:spPr>
          <a:xfrm>
            <a:off x="4284720" y="4437000"/>
            <a:ext cx="1289160" cy="103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3B331-8C2B-4758-8050-854B94E07AEF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Achterdocht: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De zorgvrager met dementie is erg achterdochtig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49293-9158-407D-BF4E-769228B0EF28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Decorumverlie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De zorgvrager raakt zijn waarden en normen kwijt en zijn gevoel over wat wel en niet kan betreffende o.a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Kled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Et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Omgangsvormen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3" name="Picture 4" descr="kabouters37"/>
          <p:cNvPicPr/>
          <p:nvPr/>
        </p:nvPicPr>
        <p:blipFill>
          <a:blip r:embed="rId1"/>
          <a:stretch/>
        </p:blipFill>
        <p:spPr>
          <a:xfrm>
            <a:off x="5508720" y="4005360"/>
            <a:ext cx="1568520" cy="19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47C1E-CCAE-4117-958B-EBDA9B6A4917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Stemmingsstoornisse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Apathi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De zorgvrager is soezerig en heeft geen aandacht voor hetgeen om hem heen gebeur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Depressi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Door lichamelijke of psychische oorzaa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Eufori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Tegenovergestelde van een depressi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8" name="Picture 5" descr="96_206_depressi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667640" y="4221000"/>
            <a:ext cx="809640" cy="12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7AEBA-1DDA-405A-A8FB-40BDC6071B0F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Waarnemingsstoornissen: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Waarnemingsstoornissen zijn stoornissen van de zintuigen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Zi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Ruik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Hor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Voel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Proeve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Corrigeren van de waarnemingsstoornis heeft geen zin, omdat de zorgvrager dit als werkelijkheid waarneem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CA499-778D-44E8-B3A8-C73B46D541AD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Denkstoornissen: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Denkstoornissen kunnen zich uiten in de vorm van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Traagheid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Geduld is een schone zaak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Incoherenti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De inhoud van het denken is niet meer logisch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ACFE7-7A56-4CAF-93CA-20BC2B63C8DA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Gedragsstoornisse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Verbale en fysieke agressi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Motorische onrus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1" name="Picture 4" descr="slapen55"/>
          <p:cNvPicPr/>
          <p:nvPr/>
        </p:nvPicPr>
        <p:blipFill>
          <a:blip r:embed="rId1"/>
          <a:stretch/>
        </p:blipFill>
        <p:spPr>
          <a:xfrm>
            <a:off x="4788000" y="4724280"/>
            <a:ext cx="1171440" cy="131472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5" descr="ruzie10"/>
          <p:cNvPicPr/>
          <p:nvPr/>
        </p:nvPicPr>
        <p:blipFill>
          <a:blip r:embed="rId2"/>
          <a:stretch/>
        </p:blipFill>
        <p:spPr>
          <a:xfrm>
            <a:off x="5867280" y="2349360"/>
            <a:ext cx="133380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91AEF-79BF-446E-818B-376817DB358C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Persoonlijkheidsveranderingen: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Een persoonlijkheidsverandering houdt in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Een verandering van karaktereigenschapp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Verscherping van karaktereigenschappen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7" name="Picture 5" descr="masker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211640" y="4076640"/>
            <a:ext cx="134316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81D13-905C-4189-9169-0FA97A05DB96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Delier (of delirium):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Een organisch psychiatrisch syndroo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Wordt gekenmerkt door o.a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Minder helder bewustzijn van de omgeving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Concentratieproblemen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Cognitieve functie stoornissen (zoals geheugen-, ori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  <a:ea typeface="Arial"/>
              </a:rPr>
              <a:t>ë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ntatie- en taalstoornissen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Verstoord waak- slaapritme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2" name="Picture 5" descr="delier-pa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588000" y="5300640"/>
            <a:ext cx="714600" cy="9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C55FE-05A3-480E-B0B6-8D44028F86CF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Wat is dementie?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Dementie is </a:t>
            </a:r>
            <a:r>
              <a:rPr b="1" lang="nl-NL" sz="2400" spc="-1" strike="noStrike" u="sng">
                <a:solidFill>
                  <a:srgbClr val="000000"/>
                </a:solidFill>
                <a:uFillTx/>
                <a:latin typeface="Verdana"/>
              </a:rPr>
              <a:t>geen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 normaal ouderdomsverschijns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Syndroom dat zich kenmerkt door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Verschillende cognitieve functiestoorniss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Toenemende aftakeling van psychische funct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2" name="Picture 5" descr="dementi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04000" y="189000"/>
            <a:ext cx="1944720" cy="12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FD906-2BE0-4CE4-BE26-541D020CBA19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Oorzaken delier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Medicijngebrui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Ziekten in de hersenen (infectie, tumor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Metabole stoornissen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Nierinsufficiënti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Leverinsufficiënti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Vitamine B 12 teko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5A2B5-9F33-478A-AC3C-E09A293E389E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999900"/>
                </a:solidFill>
                <a:latin typeface="Garamond"/>
              </a:rPr>
              <a:t>Stadia dementie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Stadium 1: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Wordt gekenmerkt door een lichte verwarr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Stadium 2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Wordt gekenmerkt door verwardheid in tijd en lichte geheugenstoorniss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Stadium 3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Wordt gekenmerkt door opvallende geheugenstoornissen, zowel bij de inprenting als bij het korte termijn geheug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B89F2-A6DA-4964-86EB-C0C5589A5E74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Stadium 4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Wordt gekenmerkt door desoriëntatie en het afnemen van het gevoelsleven, decorumverlies en persoonlijkheidsverandering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Stadium 5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Wordt gekenmerkt doordat de zorgvrager volledig onbereikbaar is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Stadia dementi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245" name="Picture 8" descr="dementie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516720" y="4686480"/>
            <a:ext cx="1655640" cy="108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ADBB9-DA1F-4CA9-A058-286366A18117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999900"/>
                </a:solidFill>
                <a:latin typeface="Garamond"/>
              </a:rPr>
              <a:t>Kenmerken 'lichte dementie': 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De als/dan vraag wordt moeilijker te beantwoorden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Het hypothetisch denken neemt af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Wel ziekte-besef. Geen ziekte-inzicht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Egocentrisme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Geen begrip meer voor formele regel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Enige vorm van ontremd gedrag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3B17F-2E19-4F4A-89BF-8690BFB3033A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999900"/>
                </a:solidFill>
                <a:latin typeface="Garamond"/>
              </a:rPr>
              <a:t>De jong dementerende zorgvrager: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Tussen 40</a:t>
            </a:r>
            <a:r>
              <a:rPr b="0" lang="nl-NL" sz="2400" spc="-1" strike="noStrike" baseline="30000">
                <a:solidFill>
                  <a:srgbClr val="000000"/>
                </a:solidFill>
                <a:latin typeface="Verdana"/>
              </a:rPr>
              <a:t>ste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 en 50</a:t>
            </a:r>
            <a:r>
              <a:rPr b="0" lang="nl-NL" sz="2400" spc="-1" strike="noStrike" baseline="30000">
                <a:solidFill>
                  <a:srgbClr val="000000"/>
                </a:solidFill>
                <a:latin typeface="Verdana"/>
              </a:rPr>
              <a:t>ste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 levensjaa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Oorzaken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Ziekte van Alzheimer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De ziekte van Pick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De chorea van Huntington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Creutsfeldt-Jacob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Het aidsdementia-complex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Chronisch alcoholmisbruik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89F9F-124E-4051-B0DC-058D3464E405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Algemene omgangsadviezen: 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Demente mensen onthouden vaak wel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Gezicht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Rit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De verzorgende moet rekening houden met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Respec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Gebruik een onderwerp per zi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Langzaam en duidelijk prat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Geen dubbele ontkenning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Wees duidelijk bij het belon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Ga conflicten zo veel mogelijk uit de we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Tact bij corrigeren van de ouder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Probeer schrikken te voorkom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Gebruik de zintuigen die goed werk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D1598-65CE-4631-BEE9-D38817CF9C33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Realiteits Oriëntatie Benader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Validationtherapi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Warme zorg, snoezel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Reminiscenti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Belevingsgerichte zor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Benaderingswijze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80FDF-E074-4654-BBBA-6BD9252AA0F9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Doelstelling van ROB.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Algemeen doel:</a:t>
            </a: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De Realiteits Oriëntatie Benadering heeft tot doel een verdere achteruitgang in het contact met en de aanpassing aan de omgeving van de dementerende oudere te voorkom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2D896-906D-46D5-961B-B922356422E6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999900"/>
                </a:solidFill>
                <a:latin typeface="Garamond"/>
              </a:rPr>
              <a:t>Vervolg doelstelling van ROB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Opgesplitst in 3 specifiekere doelen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Het zo lang mogelijk in stand houden en eventueel verbeteren van lichamelijke, psychische en sociale functies die gestoord zijn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De bewoners een zodanig leefklimaat bieden dat deze zich vertrouwd voelen met hun omgeving en de mensen om hen he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Het personeel, familie en bekenden ertoe brengen een zodanige relatie met de bewo­ner op te bouwen dat deze gestimuleerd en geactiveerd wordt tot handelingen en bezigheden waartoe hij nog in staat i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9AC56-AAD7-4063-97AF-4E5816EB8CAA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999900"/>
                </a:solidFill>
                <a:latin typeface="Garamond"/>
              </a:rPr>
              <a:t>ROB in groepsverband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Een kleine groep bewoners in een speciale ruimte, waarmee activiteiten gedaan worden, die gericht zijn op de realitei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B.v. kranten lezen, weerbericht doornemen, elkaars namen noemen, enz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De attitude van de verzorgende tijdens de ROB is erg belangrijk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Geloof in stimulerende werking van ROB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Eenduidigheid in benadering van de bewon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Ondersteunende en geen betuttelende houd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Gebruik maken van iedere gelegenheid om het contact met de werkelijkheid te laten hervinde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32CD0-A723-4888-9FDF-F0DE8B4A3BB9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Cognitieve functiestoornisse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Cognitieve functiestoornissen zijn problemen m.b.t. het waarnemen, taal, geheugen en denke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7" name="Picture 5" descr="Dementie">
            <a:hlinkClick r:id="rId1"/>
          </p:cNvPr>
          <p:cNvPicPr/>
          <p:nvPr/>
        </p:nvPicPr>
        <p:blipFill>
          <a:blip r:embed="rId2"/>
          <a:srcRect l="0" t="21668" r="0" b="25839"/>
          <a:stretch/>
        </p:blipFill>
        <p:spPr>
          <a:xfrm>
            <a:off x="6804000" y="4797360"/>
            <a:ext cx="164628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2F9AD-4DAA-4BDE-824A-16EE68BD1377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 u="sng">
                <a:solidFill>
                  <a:srgbClr val="999900"/>
                </a:solidFill>
                <a:uFillTx/>
                <a:latin typeface="Garamond"/>
              </a:rPr>
              <a:t>Wat is Validationtherapie</a:t>
            </a: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?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Validationtherapie is een benaderingswijze van de pg bewoner, die zich richt op het bevestigen van eigen gevoelens, van de eigen beleving van het verlede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Het is een benaderingswijze die de bewoner accepteert daar waar hij is, in zijn realiteit en tijd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37B88-D5F9-4A0E-AF22-A34C840899FC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999900"/>
                </a:solidFill>
                <a:latin typeface="Garamond"/>
              </a:rPr>
              <a:t>Doelstellingen validationtherapie: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Gevoel van eigen waarde herstellen/terugwinn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Spanning verminder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Rechtvaardigen van de manier van lev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Onverwerkte conflicten oplossen uit het verled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Zich gelukkiger kunnen voele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CD52D-671C-4E21-9D9C-5BAF6794E9D6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999900"/>
                </a:solidFill>
                <a:latin typeface="Garamond"/>
              </a:rPr>
              <a:t>Warme zorg, Snoezelen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De wereld van dementie schept voortdurend een beleving van dreiging, onveiligheid en angs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Het vastgelopen geheugen ontneemt de demente zijn vroegere zekerheden. De demente is een vreemdeling geworden in een voor hem vreemde omgeving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Hij zoekt oriëntatiepunten. Hij hoopt bescherming, warmte en veiligheid te krijgen. Hij heeft behoefte aan de veiligheid van de eigen ouder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7EF38-58E8-42AD-8B4C-EC828EFBAD4C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vervolg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Warme zorg   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Snoezelen"       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"Respons Provoting Approach"    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Nemen de beleving van de demente bewoner als uitgangspu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Het doel is een milieu/omgeving te scheppen die tegemoet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Komt aan de belangrijkste emotionele behoefte van de demente verwarde bewoner: veilighei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0A18F-3D24-434D-8D05-5EDEEED99055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Snoezelen: 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Is een therapievorm die aansluit bij warme zorg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Snoezelen is het primair activeren van diep gestoorden (dementen) door middel van zintuiglijke waarnemingen en ervaringe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(licht, geluid, tast, reuk en smaak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Diep dementen zijn vaak niet te bereiken met ROB of Validationtherapie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Het geheugen en het denken werkt niet                   </a:t>
            </a:r>
            <a:r>
              <a:rPr b="0" lang="nl-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dus een stapje terug </a:t>
            </a:r>
            <a:r>
              <a:rPr b="0" lang="nl-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 primaire activering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Hier is het niet belangrijk om b.v. A.D.L. in stand te houden, maar om contact te maken met de bewoner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CB720-1CEA-463A-8682-43157C8D2163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Activiteiten: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Lichamelijk contac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Poppen/knuffelbeest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Kleine huisdier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Ruimtelijke aanpassing: licht, geluid, kleu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Knoeien/werken met zachte kneedbare material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Textiel/ball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Geure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8" name="Picture 5" descr="orangeGrove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948360" y="4437000"/>
            <a:ext cx="1181160" cy="88596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7" descr="snoezelen2_300"/>
          <p:cNvPicPr/>
          <p:nvPr/>
        </p:nvPicPr>
        <p:blipFill>
          <a:blip r:embed="rId3"/>
          <a:stretch/>
        </p:blipFill>
        <p:spPr>
          <a:xfrm>
            <a:off x="6443640" y="1052640"/>
            <a:ext cx="1104840" cy="110484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9" descr="31"/>
          <p:cNvPicPr/>
          <p:nvPr/>
        </p:nvPicPr>
        <p:blipFill>
          <a:blip r:embed="rId4"/>
          <a:stretch/>
        </p:blipFill>
        <p:spPr>
          <a:xfrm>
            <a:off x="3851280" y="4653000"/>
            <a:ext cx="1238400" cy="8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590CC-164E-4DC3-81AE-BA1621B55384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Weerstande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Kinderachtig gedoe: bewoner moet toch als volwassene benaderd worden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Belangrijk is dat je de bewoner accepteert op zijn niveau en ingaat op zijn behoefte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Lichamelijkheid is vaak een tabo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Familie (en personeel) vinden het vaak een schokkende ervaring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05" name="Picture 5" descr="sneoz2"/>
          <p:cNvPicPr/>
          <p:nvPr/>
        </p:nvPicPr>
        <p:blipFill>
          <a:blip r:embed="rId1"/>
          <a:stretch/>
        </p:blipFill>
        <p:spPr>
          <a:xfrm>
            <a:off x="5867280" y="5229360"/>
            <a:ext cx="1181160" cy="8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562FD-C250-45FE-A2C6-A464390C04F3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Reminiscenti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Bij deze benaderingswijze staan de positieve ervaringen centraal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Wanneer je met een bewoner over zijn herinneringen uit het verleden praat, krijg je als verzorgende ook meer inzicht in zijn levensloop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Reminiscentie is niet alleen het ophalen of opkomen van herinneringen, maar ook erbij stilstaan (reflectie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Het is dus een terugdenken aan en nadenken over levensgebeurtenissen die men ervaart als behorend tot het leve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438C2-2BA6-405F-9639-0688718BAA0A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Belevingsgerichte zorg: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Een belevingsgerichte benadering is een benadering waarbij je rekening houdt met de belevingswereld van de zorgvrager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Drie oorzaken voor verschillen in belevingswereld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Verschillende vormen van dementie die elk op een eigen manier tot uiting kom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Karakter voordat de verschijnselen van dementie er war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Elke dementerende oudere heeft zijn eigen levensgeschiedeni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A43C3-7685-4273-8FAF-554F7EE3D2F9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FARIA CLOWN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317" name="Afbeelding 3" descr=""/>
          <p:cNvPicPr/>
          <p:nvPr/>
        </p:nvPicPr>
        <p:blipFill>
          <a:blip r:embed="rId1"/>
          <a:stretch/>
        </p:blipFill>
        <p:spPr>
          <a:xfrm>
            <a:off x="2340000" y="1557360"/>
            <a:ext cx="4246560" cy="38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Aftakeling psychische functie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De toenemende aftakeling van psychische functies veranderen ingrijpend het gedrag en het karakter van mense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Tijdelijke aanduiding voor voettekst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Tijdelijke aanduiding voor dianumm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920E6-6B68-416C-826D-37BB4D47E50E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dementi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Dementie is een verzamelnaam voor een aantal aandoeningen met gemeenschappelijke symptome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Tijdelijke aanduiding voor voettekst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Tijdelijke aanduiding voor dianumm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05E62-43DD-477F-A72C-1A71D55244DA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87D88-04CF-4FF3-BFD6-4CA9405E0B0A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999900"/>
                </a:solidFill>
                <a:latin typeface="Garamond"/>
              </a:rPr>
              <a:t>Gemeenschappelijke symptomen van dementie (verzamelnaam):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Geheugenverl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Verlies van ori</a:t>
            </a:r>
            <a:r>
              <a:rPr b="0" lang="nl-NL" sz="2800" spc="-1" strike="noStrike">
                <a:solidFill>
                  <a:srgbClr val="000000"/>
                </a:solidFill>
                <a:latin typeface="Verdana"/>
                <a:ea typeface="Arial"/>
              </a:rPr>
              <a:t>ëntati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  <a:ea typeface="Arial"/>
              </a:rPr>
              <a:t>Moeilijkheden met denk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  <a:ea typeface="Arial"/>
              </a:rPr>
              <a:t>Verandering van gedra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0" name="Picture 5" descr="weetniet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796000" y="1557360"/>
            <a:ext cx="552240" cy="9428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9" descr="show_imag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732720" y="2133720"/>
            <a:ext cx="1218960" cy="7905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1" descr="game-pic3"/>
          <p:cNvPicPr/>
          <p:nvPr/>
        </p:nvPicPr>
        <p:blipFill>
          <a:blip r:embed="rId5"/>
          <a:stretch/>
        </p:blipFill>
        <p:spPr>
          <a:xfrm>
            <a:off x="6227640" y="3141720"/>
            <a:ext cx="716040" cy="11113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123" name="Picture 13" descr="1boos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4211640" y="4437000"/>
            <a:ext cx="1047600" cy="9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69F28-5A1C-4E77-B085-2C694AA141D1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999900"/>
                </a:solidFill>
                <a:latin typeface="Garamond"/>
              </a:rPr>
              <a:t>Vormen van dementie</a:t>
            </a:r>
            <a:br>
              <a:rPr sz="4000"/>
            </a:br>
            <a:r>
              <a:rPr b="0" lang="nl-NL" sz="2000" spc="-1" strike="noStrike">
                <a:solidFill>
                  <a:srgbClr val="999900"/>
                </a:solidFill>
                <a:latin typeface="Garamond"/>
              </a:rPr>
              <a:t>Diagnose d.m.v. CT-scan</a:t>
            </a:r>
            <a:endParaRPr b="0" lang="en-US" sz="2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Seniele dementie van het Alzheimertype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Vermoedelijk worden de hersencellen verdrongen door aan elkaar geklitte zenuw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Oorzaak is eiwitstapel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Progressief verloop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Symptomen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Verlies van interesse in de omgeving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Desoriëntatie in tijd en plaat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Vereenvoudigd taalgebruik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Persoonlijkheidsveranderingen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Stemmingsstoornissen en denkstoornisse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8" name="Picture 5" descr="Doorsnede: hersenen bij Alzheimer zijn gekrompen; spraak en geheugen zijn gestoord"/>
          <p:cNvPicPr/>
          <p:nvPr/>
        </p:nvPicPr>
        <p:blipFill>
          <a:blip r:embed="rId1"/>
          <a:stretch/>
        </p:blipFill>
        <p:spPr>
          <a:xfrm>
            <a:off x="6095880" y="2708280"/>
            <a:ext cx="30481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B4251-2BE0-4C62-854F-305E25837E59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Vasculaire dementi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Beschadiging van de hersenen door problemen met de bloedvaten, b.v. een CV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Heeft een trapsgewijs dalend verloop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Symptomen zijn afhankelijk van de plaats van de beschadigingen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Geheugenstoornisse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Afasi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Problemen met de coördinati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Vormen van dementie</a:t>
            </a:r>
            <a:br>
              <a:rPr sz="4400"/>
            </a:br>
            <a:r>
              <a:rPr b="0" lang="nl-NL" sz="2000" spc="-1" strike="noStrike">
                <a:solidFill>
                  <a:srgbClr val="999900"/>
                </a:solidFill>
                <a:latin typeface="Garamond"/>
              </a:rPr>
              <a:t>Diagnose d.m.v. CT-scan</a:t>
            </a:r>
            <a:endParaRPr b="0" lang="en-US" sz="20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33" name="Picture 6" descr="MRI"/>
          <p:cNvPicPr/>
          <p:nvPr/>
        </p:nvPicPr>
        <p:blipFill>
          <a:blip r:embed="rId1"/>
          <a:stretch/>
        </p:blipFill>
        <p:spPr>
          <a:xfrm>
            <a:off x="6948360" y="4365720"/>
            <a:ext cx="94320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05T20:47:05Z</dcterms:created>
  <dc:creator>Joke Kuyk</dc:creator>
  <dc:description/>
  <dc:language>en-US</dc:language>
  <cp:lastModifiedBy>spd</cp:lastModifiedBy>
  <dcterms:modified xsi:type="dcterms:W3CDTF">2012-03-28T13:31:21Z</dcterms:modified>
  <cp:revision>26</cp:revision>
  <dc:subject/>
  <dc:title>Psychogeriatrische zorgvragers:</dc:title>
</cp:coreProperties>
</file>