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18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0.gif" ContentType="image/gif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2.gif" ContentType="image/gif"/>
  <Override PartName="/ppt/media/image25.jpeg" ContentType="image/jpeg"/>
  <Override PartName="/ppt/media/image2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gif" ContentType="image/gif"/>
  <Override PartName="/ppt/media/image19.png" ContentType="image/png"/>
  <Override PartName="/ppt/media/image17.jpeg" ContentType="image/jpeg"/>
  <Override PartName="/ppt/media/image2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688D-347F-4DDA-BDE4-E36269D8E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8D33-E9A9-4BA7-8060-23868C77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A9B9-619A-4CF7-83AF-724159AAB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4D09-7B45-4F89-9B44-B8962940C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1C41-E4DA-4F84-88C8-DE32E075B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F196-9307-4C3F-913D-4E20F4D8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71FE-2E64-4892-A166-72635CFF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40D2-643B-489B-8B13-D4E535E4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75EF-4822-4225-BEE6-E9EFD324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FBC8-3816-4E72-B54D-A971559A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223E-8D24-406B-B905-D9F1C242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42D6-A914-4FE5-BD3C-0F53F0BD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B2BE-994A-4647-B398-9113B1D5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F31C2-83DF-4A13-8A90-C55B59CB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1B21-E84A-43BA-B6CA-CCD1A817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1D18-C4CF-4352-81FA-1619047AF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AAE4-F58C-40BD-B81D-0E4862A2A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FF41-D649-4E95-9AC8-554A5802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BB8D-98F9-4E3D-B014-5DF93E6B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FA72-A654-436D-98A7-8E53B606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795E-39B1-47E2-B330-B9E2BF3C3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E887-709A-458E-BAC5-2C7FE760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AC52-4205-4128-AC67-DB1A3A5C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4AD1-829C-4847-B468-169B8ECF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E737-AFA9-4250-8507-208FE55AEB4A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A2514-EA7B-4E5E-BA5E-BAEE3777DBA0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8A8C-27A1-4408-B1CF-03E25BFF139A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D0F3-DFB0-4A17-B67F-B9E84093E650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hln.be/static/FOTO/pe/14/2/5/art_large_590990.jpg&amp;imgrefurl=http://www.hln.be/hln/nl/33/Fit-Gezond/article/detail/557942/2008/12/17/Sarcasme-helpt-dementie-ontdekken.dhtml&amp;usg=__In8SkNytTqq_9LQlMCfFeXHyYBQ=&amp;h=332&amp;w=249&amp;sz=8&amp;hl=nl&amp;start=24&amp;sig2=I3-CAEXOfWsyBT0_MFfwUw&amp;um=1&amp;itbs=1&amp;tbnid=UVwXn6jRZtCJwM:&amp;tbnh=119&amp;tbnw=89&amp;prev=/images%3Fq%3Ddementie%26start%3D21%26um%3D1%26hl%3Dnl%26sa%3DN%26ndsp%3D21%26tbs%3Disch:1&amp;ei=qUWjS_SRMMKRjAer4rX7D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nwo.nl/images.nsf/pages/NWOP_5XCECS/%24file/Cognitie-groot.jpg&amp;imgrefurl=http://aarts3.web-log.nl/aarts3/2007/10/psychiatrie_geh.html&amp;h=350&amp;w=335&amp;sz=6&amp;hl=nl&amp;start=1&amp;tbnid=0E_kjXWvTCMMTM:&amp;tbnh=120&amp;tbnw=115&amp;prev=/images%3Fq%3Ddesori%25C3%25ABntatie%2Bin%2Bpersoon%26gbv%3D2%26svnum%3D10%26hl%3Dnl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nl/imgres?imgurl=http://www.klarenbeekklokken.nl/pubklok1.JPG&amp;imgrefurl=http://www.klarenbeekklokken.nl/pubklokkenklarenbeek.htm&amp;h=400&amp;w=400&amp;sz=23&amp;hl=nl&amp;start=50&amp;tbnid=ZoDRF8DPsiLEeM:&amp;tbnh=124&amp;tbnw=124&amp;prev=/images%3Fq%3Dwandklok%26start%3D40%26gbv%3D2%26ndsp%3D20%26svnum%3D10%26hl%3Dnl%26sa%3DN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obeindhoven.nl/www/Informatiecentrum/Dossiers/images/dementie.jpg&amp;imgrefurl=http://aarts3.web-log.nl/aarts3/2007/10/psychiatrie_geh.html&amp;h=229&amp;w=227&amp;sz=26&amp;hl=nl&amp;start=16&amp;tbnid=-nT3RE_8PPd_OM:&amp;tbnh=108&amp;tbnw=107&amp;prev=/images%3Fq%3Dgeheugenstoornis%26gbv%3D2%26svnum%3D10%26hl%3Dnl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bachbloesemadvies.be/cms/cms/grafisch/tekst/96_206_depressie.jpg&amp;imgrefurl=http://www.bachbloesemadvies.be/home.asp%3Fp_id%3D599%26p_naam%3DBachbloesems%26tsectie%3D1%26offset%3D0&amp;h=423&amp;w=284&amp;sz=145&amp;hl=nl&amp;start=8&amp;tbnid=KzXGxhVEf8qGfM:&amp;tbnh=126&amp;tbnw=85&amp;prev=/images%3Fq%3Ddepressie%26gbv%3D2%26svnum%3D10%26hl%3Dnl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rometheusfleets.com/spotlight/images/overige/maskers.PNG&amp;imgrefurl=http://www.prometheusfleets.com/spotlight/theater_geschiedenis.html&amp;h=171&amp;w=160&amp;sz=21&amp;hl=nl&amp;start=1&amp;tbnid=Xv1giZUaQQTraM:&amp;tbnh=100&amp;tbnw=94&amp;prev=/images%3Fq%3Dlach%2Ben%2Been%2Btraan%26gbv%3D2%26svnum%3D10%26hl%3Dnl%26sa%3DX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beamsolid.com/psychiatrie/delier/pic/delier-pa.gif&amp;imgrefurl=http://www.beamsolid.com/psychiatrie/delier/delier-pa.shtml&amp;h=160&amp;w=123&amp;sz=8&amp;hl=nl&amp;start=3&amp;tbnid=bAXa3RWNyntoLM:&amp;tbnh=98&amp;tbnw=75&amp;prev=/images%3Fq%3Ddelier%26gbv%3D2%26svnum%3D10%26hl%3Dnl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freewebs.com/doktersassistent/dementie.jpg&amp;imgrefurl=http://www.freewebs.com/doktersassistent/dementie.htm&amp;usg=__wZRm2ekb4OftAhVLwDVUjFHTWSw=&amp;h=259&amp;w=397&amp;sz=6&amp;hl=nl&amp;start=2&amp;sig2=gOwTKy9Z8GtoUYD4ddjTgA&amp;um=1&amp;itbs=1&amp;tbnid=E-dpR8fkfLjA_M:&amp;tbnh=81&amp;tbnw=124&amp;prev=/images%3Fq%3Ddementie%26um%3D1%26hl%3Dnl%26sa%3DN%26tbs%3Disch:1&amp;ei=vUSjS6_OEYqQjAepseXvCQ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astoralekroes.nl/Dementie/afbeeldingen/Dementie_II_-_Ouderdomsdementie/dementie2.jpg&amp;imgrefurl=http://www.pastoralekroes.nl/Dementie/DementieII-Ouderdomsdemen.html&amp;usg=__RQfQ5NP04QjhIyt6ug_SMfgvP-o=&amp;h=156&amp;w=240&amp;sz=17&amp;hl=nl&amp;start=23&amp;sig2=VOp3ZLePM42dHTZHfbH-Hw&amp;um=1&amp;itbs=1&amp;tbnid=q6rOQPIX_5JpbM:&amp;tbnh=72&amp;tbnw=110&amp;prev=/images%3Fq%3Ddementie%26start%3D21%26um%3D1%26hl%3Dnl%26sa%3DN%26ndsp%3D21%26tbs%3Disch:1&amp;ei=qUWjS_SRMMKRjAer4rX7Dg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degelderseroos.nl/bestanden/pagina/Dementie.jpg&amp;imgrefurl=http://www.degelderseroos.nl/site/Actueel/Interactie&amp;usg=__SaL7PfJXmNv2A4KGNp08E7AO2Dk=&amp;h=300&amp;w=212&amp;sz=9&amp;hl=nl&amp;start=6&amp;sig2=3FLHd-ceMI_FmhGk9DxZeg&amp;um=1&amp;itbs=1&amp;tbnid=Sjx0YT2PncufGM:&amp;tbnh=116&amp;tbnw=82&amp;prev=/images%3Fq%3Ddementie%26um%3D1%26hl%3Dnl%26sa%3DN%26tbs%3Disch:1&amp;ei=vUSjS6_OEYqQjAepseXvCQ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flaghouse.com/images/orangeGrove4.jpg&amp;imgrefurl=http://www.flaghouse.com/orangeGrove.asp&amp;h=300&amp;w=400&amp;sz=16&amp;hl=nl&amp;start=8&amp;tbnid=K2J6iOKnAvqwtM:&amp;tbnh=93&amp;tbnw=124&amp;prev=/images%3Fq%3Dsnoezelen%26gbv%3D2%26svnum%3D10%26hl%3Dnl" TargetMode="External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harmaselecta.nl/psonline/images/gijs/weetniet.gif&amp;imgrefurl=http://www.pharmaselecta.nl/site/index.php%3Foption%3Dcom_content%26task%3Dview%26id%3D277%26Itemid%3D53&amp;h=169&amp;w=99&amp;sz=4&amp;hl=nl&amp;start=5&amp;tbnid=ueNawOZnL3grPM:&amp;tbnh=99&amp;tbnw=58&amp;prev=/images%3Fq%3Dgeheugenverlies%26gbv%3D2%26svnum%3D10%26hl%3Dnl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nl/imgres?imgurl=https://www2.kuleuven.be/tiki/show_image.php%3Fid%3D138&amp;imgrefurl=https://www2.kuleuven.be/tiki/tiki-index.php%3Fpage%3Dsequencing&amp;h=300&amp;w=464&amp;sz=53&amp;hl=nl&amp;start=5&amp;tbnid=UrVtv6FmJ4644M:&amp;tbnh=83&amp;tbnw=128&amp;prev=/images%3Fq%3Dmoeilijkheden%2Bmet%2Bdenken%26gbv%3D2%26svnum%3D10%26hl%3Dnl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hyperlink" Target="http://images.google.nl/imgres?imgurl=http://www.ikonrtv.nl/uploadedImgs/1boos.jpg&amp;imgrefurl=http://www.ikonrtv.nl/kerknieuws/nieuws.asp%3FoId%3D4265&amp;h=231&amp;w=246&amp;sz=16&amp;hl=nl&amp;start=6&amp;tbnid=uh_w5MYgSBDFyM:&amp;tbnh=103&amp;tbnw=110&amp;prev=/images%3Fq%3Dboos%26gbv%3D2%26svnum%3D10%26hl%3Dnl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A32E-C8F8-4E72-981B-E9A6101A42F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800" spc="-1" strike="noStrike">
                <a:solidFill>
                  <a:srgbClr val="999900"/>
                </a:solidFill>
                <a:latin typeface="Garamond"/>
              </a:rPr>
              <a:t>Zorgvragers met dementie: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4DD7-C94C-4F8D-88F4-AF6BD689A73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verige vormen van dementie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oorzaak van dementie hoeft niet altijd in de hersenen te liggen maar kan ook do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 stoornis in het afweersystee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giftiging door zink of aluminiu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itaminegebre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ong- en nieraandoening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4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8" name="Picture 6" descr="art_large_5909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4149720"/>
            <a:ext cx="11700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DECE-0BFC-494A-8D85-2D6C0B87269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Overige vormen van dementie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orsakov-syndro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oor langdurig alcoholmisbruik en een slechte voedingstoest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giftiging hersencel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ids dementiecomple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ate complicatie bij een klein deel van de niet behandelde HIV patiënt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ziekte van Pi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ordt veroorzaakt door een aandoening in het voorste deel van de hersenen, gekenmerkt door ballonvormige zenuwcel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mentie bij syndroom van D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363C-9A16-46BA-A3C5-A236F770722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het dementiesyndroom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ymptomen van de eerste orde (symptomen die zich </a:t>
            </a:r>
            <a:r>
              <a:rPr b="0" lang="nl-NL" sz="2800" spc="-1" strike="noStrike">
                <a:solidFill>
                  <a:srgbClr val="999900"/>
                </a:solidFill>
                <a:latin typeface="Verdana"/>
              </a:rPr>
              <a:t>altijd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voordoen bij een vorm van dementi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ymptomen van de tweede orde (symptomen die zich </a:t>
            </a:r>
            <a:r>
              <a:rPr b="0" lang="nl-NL" sz="2800" spc="-1" strike="noStrike">
                <a:solidFill>
                  <a:srgbClr val="999900"/>
                </a:solidFill>
                <a:latin typeface="Verdana"/>
              </a:rPr>
              <a:t>soms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kunnen voordoe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2D1C-6E65-4990-B87C-DF79E035907C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mentie:</a:t>
            </a:r>
            <a:br>
              <a:rPr sz="4000"/>
            </a:b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 eerste orde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</a:rPr>
              <a:t>Geheugenstoorniss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Inprentingstoorniss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ort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14680" indent="-343080">
              <a:spcBef>
                <a:spcPts val="499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ieuwe informatie wordt niet opgesla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Lang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14680" indent="-343080">
              <a:spcBef>
                <a:spcPts val="499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goede herinneringen blijven het langste besta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7" descr="Herken dementie op tijd"/>
          <p:cNvPicPr/>
          <p:nvPr/>
        </p:nvPicPr>
        <p:blipFill>
          <a:blip r:embed="rId1"/>
          <a:stretch/>
        </p:blipFill>
        <p:spPr>
          <a:xfrm>
            <a:off x="6588000" y="4292640"/>
            <a:ext cx="16322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4DFED-4EE9-4210-8596-0BE26C6FA29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9900"/>
                </a:solidFill>
                <a:latin typeface="Garamond"/>
              </a:rPr>
              <a:t>Desoriëntatie in:</a:t>
            </a: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ij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weet niet op welk tijdstip hij zich bevind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la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weet niet waar hij is en raakt de weg kwij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erso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Familie en bekenden worden niet meer herke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oms weet men zelfs niet meer wie men zelf 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5" descr="Cognitie-groo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5661000"/>
            <a:ext cx="820800" cy="855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pubklok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96360" y="692280"/>
            <a:ext cx="1180800" cy="118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7A28-A0D7-4E46-8BC5-AA759CE806C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fas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taalstoorn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xpressieve afasie (expressie = uitdrukk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heeft moeite met het uiten van woor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eet wat hij wil zeggen maar kan het woord niet vin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ceptieve afasie (receptie = ontvang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hoort de woorden wel, maar begrijpt de betekenis niet me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5" descr="leesplankje1"/>
          <p:cNvPicPr/>
          <p:nvPr/>
        </p:nvPicPr>
        <p:blipFill>
          <a:blip r:embed="rId1"/>
          <a:stretch/>
        </p:blipFill>
        <p:spPr>
          <a:xfrm>
            <a:off x="6732720" y="549360"/>
            <a:ext cx="19429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D1D3-55E8-4AA8-8EA8-8D5BC71E211F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gnos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niet meer herkennen van voorwerp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an de zintuigen mankeert niets, maar in het geheugen wordt niet opgeroepen om welk voorwerp het gaa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5" descr="dement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4149720"/>
            <a:ext cx="1446480" cy="1460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9046-0BA0-485D-B70F-E169EEACF6E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prax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ij apraxie is een zorgvrager niet in staat een handeling doelbewust uit te voer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4" descr="kleding07"/>
          <p:cNvPicPr/>
          <p:nvPr/>
        </p:nvPicPr>
        <p:blipFill>
          <a:blip r:embed="rId1"/>
          <a:stretch/>
        </p:blipFill>
        <p:spPr>
          <a:xfrm>
            <a:off x="1763640" y="3429000"/>
            <a:ext cx="1521000" cy="1657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wassen15"/>
          <p:cNvPicPr/>
          <p:nvPr/>
        </p:nvPicPr>
        <p:blipFill>
          <a:blip r:embed="rId2"/>
          <a:stretch/>
        </p:blipFill>
        <p:spPr>
          <a:xfrm>
            <a:off x="4788000" y="3357720"/>
            <a:ext cx="25509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ijdelijke aanduiding voor dianumm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B135-0B0F-4971-9F1A-338003F47EB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 tweede orde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ersev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onfabul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zamelzuc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chterdoc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corumverl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temmin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aarnemin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nk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dra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bale en fysieke agress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(Motorische) onru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ersoonlijkheids-veranderi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li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9DCBC-BE1D-47EE-B677-A158E031B99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Persever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rhaling van steeds dezelfde vragen en / of opmerking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f de zorgvrager vertelt steeds hetzelfde verha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4" descr="ziekenhuis10"/>
          <p:cNvPicPr/>
          <p:nvPr/>
        </p:nvPicPr>
        <p:blipFill>
          <a:blip r:embed="rId1"/>
          <a:stretch/>
        </p:blipFill>
        <p:spPr>
          <a:xfrm>
            <a:off x="1332000" y="42210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ziekenhuis10"/>
          <p:cNvPicPr/>
          <p:nvPr/>
        </p:nvPicPr>
        <p:blipFill>
          <a:blip r:embed="rId2"/>
          <a:stretch/>
        </p:blipFill>
        <p:spPr>
          <a:xfrm>
            <a:off x="3492360" y="42210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ziekenhuis10"/>
          <p:cNvPicPr/>
          <p:nvPr/>
        </p:nvPicPr>
        <p:blipFill>
          <a:blip r:embed="rId3"/>
          <a:stretch/>
        </p:blipFill>
        <p:spPr>
          <a:xfrm>
            <a:off x="5724360" y="42210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712E-F019-4536-94E6-3FCAE13A62C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7" name="Picture 3" descr="plaquesentangles2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14EE-95A9-4B47-9F88-9664AECF694B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Confabul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kan zich een bepaald verhaal niet herinneren of is tijdens het vertellen de draad kwijtgeraak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lege plekken in zijn geheugen vult hij op met fantasieë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doet dit volledig ter goeder trou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160C-AF14-471B-9F8B-4321318CC17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erzamelzuch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verzamelen van allerlei voorwerpen en bewaart deze op een voor hem veilige pla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wil nog ergens controle over hebb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Picture 5" descr="index"/>
          <p:cNvPicPr/>
          <p:nvPr/>
        </p:nvPicPr>
        <p:blipFill>
          <a:blip r:embed="rId1"/>
          <a:stretch/>
        </p:blipFill>
        <p:spPr>
          <a:xfrm>
            <a:off x="4284720" y="4437000"/>
            <a:ext cx="128916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0B32-72E5-4D3E-B5A0-406985EA095B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chterdocht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met dementie is erg achterdochtig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9507-5C61-461E-983A-F2FF28CE221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corumverli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raakt zijn waarden en normen kwijt en zijn gevoel over wat wel en niet kan betreffende o.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le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t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mgangsvorme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4" descr="kabouters37"/>
          <p:cNvPicPr/>
          <p:nvPr/>
        </p:nvPicPr>
        <p:blipFill>
          <a:blip r:embed="rId1"/>
          <a:stretch/>
        </p:blipFill>
        <p:spPr>
          <a:xfrm>
            <a:off x="5508720" y="4005360"/>
            <a:ext cx="156852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0930-52C8-44EC-838F-FBA60A0BFD2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temmings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path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zorgvrager is soezerig en heeft geen aandacht voor hetgeen om hem heen gebeu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press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oor lichamelijke of psychische oorzaa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ufor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egenovergestelde van een depress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5" descr="96_206_depress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67640" y="4221000"/>
            <a:ext cx="80964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A8F5-C562-4837-B726-DC515092F37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aarnemingsstoorniss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arnemingsstoornissen zijn stoornissen van de zintuig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i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uik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o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oe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ev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rrigeren van de waarnemingsstoornis heeft geen zin, omdat de zorgvrager dit als werkelijkheid waarneem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0252-D028-4B4A-9DAD-D066E3BCBE7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nkstoorniss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nkstoornissen kunnen zich uiten in de vorm va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raaghei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duld is een schone za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coherenti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inhoud van het denken is niet meer logis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31E9-480A-48BE-9D09-32D7D92C1C3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Gedrags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bale en fysieke agress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otorische on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4" descr="slapen55"/>
          <p:cNvPicPr/>
          <p:nvPr/>
        </p:nvPicPr>
        <p:blipFill>
          <a:blip r:embed="rId1"/>
          <a:stretch/>
        </p:blipFill>
        <p:spPr>
          <a:xfrm>
            <a:off x="4788000" y="4724280"/>
            <a:ext cx="1171440" cy="13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ruzie10"/>
          <p:cNvPicPr/>
          <p:nvPr/>
        </p:nvPicPr>
        <p:blipFill>
          <a:blip r:embed="rId2"/>
          <a:stretch/>
        </p:blipFill>
        <p:spPr>
          <a:xfrm>
            <a:off x="5867280" y="2349360"/>
            <a:ext cx="13338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89E1-13BE-4CC5-85A7-89F0C24B4FA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Persoonlijkheidsverandering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persoonlijkheidsverandering houdt i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en verandering van karaktereigenschapp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erping van karaktereigenschappe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5" descr="mask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1640" y="4076640"/>
            <a:ext cx="13431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7666-84F6-4648-ABC6-192C5F73136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lier (of delirium)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organisch psychiatrisch syndro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ordt gekenmerkt door o.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inder helder bewustzijn van de omgeving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ncentratieprobleme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gnitieve functie stoornissen (zoals geheugen-, ori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Arial"/>
              </a:rPr>
              <a:t>ë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tatie- en taalstoornissen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oord waak- slaapritm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5" descr="delier-p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5300640"/>
            <a:ext cx="7146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5F55-0D55-4F53-9328-617278AAEF3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at is dementie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mentie is 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Verdana"/>
              </a:rPr>
              <a:t>geen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normaal ouderdomsverschijns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yndroom dat zich kenmerkt do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illende cognitieve functiestoorni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oenemende aftakeling van psychische func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5" descr="dement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189000"/>
            <a:ext cx="19447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5AD0-49C8-479F-B90C-962C50ADBEE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Oorzaken delie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edicijngebrui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Ziekten in de hersenen (infectie, tumo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etabole stoornisse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ierinsufficiën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everinsufficiën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itamine B 12 tek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44C4-D0D7-401C-B952-052879693EEF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tadia dementie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1: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een lichte verwar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2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verwardheid in tijd en lichte geheugenstoorni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3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opvallende geheugenstoornissen, zowel bij de inprenting als bij het kort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C5F34-2502-4725-BE6F-1947C8F6677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4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desoriëntatie en het afnemen van het gevoelsleven, decorumverlies en persoonlijkheidsveranderi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5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dat de zorgvrager volledig onbereikbaar i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tadia dem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45" name="Picture 8" descr="dementie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4686480"/>
            <a:ext cx="1655640" cy="108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9764-9FED-47B6-9754-D728CC16202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Kenmerken 'lichte dementie':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als/dan vraag wordt moeilijker te beantwoorde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hypothetisch denken neemt af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el ziekte-besef. Geen ziekte-inzicht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gocentrism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en begrip meer voor formele regel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nige vorm van ontremd gedrag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5A91-9E9F-42DE-8825-36DE2FF37AA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De jong dementerende zorgvrager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ussen 4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Verdana"/>
              </a:rPr>
              <a:t>ste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en 5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Verdana"/>
              </a:rPr>
              <a:t>ste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levensja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orzak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iekte van Alzheim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ziekte van Pic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chorea van Huntingt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reutsfeldt-Jacob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aidsdementia-comple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hronisch alcoholmisbrui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3A14-C783-49A5-9338-974013D70BB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lgemene omgangsadviezen: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mente mensen onthouden vaak we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zich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it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verzorgende moet rekening houden me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esp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een onderwerp per z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angzaam en duidelijk pra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en dubbele ontkenni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ees duidelijk bij het belo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a conflicten zo veel mogelijk uit de we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Tact bij corrigeren van de oude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beer schrikken te voorko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de zintuigen die goed werk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5882-1A58-4AB3-8F4B-9D4672012A4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aliteits Oriëntatie Benade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lidationtherap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arme zorg, snoeze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miniscent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levingsgerichte zor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Benaderingswijz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BE97C-F359-4820-B3E5-EE5979A5DD5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oelstelling van ROB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lgemeen doel: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Realiteits Oriëntatie Benadering heeft tot doel een verdere achteruitgang in het contact met en de aanpassing aan de omgeving van de dementerende oudere te voorkom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9E1C-0250-47B7-87C3-666AA78307A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Vervolg doelstelling van ROB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pgesplitst in 3 specifiekere doel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zo lang mogelijk in stand houden en eventueel verbeteren van lichamelijke, psychische en sociale functies die gestoord zij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bewoners een zodanig leefklimaat bieden dat deze zich vertrouwd voelen met hun omgeving en de mensen om hen he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personeel, familie en bekenden ertoe brengen een zodanige relatie met de bewo­ner op te bouwen dat deze gestimuleerd en geactiveerd wordt tot handelingen en bezigheden waartoe hij nog in staat 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7E4A-FCA2-4094-8F92-8E9E159A67B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ROB in groepsverband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 kleine groep bewoners in een speciale ruimte, waarmee activiteiten gedaan worden, die gericht zijn op de realite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B.v. kranten lezen, weerbericht doornemen, elkaars namen noemen, enz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attitude van de verzorgende tijdens de ROB is erg belangrij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loof in stimulerende werking van RO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duidigheid in benadering van de bewo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ndersteunende en geen betuttelende hou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maken van iedere gelegenheid om het contact met de werkelijkheid te laten hervind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73D5-FFFF-495A-8445-D1FE0EB0C40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Cognitieve functie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Cognitieve functiestoornissen zijn problemen m.b.t. het waarnemen, taal, geheugen en denk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5" descr="Dementie">
            <a:hlinkClick r:id="rId1"/>
          </p:cNvPr>
          <p:cNvPicPr/>
          <p:nvPr/>
        </p:nvPicPr>
        <p:blipFill>
          <a:blip r:embed="rId2"/>
          <a:srcRect l="0" t="21668" r="0" b="25839"/>
          <a:stretch/>
        </p:blipFill>
        <p:spPr>
          <a:xfrm>
            <a:off x="6804000" y="4797360"/>
            <a:ext cx="16462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00BF-A38E-450B-9135-6F2F87EFDFB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 u="sng">
                <a:solidFill>
                  <a:srgbClr val="999900"/>
                </a:solidFill>
                <a:uFillTx/>
                <a:latin typeface="Garamond"/>
              </a:rPr>
              <a:t>Wat is Validationtherapie</a:t>
            </a: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lidationtherapie is een benaderingswijze van de pg bewoner, die zich richt op het bevestigen van eigen gevoelens, van de eigen beleving van het verled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is een benaderingswijze die de bewoner accepteert daar waar hij is, in zijn realiteit en tij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554E-A54E-4618-B8C3-0AF96256E55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Doelstellingen validationtherapie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voel van eigen waarde herstellen/terugwinn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panning vermind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chtvaardigen van de manier van lev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nverwerkte conflicten oplossen uit het verled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Zich gelukkiger kunnen voel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5D04-12B9-4CBA-A49E-9713F53FDFB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Warme zorg, Snoezele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wereld van dementie schept voortdurend een beleving van dreiging, onveiligheid en ang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vastgelopen geheugen ontneemt de demente zijn vroegere zekerheden. De demente is een vreemdeling geworden in een voor hem vreemde omgev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j zoekt oriëntatiepunten. Hij hoopt bescherming, warmte en veiligheid te krijgen. Hij heeft behoefte aan de veiligheid van de eigen oud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C88C-C0CE-417E-A76D-94EFB22FA2CC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ervol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rme zorg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noezelen"    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"Respons Provoting Approach" 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emen de beleving van de demente bewoner als uitgangspu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doel is een milieu/omgeving te scheppen die tegemoe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omt aan de belangrijkste emotionele behoefte van de demente verwarde bewoner: veilighei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7D58-BDC3-45BE-B951-D726FC742F39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noezelen: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s een therapievorm die aansluit bij warme zor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noezelen is het primair activeren van diep gestoorden (dementen) door middel van zintuiglijke waarnemingen en ervaring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(licht, geluid, tast, reuk en smaak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iep dementen zijn vaak niet te bereiken met ROB of Validationtherapi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geheugen en het denken werkt niet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us een stapje terug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primaire activering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er is het niet belangrijk om b.v. A.D.L. in stand te houden, maar om contact te maken met de bewon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037F-2FC0-44FD-851E-DB37C7D9E1AB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ctiviteit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ichamelijk cont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Poppen/knuffelbees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leine huisdi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uimtelijke aanpassing: licht, geluid, kl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noeien/werken met zachte kneedbare materia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extiel/bal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ur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5" descr="orangeGrove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4437000"/>
            <a:ext cx="1181160" cy="8859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snoezelen2_300"/>
          <p:cNvPicPr/>
          <p:nvPr/>
        </p:nvPicPr>
        <p:blipFill>
          <a:blip r:embed="rId3"/>
          <a:stretch/>
        </p:blipFill>
        <p:spPr>
          <a:xfrm>
            <a:off x="6443640" y="105264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" descr="31"/>
          <p:cNvPicPr/>
          <p:nvPr/>
        </p:nvPicPr>
        <p:blipFill>
          <a:blip r:embed="rId4"/>
          <a:stretch/>
        </p:blipFill>
        <p:spPr>
          <a:xfrm>
            <a:off x="3851280" y="4653000"/>
            <a:ext cx="123840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9FD9-F346-40EB-88F7-F83BC57D6DE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eerstand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inderachtig gedoe: bewoner moet toch als volwassene benaderd worde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langrijk is dat je de bewoner accepteert op zijn niveau en ingaat op zijn behoeft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ichamelijkheid is vaak een tabo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Familie (en personeel) vinden het vaak een schokkende ervar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5" descr="sneoz2"/>
          <p:cNvPicPr/>
          <p:nvPr/>
        </p:nvPicPr>
        <p:blipFill>
          <a:blip r:embed="rId1"/>
          <a:stretch/>
        </p:blipFill>
        <p:spPr>
          <a:xfrm>
            <a:off x="5867280" y="5229360"/>
            <a:ext cx="11811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6D2E-88D2-4542-A11B-4197412EFF1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Reminisc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ij deze benaderingswijze staan de positieve ervaringen centra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nneer je met een bewoner over zijn herinneringen uit het verleden praat, krijg je als verzorgende ook meer inzicht in zijn levensloo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miniscentie is niet alleen het ophalen of opkomen van herinneringen, maar ook erbij stilstaan (reflectie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is dus een terugdenken aan en nadenken over levensgebeurtenissen die men ervaart als behorend tot het leve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8432-E8B0-4384-89FC-1C73E2E8F9FB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Belevingsgerichte zorg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en belevingsgerichte benadering is een benadering waarbij je rekening houdt met de belevingswereld van de zorgvrag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rie oorzaken voor verschillen in belevingswere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schillende vormen van dementie die elk op een eigen manier tot uiting ko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rakter voordat de verschijnselen van dementie er wa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lke dementerende oudere heeft zijn eigen levensgeschieden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8D36-40F2-4DF1-9BE4-EF900BF17B9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FARIA CLOW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17" name="Afbeelding 3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24656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ftakeling psychische functi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toenemende aftakeling van psychische functies veranderen ingrijpend het gedrag en het karakter van mens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1E64-5579-4FD3-9424-80C1E23D8EE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m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mentie is een verzamelnaam voor een aantal aandoeningen met gemeenschappelijke symptom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2809-97DA-4824-953E-6DD21A169239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0503-43A6-435F-B61F-8DB4302EAA3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Gemeenschappelijke symptomen van dementie (verzamelnaam)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heugenverl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lies van ori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ëntat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Moeilijkheden met den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Verandering van gedra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5" descr="weetnie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1557360"/>
            <a:ext cx="552240" cy="942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show_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32720" y="2133720"/>
            <a:ext cx="1218960" cy="790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game-pic3"/>
          <p:cNvPicPr/>
          <p:nvPr/>
        </p:nvPicPr>
        <p:blipFill>
          <a:blip r:embed="rId5"/>
          <a:stretch/>
        </p:blipFill>
        <p:spPr>
          <a:xfrm>
            <a:off x="6227640" y="3141720"/>
            <a:ext cx="716040" cy="1111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3" name="Picture 13" descr="1boo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211640" y="4437000"/>
            <a:ext cx="10476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BE95-19AF-417B-B4F1-2AEBD335E71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0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eniele dementie van het Alzheimertyp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moedelijk worden de hersencellen verdrongen door aan elkaar geklitte zenuw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orzaak is eiwitstapel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gressief verloo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ymptome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erlies van interesse in de omgev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soriëntatie in tijd en plaa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ereenvoudigd taalgebrui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Persoonlijkheidsveranderinge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Stemmingsstoornissen en denkstoorniss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5" descr="Doorsnede: hersenen bij Alzheimer zijn gekrompen; spraak en geheugen zijn gestoord"/>
          <p:cNvPicPr/>
          <p:nvPr/>
        </p:nvPicPr>
        <p:blipFill>
          <a:blip r:embed="rId1"/>
          <a:stretch/>
        </p:blipFill>
        <p:spPr>
          <a:xfrm>
            <a:off x="6095880" y="2708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9F12-16FB-4599-B926-58E53D1ADA1B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sculaire dement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schadiging van de hersenen door problemen met de bloedvaten, b.v. een C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eft een trapsgewijs dalend verlo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ymptomen zijn afhankelijk van de plaats van de beschadiging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heugenstoorniss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fas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blemen met de coördina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4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3" name="Picture 6" descr="MRI"/>
          <p:cNvPicPr/>
          <p:nvPr/>
        </p:nvPicPr>
        <p:blipFill>
          <a:blip r:embed="rId1"/>
          <a:stretch/>
        </p:blipFill>
        <p:spPr>
          <a:xfrm>
            <a:off x="6948360" y="4365720"/>
            <a:ext cx="943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5T20:47:05Z</dcterms:created>
  <dc:creator>Joke Kuyk</dc:creator>
  <dc:description/>
  <dc:language>en-US</dc:language>
  <cp:lastModifiedBy>spd</cp:lastModifiedBy>
  <dcterms:modified xsi:type="dcterms:W3CDTF">2012-03-28T13:31:21Z</dcterms:modified>
  <cp:revision>26</cp:revision>
  <dc:subject/>
  <dc:title>Psychogeriatrische zorgvragers:</dc:title>
</cp:coreProperties>
</file>