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0.gif" ContentType="image/gif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gif" ContentType="image/gif"/>
  <Override PartName="/ppt/media/image19.png" ContentType="image/pn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8C68-F1D8-4040-B11D-DAD0F36BC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5691-CB42-4401-B09C-0C0292B5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0007-3E32-4E12-8743-A63457AB6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A91D-3B92-457A-AA5F-2ADE8ABE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C943-7447-45D0-963F-EAAF6C39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8DC1-4D1F-4CE3-9644-0CCED3E1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B89E-E41E-4FB2-A639-2C2D2D2A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350C-35DF-47FC-B38C-EA2D8DEE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D388-1C3E-4CC7-9687-A19DEE2E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B45A-8FA0-4ED2-95EA-5070CD2E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2A7C-6358-423C-AF83-2EEF257A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1C49-AD94-478B-950B-A5CB47DA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3F04-ABEA-4CAB-802A-FC707C93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E64C-AE62-4BEA-BBCB-03A9B778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2FB2-6573-41B4-BDDD-36CF85CD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979F-CC9C-4948-AF3A-07DDDA6B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34EC-9BD3-4D1F-88FA-F4093F59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9705-11BD-4223-859D-89653279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B5ED-B483-44CE-949B-37605C12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0338-5894-4E62-8CFD-EB6E381F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6862-2FB8-49EB-8277-D2AE6132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297E-83F1-477C-A82C-903462A8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02F8-9415-49E8-92CA-991E16EC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9C32-F683-48DC-936D-27F0A1BA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0EEA-15BE-4BD0-9581-931B37EDCDA2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263A-3890-4B3A-97C2-96B45B5163C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5072-3473-46E5-9C2F-EE30B3F1B535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D9FD-1E12-4E91-B617-7C22291BD048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hln.be/static/FOTO/pe/14/2/5/art_large_590990.jpg&amp;imgrefurl=http://www.hln.be/hln/nl/33/Fit-Gezond/article/detail/557942/2008/12/17/Sarcasme-helpt-dementie-ontdekken.dhtml&amp;usg=__In8SkNytTqq_9LQlMCfFeXHyYBQ=&amp;h=332&amp;w=249&amp;sz=8&amp;hl=nl&amp;start=24&amp;sig2=I3-CAEXOfWsyBT0_MFfwUw&amp;um=1&amp;itbs=1&amp;tbnid=UVwXn6jRZtCJwM:&amp;tbnh=119&amp;tbnw=89&amp;prev=/images%3Fq%3Ddementie%26start%3D21%26um%3D1%26hl%3Dnl%26sa%3DN%26ndsp%3D21%26tbs%3Disch:1&amp;ei=qUWjS_SRMMKRjAer4rX7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nwo.nl/images.nsf/pages/NWOP_5XCECS/%24file/Cognitie-groot.jpg&amp;imgrefurl=http://aarts3.web-log.nl/aarts3/2007/10/psychiatrie_geh.html&amp;h=350&amp;w=335&amp;sz=6&amp;hl=nl&amp;start=1&amp;tbnid=0E_kjXWvTCMMTM:&amp;tbnh=120&amp;tbnw=115&amp;prev=/images%3Fq%3Ddesori%25C3%25ABntatie%2Bin%2Bpersoon%26gbv%3D2%26svnum%3D10%26hl%3Dnl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nl/imgres?imgurl=http://www.klarenbeekklokken.nl/pubklok1.JPG&amp;imgrefurl=http://www.klarenbeekklokken.nl/pubklokkenklarenbeek.htm&amp;h=400&amp;w=400&amp;sz=23&amp;hl=nl&amp;start=50&amp;tbnid=ZoDRF8DPsiLEeM:&amp;tbnh=124&amp;tbnw=124&amp;prev=/images%3Fq%3Dwandklok%26start%3D40%26gbv%3D2%26ndsp%3D20%26svnum%3D10%26hl%3Dnl%26sa%3DN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beindhoven.nl/www/Informatiecentrum/Dossiers/images/dementie.jpg&amp;imgrefurl=http://aarts3.web-log.nl/aarts3/2007/10/psychiatrie_geh.html&amp;h=229&amp;w=227&amp;sz=26&amp;hl=nl&amp;start=16&amp;tbnid=-nT3RE_8PPd_OM:&amp;tbnh=108&amp;tbnw=107&amp;prev=/images%3Fq%3Dgeheugenstoornis%26gbv%3D2%26svnum%3D10%26hl%3Dn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bachbloesemadvies.be/cms/cms/grafisch/tekst/96_206_depressie.jpg&amp;imgrefurl=http://www.bachbloesemadvies.be/home.asp%3Fp_id%3D599%26p_naam%3DBachbloesems%26tsectie%3D1%26offset%3D0&amp;h=423&amp;w=284&amp;sz=145&amp;hl=nl&amp;start=8&amp;tbnid=KzXGxhVEf8qGfM:&amp;tbnh=126&amp;tbnw=85&amp;prev=/images%3Fq%3Ddepressie%26gbv%3D2%26svnum%3D10%26hl%3Dn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rometheusfleets.com/spotlight/images/overige/maskers.PNG&amp;imgrefurl=http://www.prometheusfleets.com/spotlight/theater_geschiedenis.html&amp;h=171&amp;w=160&amp;sz=21&amp;hl=nl&amp;start=1&amp;tbnid=Xv1giZUaQQTraM:&amp;tbnh=100&amp;tbnw=94&amp;prev=/images%3Fq%3Dlach%2Ben%2Been%2Btraan%26gbv%3D2%26svnum%3D10%26hl%3Dnl%26sa%3DX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beamsolid.com/psychiatrie/delier/pic/delier-pa.gif&amp;imgrefurl=http://www.beamsolid.com/psychiatrie/delier/delier-pa.shtml&amp;h=160&amp;w=123&amp;sz=8&amp;hl=nl&amp;start=3&amp;tbnid=bAXa3RWNyntoLM:&amp;tbnh=98&amp;tbnw=75&amp;prev=/images%3Fq%3Ddelier%26gbv%3D2%26svnum%3D10%26hl%3Dnl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freewebs.com/doktersassistent/dementie.jpg&amp;imgrefurl=http://www.freewebs.com/doktersassistent/dementie.htm&amp;usg=__wZRm2ekb4OftAhVLwDVUjFHTWSw=&amp;h=259&amp;w=397&amp;sz=6&amp;hl=nl&amp;start=2&amp;sig2=gOwTKy9Z8GtoUYD4ddjTgA&amp;um=1&amp;itbs=1&amp;tbnid=E-dpR8fkfLjA_M:&amp;tbnh=81&amp;tbnw=124&amp;prev=/images%3Fq%3Ddementie%26um%3D1%26hl%3Dnl%26sa%3DN%26tbs%3Disch:1&amp;ei=vUSjS6_OEYqQjAepseXvCQ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astoralekroes.nl/Dementie/afbeeldingen/Dementie_II_-_Ouderdomsdementie/dementie2.jpg&amp;imgrefurl=http://www.pastoralekroes.nl/Dementie/DementieII-Ouderdomsdemen.html&amp;usg=__RQfQ5NP04QjhIyt6ug_SMfgvP-o=&amp;h=156&amp;w=240&amp;sz=17&amp;hl=nl&amp;start=23&amp;sig2=VOp3ZLePM42dHTZHfbH-Hw&amp;um=1&amp;itbs=1&amp;tbnid=q6rOQPIX_5JpbM:&amp;tbnh=72&amp;tbnw=110&amp;prev=/images%3Fq%3Ddementie%26start%3D21%26um%3D1%26hl%3Dnl%26sa%3DN%26ndsp%3D21%26tbs%3Disch:1&amp;ei=qUWjS_SRMMKRjAer4rX7D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degelderseroos.nl/bestanden/pagina/Dementie.jpg&amp;imgrefurl=http://www.degelderseroos.nl/site/Actueel/Interactie&amp;usg=__SaL7PfJXmNv2A4KGNp08E7AO2Dk=&amp;h=300&amp;w=212&amp;sz=9&amp;hl=nl&amp;start=6&amp;sig2=3FLHd-ceMI_FmhGk9DxZeg&amp;um=1&amp;itbs=1&amp;tbnid=Sjx0YT2PncufGM:&amp;tbnh=116&amp;tbnw=82&amp;prev=/images%3Fq%3Ddementie%26um%3D1%26hl%3Dnl%26sa%3DN%26tbs%3Disch:1&amp;ei=vUSjS6_OEYqQjAepseXvCQ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flaghouse.com/images/orangeGrove4.jpg&amp;imgrefurl=http://www.flaghouse.com/orangeGrove.asp&amp;h=300&amp;w=400&amp;sz=16&amp;hl=nl&amp;start=8&amp;tbnid=K2J6iOKnAvqwtM:&amp;tbnh=93&amp;tbnw=124&amp;prev=/images%3Fq%3Dsnoezelen%26gbv%3D2%26svnum%3D10%26hl%3Dnl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harmaselecta.nl/psonline/images/gijs/weetniet.gif&amp;imgrefurl=http://www.pharmaselecta.nl/site/index.php%3Foption%3Dcom_content%26task%3Dview%26id%3D277%26Itemid%3D53&amp;h=169&amp;w=99&amp;sz=4&amp;hl=nl&amp;start=5&amp;tbnid=ueNawOZnL3grPM:&amp;tbnh=99&amp;tbnw=58&amp;prev=/images%3Fq%3Dgeheugenverlies%26gbv%3D2%26svnum%3D10%26hl%3Dnl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nl/imgres?imgurl=https://www2.kuleuven.be/tiki/show_image.php%3Fid%3D138&amp;imgrefurl=https://www2.kuleuven.be/tiki/tiki-index.php%3Fpage%3Dsequencing&amp;h=300&amp;w=464&amp;sz=53&amp;hl=nl&amp;start=5&amp;tbnid=UrVtv6FmJ4644M:&amp;tbnh=83&amp;tbnw=128&amp;prev=/images%3Fq%3Dmoeilijkheden%2Bmet%2Bdenken%26gbv%3D2%26svnum%3D10%26hl%3Dnl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hyperlink" Target="http://images.google.nl/imgres?imgurl=http://www.ikonrtv.nl/uploadedImgs/1boos.jpg&amp;imgrefurl=http://www.ikonrtv.nl/kerknieuws/nieuws.asp%3FoId%3D4265&amp;h=231&amp;w=246&amp;sz=16&amp;hl=nl&amp;start=6&amp;tbnid=uh_w5MYgSBDFyM:&amp;tbnh=103&amp;tbnw=110&amp;prev=/images%3Fq%3Dboos%26gbv%3D2%26svnum%3D10%26hl%3Dnl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FE92-6B56-4F71-9F93-18373E6A46F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800" spc="-1" strike="noStrike">
                <a:solidFill>
                  <a:srgbClr val="999900"/>
                </a:solidFill>
                <a:latin typeface="Garamond"/>
              </a:rPr>
              <a:t>Zorgvragers met dementie: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540C-6D9F-4340-B634-789A81A7BC5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verige vormen van dementi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oorzaak van dementie hoeft niet altijd in de hersenen te liggen maar kan ook do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 stoornis in het afweersystee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giftiging door zink of aluminiu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taminegebre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ong- en nieraandoenin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4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8" name="Picture 6" descr="art_large_5909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149720"/>
            <a:ext cx="11700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D63E-D852-4AA1-8E50-82A54885831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verige vormen van dementie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sakov-synd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oor langdurig alcoholmisbruik en een slechte voedingstoest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giftiging hersenc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ids dementiecomple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ate complicatie bij een klein deel van de niet behandelde HIV patiënt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ziekte van Pi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ordt veroorzaakt door een aandoening in het voorste deel van de hersenen, gekenmerkt door ballonvormige zenuwc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mentie bij syndroom van D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C488-BF97-4007-8441-817CB43562C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het dementiesyndroom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ymptomen van de eerste orde (symptomen die zich </a:t>
            </a:r>
            <a:r>
              <a:rPr b="0" lang="nl-NL" sz="2800" spc="-1" strike="noStrike">
                <a:solidFill>
                  <a:srgbClr val="999900"/>
                </a:solidFill>
                <a:latin typeface="Verdana"/>
              </a:rPr>
              <a:t>altijd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voordoen bij een vorm van dementi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ymptomen van de tweede orde (symptomen die zich </a:t>
            </a:r>
            <a:r>
              <a:rPr b="0" lang="nl-NL" sz="2800" spc="-1" strike="noStrike">
                <a:solidFill>
                  <a:srgbClr val="999900"/>
                </a:solidFill>
                <a:latin typeface="Verdana"/>
              </a:rPr>
              <a:t>soms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kunnen voordoe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64F3-AA48-4BCB-86A4-5DE4AEA63BA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mentie:</a:t>
            </a:r>
            <a:br>
              <a:rPr sz="4000"/>
            </a:b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 eerste orde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Geheugenstoorniss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nprentingstoorniss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t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ieuwe informatie wordt niet opgesla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ang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goede herinneringen blijven het langste besta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7" descr="Herken dementie op tijd"/>
          <p:cNvPicPr/>
          <p:nvPr/>
        </p:nvPicPr>
        <p:blipFill>
          <a:blip r:embed="rId1"/>
          <a:stretch/>
        </p:blipFill>
        <p:spPr>
          <a:xfrm>
            <a:off x="6588000" y="4292640"/>
            <a:ext cx="16322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FCB8-21A6-4E39-B5A3-C877643D1FB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9900"/>
                </a:solidFill>
                <a:latin typeface="Garamond"/>
              </a:rPr>
              <a:t>Desoriëntatie in:</a:t>
            </a: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ij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weet niet op welk tijdstip hij zich bevind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la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weet niet waar hij is en raakt de weg kwij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erso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Familie en bekenden worden niet meer herk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oms weet men zelfs niet meer wie men zelf 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5" descr="Cognitie-groo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5661000"/>
            <a:ext cx="820800" cy="855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pubklok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692280"/>
            <a:ext cx="1180800" cy="11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BA4B-E890-413A-B6E8-B87562113E7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fas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taalstoorn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pressieve afasie (expressie = uitdrukk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heeft moeite met het uiten van woor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eet wat hij wil zeggen maar kan het woord niet vin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ceptieve afasie (receptie = ontvang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hoort de woorden wel, maar begrijpt de betekenis niet m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5" descr="leesplankje1"/>
          <p:cNvPicPr/>
          <p:nvPr/>
        </p:nvPicPr>
        <p:blipFill>
          <a:blip r:embed="rId1"/>
          <a:stretch/>
        </p:blipFill>
        <p:spPr>
          <a:xfrm>
            <a:off x="6732720" y="549360"/>
            <a:ext cx="19429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0F46-C6D8-477A-9619-133EA88F311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gnos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niet meer herkennen van voorwerp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an de zintuigen mankeert niets, maar in het geheugen wordt niet opgeroepen om welk voorwerp het gaa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demen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149720"/>
            <a:ext cx="1446480" cy="1460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F1FB-4E69-4E3E-834B-592FD902114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prax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ij apraxie is een zorgvrager niet in staat een handeling doelbewust uit te voer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4" descr="kleding07"/>
          <p:cNvPicPr/>
          <p:nvPr/>
        </p:nvPicPr>
        <p:blipFill>
          <a:blip r:embed="rId1"/>
          <a:stretch/>
        </p:blipFill>
        <p:spPr>
          <a:xfrm>
            <a:off x="1763640" y="3429000"/>
            <a:ext cx="1521000" cy="1657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wassen15"/>
          <p:cNvPicPr/>
          <p:nvPr/>
        </p:nvPicPr>
        <p:blipFill>
          <a:blip r:embed="rId2"/>
          <a:stretch/>
        </p:blipFill>
        <p:spPr>
          <a:xfrm>
            <a:off x="4788000" y="3357720"/>
            <a:ext cx="25509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ijdelijke aanduiding voor dianumm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7006-9D7B-40FE-9310-62E824AFB72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 tweede ord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sev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onfabul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zamelzu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chterdo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corumverl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temmin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aarnemin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nk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ra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bale en fysieke agres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(Motorische) onru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soonlijkheids-veranderi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li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C241-7E0E-4363-99E7-F79D01FD440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Persever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rhaling van steeds dezelfde vragen en / of opmerking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f de zorgvrager vertelt steeds hetzelfde verha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4" descr="ziekenhuis10"/>
          <p:cNvPicPr/>
          <p:nvPr/>
        </p:nvPicPr>
        <p:blipFill>
          <a:blip r:embed="rId1"/>
          <a:stretch/>
        </p:blipFill>
        <p:spPr>
          <a:xfrm>
            <a:off x="1332000" y="4221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ziekenhuis10"/>
          <p:cNvPicPr/>
          <p:nvPr/>
        </p:nvPicPr>
        <p:blipFill>
          <a:blip r:embed="rId2"/>
          <a:stretch/>
        </p:blipFill>
        <p:spPr>
          <a:xfrm>
            <a:off x="3492360" y="4221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ziekenhuis10"/>
          <p:cNvPicPr/>
          <p:nvPr/>
        </p:nvPicPr>
        <p:blipFill>
          <a:blip r:embed="rId3"/>
          <a:stretch/>
        </p:blipFill>
        <p:spPr>
          <a:xfrm>
            <a:off x="5724360" y="42210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3EB6-FFA5-4A4C-B940-D4870C03AA2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7" name="Picture 3" descr="plaquesentangle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FFCF-462D-4A2D-AD19-C95546FD485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Confabul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kan zich een bepaald verhaal niet herinneren of is tijdens het vertellen de draad kwijtgeraak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lege plekken in zijn geheugen vult hij op met fantasieë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doet dit volledig ter goeder trou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90DA-6A5B-4062-9537-C38FD13BA09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erzamelzuch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verzamelen van allerlei voorwerpen en bewaart deze op een voor hem veilige pla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wil nog ergens controle over hebb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5" descr="index"/>
          <p:cNvPicPr/>
          <p:nvPr/>
        </p:nvPicPr>
        <p:blipFill>
          <a:blip r:embed="rId1"/>
          <a:stretch/>
        </p:blipFill>
        <p:spPr>
          <a:xfrm>
            <a:off x="4284720" y="4437000"/>
            <a:ext cx="128916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87DA-139B-4272-81C2-0775DD3E637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hterdocht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met dementie is erg achterdochtig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A1BF-CA75-49AB-A3E5-DEC94F7C122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corumverl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raakt zijn waarden en normen kwijt en zijn gevoel over wat wel en niet kan betreffende o.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le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mgangsvorme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4" descr="kabouters37"/>
          <p:cNvPicPr/>
          <p:nvPr/>
        </p:nvPicPr>
        <p:blipFill>
          <a:blip r:embed="rId1"/>
          <a:stretch/>
        </p:blipFill>
        <p:spPr>
          <a:xfrm>
            <a:off x="5508720" y="4005360"/>
            <a:ext cx="15685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270F-72DD-4BED-8A3F-512A4CCEAEE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temmings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path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zorgvrager is soezerig en heeft geen aandacht voor hetgeen om hem heen gebeu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press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or lichamelijke of psychische oorza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ufor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egenovergestelde van een depress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5" descr="96_206_depress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4221000"/>
            <a:ext cx="8096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8BCA-6D2D-4475-8AD6-59E76E5E3F2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aarnemingsstoorniss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arnemingsstoornissen zijn stoornissen van de zintuig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i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ui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o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oe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ev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rrigeren van de waarnemingsstoornis heeft geen zin, omdat de zorgvrager dit als werkelijkheid waarneem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3AA7-7430-43BD-B9DD-124F267DE6D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nkstoorniss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nkstoornissen kunnen zich uiten in de vorm va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raaghei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uld is een schone za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coherent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inhoud van het denken is niet meer logis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6688-495E-4AF6-974F-A376CD140CF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Gedrags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bale en fysieke agress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otorische on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4" descr="slapen55"/>
          <p:cNvPicPr/>
          <p:nvPr/>
        </p:nvPicPr>
        <p:blipFill>
          <a:blip r:embed="rId1"/>
          <a:stretch/>
        </p:blipFill>
        <p:spPr>
          <a:xfrm>
            <a:off x="4788000" y="4724280"/>
            <a:ext cx="1171440" cy="13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ruzie10"/>
          <p:cNvPicPr/>
          <p:nvPr/>
        </p:nvPicPr>
        <p:blipFill>
          <a:blip r:embed="rId2"/>
          <a:stretch/>
        </p:blipFill>
        <p:spPr>
          <a:xfrm>
            <a:off x="5867280" y="2349360"/>
            <a:ext cx="13338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9E7D-6015-48C0-AA73-099784F5C8B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Persoonlijkheidsverandering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persoonlijkheidsverandering houdt i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en verandering van karaktereigenschapp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erping van karaktereigenschappe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5" descr="mask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4076640"/>
            <a:ext cx="1343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265D-FAD9-456F-A60B-09E5222A992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lier (of delirium)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organisch psychiatrisch syndro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ordt gekenmerkt door o.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inder helder bewustzijn van de omgeving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centratieprobleme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gnitieve functie stoornissen (zoals geheugen-, ori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Arial"/>
              </a:rPr>
              <a:t>ë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tatie- en taalstoornissen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oord waak- slaapritm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5" descr="delier-p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5300640"/>
            <a:ext cx="7146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7015-C2B2-4F9E-A624-8A5B0E1F349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at is dementie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mentie is 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Verdana"/>
              </a:rPr>
              <a:t>geen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normaal ouderdomsverschijns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ndroom dat zich kenmerkt do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illende cognitieve functiestoorni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oenemende aftakeling van psychische func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5" descr="demen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189000"/>
            <a:ext cx="19447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4840-12EE-43EC-A942-9C0623905FA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orzaken delie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dicijngebrui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iekten in de hersenen (infectie, tumo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tabole stoornisse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ierinsufficiën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everinsufficiën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tamine B 12 tek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E5FA-8D36-434E-83E7-4334C0E56F1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tadia dementi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1: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een lichte verwar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2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verwardheid in tijd en lichte geheugenstoorni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3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opvallende geheugenstoornissen, zowel bij de inprenting als bij het kort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52D3-A996-4485-A64B-CFA84A41BE3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4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desoriëntatie en het afnemen van het gevoelsleven, decorumverlies en persoonlijkheidsveranderi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5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dat de zorgvrager volledig onbereikbaar i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tadia dem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45" name="Picture 8" descr="dementie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4686480"/>
            <a:ext cx="1655640" cy="108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7D9A-0CBC-44F9-B9B6-CA80B6CD9FC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Kenmerken 'lichte dementie':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als/dan vraag wordt moeilijker te beantwoord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hypothetisch denken neemt af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el ziekte-besef. Geen ziekte-inzicht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gocentrism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en begrip meer voor formele regel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nige vorm van ontremd gedrag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01F7-B7E0-4126-BB44-1B7DCEE3F64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De jong dementerende zorgvrager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ussen 4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st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en 5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st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levensja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orzak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iekte van Alzheim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ziekte van Pic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chorea van Huntingt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reutsfeldt-Jacob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aidsdementia-comple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hronisch alcoholmisbrui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F890-A411-4ACC-8FB2-6B47397BF42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lgemene omgangsadviezen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mente mensen onthouden vaak we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zich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it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verzorgende moet rekening houden me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sp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een onderwerp per z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angzaam en duidelijk pra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en dubbele ontkenni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ees duidelijk bij het belo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a conflicten zo veel mogelijk uit de we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act bij corrigeren van de oud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beer schrikken te voork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de zintuigen die goed wer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4913-621F-4C58-B4CE-C1910585777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aliteits Oriëntatie Benad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lidationtherap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arme zorg, snoez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miniscen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levingsgerichte zor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Benaderingswijz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E59D-DC50-4A75-AC13-C09EE4C84E7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oelstelling van ROB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lgemeen doel: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Realiteits Oriëntatie Benadering heeft tot doel een verdere achteruitgang in het contact met en de aanpassing aan de omgeving van de dementerende oudere te voorkom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F636-A1D4-479B-BFBB-EE69F753DD1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Vervolg doelstelling van ROB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pgesplitst in 3 specifiekere doel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zo lang mogelijk in stand houden en eventueel verbeteren van lichamelijke, psychische en sociale functies die gestoord zij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bewoners een zodanig leefklimaat bieden dat deze zich vertrouwd voelen met hun omgeving en de mensen om hen he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personeel, familie en bekenden ertoe brengen een zodanige relatie met de bewo­ner op te bouwen dat deze gestimuleerd en geactiveerd wordt tot handelingen en bezigheden waartoe hij nog in staat 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1D9E-6629-4E77-8826-727E204208A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ROB in groepsverband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 kleine groep bewoners in een speciale ruimte, waarmee activiteiten gedaan worden, die gericht zijn op de realite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B.v. kranten lezen, weerbericht doornemen, elkaars namen noemen, enz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attitude van de verzorgende tijdens de ROB is erg belangrij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loof in stimulerende werking van RO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duidigheid in benadering van de bewo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ndersteunende en geen betuttelende hou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maken van iedere gelegenheid om het contact met de werkelijkheid te laten hervind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78A7-0A17-4044-B689-B234FB964BA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Cognitieve functie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Cognitieve functiestoornissen zijn problemen m.b.t. het waarnemen, taal, geheugen en denk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5" descr="Dementie">
            <a:hlinkClick r:id="rId1"/>
          </p:cNvPr>
          <p:cNvPicPr/>
          <p:nvPr/>
        </p:nvPicPr>
        <p:blipFill>
          <a:blip r:embed="rId2"/>
          <a:srcRect l="0" t="21668" r="0" b="25839"/>
          <a:stretch/>
        </p:blipFill>
        <p:spPr>
          <a:xfrm>
            <a:off x="6804000" y="4797360"/>
            <a:ext cx="1646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AE6B-491D-467B-96AB-54B379B3BC5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u="sng">
                <a:solidFill>
                  <a:srgbClr val="999900"/>
                </a:solidFill>
                <a:uFillTx/>
                <a:latin typeface="Garamond"/>
              </a:rPr>
              <a:t>Wat is Validationtherapie</a:t>
            </a: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lidationtherapie is een benaderingswijze van de pg bewoner, die zich richt op het bevestigen van eigen gevoelens, van de eigen beleving van het verled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is een benaderingswijze die de bewoner accepteert daar waar hij is, in zijn realiteit en tij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D9EB-973F-42A8-9BEC-9577F0936DF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Doelstellingen validationtherapie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voel van eigen waarde herstellen/terugwinn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panning vermind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chtvaardigen van de manier van lev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nverwerkte conflicten oplossen uit het verled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ich gelukkiger kunnen voel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68D3-30F2-425D-9D23-B857E467530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Warme zorg, Snoezele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wereld van dementie schept voortdurend een beleving van dreiging, onveiligheid en ang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vastgelopen geheugen ontneemt de demente zijn vroegere zekerheden. De demente is een vreemdeling geworden in een voor hem vreemde omgev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j zoekt oriëntatiepunten. Hij hoopt bescherming, warmte en veiligheid te krijgen. Hij heeft behoefte aan de veiligheid van de eigen oud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AAF6-3BD9-4F0A-96A6-41A18A3CA7F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ervol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rme zorg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noezelen"   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"Respons Provoting Approach"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men de beleving van de demente bewoner als uitgangspu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doel is een milieu/omgeving te scheppen die tegemoe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omt aan de belangrijkste emotionele behoefte van de demente verwarde bewoner: veilighei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0573-CC39-45C1-91DC-6C5EDD49E4D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noezelen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s een therapievorm die aansluit bij warme zor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noezelen is het primair activeren van diep gestoorden (dementen) door middel van zintuiglijke waarnemingen en ervaring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(licht, geluid, tast, reuk en smaak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iep dementen zijn vaak niet te bereiken met ROB of Validationtherapi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geheugen en het denken werkt niet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us een stapje terug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primaire activering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er is het niet belangrijk om b.v. A.D.L. in stand te houden, maar om contact te maken met de bewon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F08F-0428-41E1-A318-A42C8D24E0D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tiviteit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ichamelijk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Poppen/knuffelbees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leine huisd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uimtelijke aanpassing: licht, geluid, k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noeien/werken met zachte kneedbare materia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xtiel/bal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ur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5" descr="orangeGrove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4437000"/>
            <a:ext cx="1181160" cy="8859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snoezelen2_300"/>
          <p:cNvPicPr/>
          <p:nvPr/>
        </p:nvPicPr>
        <p:blipFill>
          <a:blip r:embed="rId3"/>
          <a:stretch/>
        </p:blipFill>
        <p:spPr>
          <a:xfrm>
            <a:off x="6443640" y="10526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31"/>
          <p:cNvPicPr/>
          <p:nvPr/>
        </p:nvPicPr>
        <p:blipFill>
          <a:blip r:embed="rId4"/>
          <a:stretch/>
        </p:blipFill>
        <p:spPr>
          <a:xfrm>
            <a:off x="3851280" y="4653000"/>
            <a:ext cx="12384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48A8-FE6B-4608-B7F4-D202BCC5895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eerstand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inderachtig gedoe: bewoner moet toch als volwassene benaderd word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langrijk is dat je de bewoner accepteert op zijn niveau en ingaat op zijn behoeft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ichamelijkheid is vaak een tabo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Familie (en personeel) vinden het vaak een schokkende ervar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sneoz2"/>
          <p:cNvPicPr/>
          <p:nvPr/>
        </p:nvPicPr>
        <p:blipFill>
          <a:blip r:embed="rId1"/>
          <a:stretch/>
        </p:blipFill>
        <p:spPr>
          <a:xfrm>
            <a:off x="5867280" y="5229360"/>
            <a:ext cx="11811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F852-30D8-4A27-9895-AF444ECC0BF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Reminisc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ij deze benaderingswijze staan de positieve ervaringen centra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nneer je met een bewoner over zijn herinneringen uit het verleden praat, krijg je als verzorgende ook meer inzicht in zijn levensloo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miniscentie is niet alleen het ophalen of opkomen van herinneringen, maar ook erbij stilstaan (reflecti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is dus een terugdenken aan en nadenken over levensgebeurtenissen die men ervaart als behorend tot het leve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6726-4D84-4F98-B324-84B94BC6C7C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Belevingsgerichte zorg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en belevingsgerichte benadering is een benadering waarbij je rekening houdt met de belevingswereld van de zorgvrag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rie oorzaken voor verschillen in belevingswere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schillende vormen van dementie die elk op een eigen manier tot uiting k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rakter voordat de verschijnselen van dementie er wa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lke dementerende oudere heeft zijn eigen levensgeschieden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36F7-95D0-4830-923D-13274345556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FARIA CLOW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17" name="Afbeelding 3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24656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ftakeling psychische funct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toenemende aftakeling van psychische functies veranderen ingrijpend het gedrag en het karakter van mens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E77A-63D0-4A9E-A26A-846CD3C1C4F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m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mentie is een verzamelnaam voor een aantal aandoeningen met gemeenschappelijke symptom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5B38-D010-4298-A775-309C40558BA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2C88-BA5E-4318-A474-191486F1E11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Gemeenschappelijke symptomen van dementie (verzamelnaam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heugenver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lies van ori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ënta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Moeilijkheden met den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Verandering van gedr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weetni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1557360"/>
            <a:ext cx="552240" cy="942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show_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2133720"/>
            <a:ext cx="1218960" cy="790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game-pic3"/>
          <p:cNvPicPr/>
          <p:nvPr/>
        </p:nvPicPr>
        <p:blipFill>
          <a:blip r:embed="rId5"/>
          <a:stretch/>
        </p:blipFill>
        <p:spPr>
          <a:xfrm>
            <a:off x="6227640" y="3141720"/>
            <a:ext cx="716040" cy="1111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3" name="Picture 13" descr="1boo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11640" y="4437000"/>
            <a:ext cx="10476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9EF6-1A76-438E-9ED4-2DDF69B9166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0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eniele dementie van het Alzheimertyp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moedelijk worden de hersencellen verdrongen door aan elkaar geklitte zenuw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orzaak is eiwitstape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gressief verlo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ymptome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erlies van interesse in de omgev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soriëntatie in tijd en plaa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ereenvoudigd taalgebru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Persoonlijkheidsveranderinge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temmingsstoornissen en denkstoorniss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Doorsnede: hersenen bij Alzheimer zijn gekrompen; spraak en geheugen zijn gestoord"/>
          <p:cNvPicPr/>
          <p:nvPr/>
        </p:nvPicPr>
        <p:blipFill>
          <a:blip r:embed="rId1"/>
          <a:stretch/>
        </p:blipFill>
        <p:spPr>
          <a:xfrm>
            <a:off x="6095880" y="2708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6238-239A-48FD-BEC6-47FF0A1A28E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sculaire dement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schadiging van de hersenen door problemen met de bloedvaten, b.v. een C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een trapsgewijs dalend verlo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mptomen zijn afhankelijk van de plaats van de beschadiging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heugenstoorniss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fa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blemen met de coördina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4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3" name="Picture 6" descr="MRI"/>
          <p:cNvPicPr/>
          <p:nvPr/>
        </p:nvPicPr>
        <p:blipFill>
          <a:blip r:embed="rId1"/>
          <a:stretch/>
        </p:blipFill>
        <p:spPr>
          <a:xfrm>
            <a:off x="6948360" y="4365720"/>
            <a:ext cx="943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20:47:05Z</dcterms:created>
  <dc:creator>Joke Kuyk</dc:creator>
  <dc:description/>
  <dc:language>en-US</dc:language>
  <cp:lastModifiedBy>spd</cp:lastModifiedBy>
  <dcterms:modified xsi:type="dcterms:W3CDTF">2012-03-28T13:31:21Z</dcterms:modified>
  <cp:revision>26</cp:revision>
  <dc:subject/>
  <dc:title>Psychogeriatrische zorgvragers:</dc:title>
</cp:coreProperties>
</file>