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064B-7E7A-4E0B-A04D-538117870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2FD-FCA2-4CE7-B330-EFCAFBEF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7C5-A3BF-403C-941B-03ED1D7F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7D3-D85D-4AF9-BBBD-28165799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2D2A-60DC-4C83-919B-582C3A91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1EE7-8F53-4E70-BDC8-867CF620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A04D-76E4-4DB4-94EE-C4FB3C58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6C11-4D92-41E1-8503-E0120079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8B6E-3AF1-41EA-86FB-CA0127A1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D5B1-DE59-446D-AE58-99CCFD15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C6F9-68EA-4A56-B4A9-0A40F868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842-E2BA-4225-8F56-49A0B3FD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339E-1030-4296-BDD5-DE8B3B78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6B0E-1F6C-4EAD-8ED3-DA24E3C0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B71F-7132-4F9F-A83A-2F1E6239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F492-5F9A-48A3-A164-FE87D8B6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F6F4-2312-4CCA-BCFA-80F7DD0E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62C8-4724-410A-B6EA-7F1831A0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C5F4-2D6B-499E-A674-3E5B6758A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053-40E3-4446-B621-86212177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9C16-35D4-4518-891E-973AC3DC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E56-A8A7-4DCE-A143-FDE5957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B40D-ED19-4CB7-9045-DEFCB370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6B6-BA0C-46AC-BA25-CDA6F428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2209-6126-4E74-A9A6-FBAF23D95075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2DC3-593D-42A9-B45E-72AA752430C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E52D-A9E0-4A37-AE82-7540B1A6EEC3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4DE2-F401-494F-9929-2D8B638769A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2065-F9B8-4736-A53D-498E658289C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09D68-B7CD-4656-BC9C-DD9219FC6AF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876A-E8E4-4DFC-B43A-FC69EA335E6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4429-9EF0-4515-9E3E-184BF4D73D5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1B0A-C9CF-4F7F-8F8E-B540FF3EE32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4210-6704-43DA-8F85-4A3C49CDCDB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CE63-85AF-4625-8AE7-84030C7617C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B136-F345-4130-9846-6F0CC06F5E3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CEDE-2273-4CB3-853D-889E654C88F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B6B3-5924-4E50-B821-252DF1E16E2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07C8-B152-44FB-A975-62B38934E19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A620-D5FF-4CC3-BD04-F66B851E627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CE0F-1EFC-4EB2-87C3-F70209F607D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C042-8270-4BDB-9358-F28AB6FD450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3EF8-8DFA-42F2-B02A-0CCBCECD355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765B-FDC3-4300-8575-F49F6F14FE7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8953-96C1-4491-B0CE-72C18534820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F1FF-7C2D-42D2-9F0B-A914847375A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C666-C7F4-429A-AE7F-5AF25F34C3D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9257-00CE-4657-9A40-F8E465881C0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15AE-7877-4052-998B-11D7CD168ED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6CF7-6A7D-494F-B6FC-1F2C907E9E9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8CAF-DF8C-42CB-89B6-8FBCC90BD50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D37E-8BE5-4FCA-936A-D45AC347040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ABFD-77DD-42EF-B176-2DD83AAD72D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5ECA-7272-46AB-88AB-4E11F2CD108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0D4C-F677-4229-B36F-33025ABF56F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43CC-E94D-4062-95FA-53AEAD2223A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BBFE-7046-470D-A8C1-B60816B3ABA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2F53-B38B-420F-A155-E4788344EEB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3BD9-9982-457E-A3BD-618D2657D67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173D-1E33-4835-867D-4FDC5F8FD1D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98A3-E19D-4612-84C3-C51DB59EC2F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8389-0D47-4825-9598-718FAF41A08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B611-B848-44D7-8CAA-FE71B31D694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81BC-64DF-47A2-AF8F-BF6079D3BE9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236B-D59D-4616-9CF2-B7BCB41C7A0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B895-D19C-47F8-BA42-BFEB7090C02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B938-6A25-4125-A11F-FA3488833C7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4100-D218-439C-91A2-244C1C6FC27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B0A6-051C-4D30-A380-AA50984E0B7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E9A4-B946-46BE-9E2C-7E610BA9AFE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CF95-3755-4510-B17B-D2E36A11266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DDD1-ECD3-4EC6-853A-41FC35A3E11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9E15-E8FC-4B22-A626-BDBF59A486D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26D3-2F8F-43CB-901C-A830E23F709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AA0E-8DEB-462E-A59E-1D0739123C8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E375-D259-4CD7-B035-24981AC2A54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8122-1C7F-4652-A0BA-19ADED44251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spd</cp:lastModifiedBy>
  <dcterms:modified xsi:type="dcterms:W3CDTF">2012-03-28T13:31:21Z</dcterms:modified>
  <cp:revision>26</cp:revision>
  <dc:subject/>
  <dc:title>Psychogeriatrische zorgvragers:</dc:title>
</cp:coreProperties>
</file>