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18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0.gif" ContentType="image/gif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2.gif" ContentType="image/gif"/>
  <Override PartName="/ppt/media/image25.jpeg" ContentType="image/jpeg"/>
  <Override PartName="/ppt/media/image2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gif" ContentType="image/gif"/>
  <Override PartName="/ppt/media/image19.png" ContentType="image/png"/>
  <Override PartName="/ppt/media/image17.jpeg" ContentType="image/jpeg"/>
  <Override PartName="/ppt/media/image23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947E-0E74-43CD-A7D2-9CA87782D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BC54-9259-43D2-93AC-268CF06C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8734-F0DB-47E6-BFD3-2700D8464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68FA-7918-4BFE-94E3-50ED40FB1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68AC-7548-4D05-9D31-C9CDFE1A4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CE1B-C5EE-40CA-BCF8-9F43D8E7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AC9D-AE5E-433B-8853-E2319FB9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1FC7-2187-4707-A04A-014D41CF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939A-CC27-4798-AA04-752EACF3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4174-9E99-4A1D-A3AC-45A0714D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3BAE5-6FCC-48E5-9D8D-724456BD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093E-55F9-46D6-9E6D-C0C616FD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E26E-7DF0-4679-B883-37F4699A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412D-9006-4B33-A439-3511F4CF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9EA6D-FFC9-4BF7-B0BD-8B7A7E9D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8F64-D387-490A-89A7-4DEDBE9BA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7281-FA73-442F-835D-CF0955D4A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46A1-3469-45A6-966C-E1C168A9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4B85-7096-4E3E-8FF0-871F0B2E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4AEA-5C86-4620-BFAF-CA221E4C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6C52-0277-46B0-9AEC-D77AEF5E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3F16-C856-4782-87A5-F6A8DCB4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EBDA-00EB-441F-824B-58652AEF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E96F-3D64-4074-B130-E90BE07A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79BB-93D8-4591-B268-365486458F93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30A9-578E-4B94-94B0-CE6E707EFD2B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9565B-F11F-4FB2-AF45-B529FA19E6F3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2B26-5BA1-419E-AFE7-B38B324C1D4C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hln.be/static/FOTO/pe/14/2/5/art_large_590990.jpg&amp;imgrefurl=http://www.hln.be/hln/nl/33/Fit-Gezond/article/detail/557942/2008/12/17/Sarcasme-helpt-dementie-ontdekken.dhtml&amp;usg=__In8SkNytTqq_9LQlMCfFeXHyYBQ=&amp;h=332&amp;w=249&amp;sz=8&amp;hl=nl&amp;start=24&amp;sig2=I3-CAEXOfWsyBT0_MFfwUw&amp;um=1&amp;itbs=1&amp;tbnid=UVwXn6jRZtCJwM:&amp;tbnh=119&amp;tbnw=89&amp;prev=/images%3Fq%3Ddementie%26start%3D21%26um%3D1%26hl%3Dnl%26sa%3DN%26ndsp%3D21%26tbs%3Disch:1&amp;ei=qUWjS_SRMMKRjAer4rX7D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nwo.nl/images.nsf/pages/NWOP_5XCECS/%24file/Cognitie-groot.jpg&amp;imgrefurl=http://aarts3.web-log.nl/aarts3/2007/10/psychiatrie_geh.html&amp;h=350&amp;w=335&amp;sz=6&amp;hl=nl&amp;start=1&amp;tbnid=0E_kjXWvTCMMTM:&amp;tbnh=120&amp;tbnw=115&amp;prev=/images%3Fq%3Ddesori%25C3%25ABntatie%2Bin%2Bpersoon%26gbv%3D2%26svnum%3D10%26hl%3Dnl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nl/imgres?imgurl=http://www.klarenbeekklokken.nl/pubklok1.JPG&amp;imgrefurl=http://www.klarenbeekklokken.nl/pubklokkenklarenbeek.htm&amp;h=400&amp;w=400&amp;sz=23&amp;hl=nl&amp;start=50&amp;tbnid=ZoDRF8DPsiLEeM:&amp;tbnh=124&amp;tbnw=124&amp;prev=/images%3Fq%3Dwandklok%26start%3D40%26gbv%3D2%26ndsp%3D20%26svnum%3D10%26hl%3Dnl%26sa%3DN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obeindhoven.nl/www/Informatiecentrum/Dossiers/images/dementie.jpg&amp;imgrefurl=http://aarts3.web-log.nl/aarts3/2007/10/psychiatrie_geh.html&amp;h=229&amp;w=227&amp;sz=26&amp;hl=nl&amp;start=16&amp;tbnid=-nT3RE_8PPd_OM:&amp;tbnh=108&amp;tbnw=107&amp;prev=/images%3Fq%3Dgeheugenstoornis%26gbv%3D2%26svnum%3D10%26hl%3Dnl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bachbloesemadvies.be/cms/cms/grafisch/tekst/96_206_depressie.jpg&amp;imgrefurl=http://www.bachbloesemadvies.be/home.asp%3Fp_id%3D599%26p_naam%3DBachbloesems%26tsectie%3D1%26offset%3D0&amp;h=423&amp;w=284&amp;sz=145&amp;hl=nl&amp;start=8&amp;tbnid=KzXGxhVEf8qGfM:&amp;tbnh=126&amp;tbnw=85&amp;prev=/images%3Fq%3Ddepressie%26gbv%3D2%26svnum%3D10%26hl%3Dnl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rometheusfleets.com/spotlight/images/overige/maskers.PNG&amp;imgrefurl=http://www.prometheusfleets.com/spotlight/theater_geschiedenis.html&amp;h=171&amp;w=160&amp;sz=21&amp;hl=nl&amp;start=1&amp;tbnid=Xv1giZUaQQTraM:&amp;tbnh=100&amp;tbnw=94&amp;prev=/images%3Fq%3Dlach%2Ben%2Been%2Btraan%26gbv%3D2%26svnum%3D10%26hl%3Dnl%26sa%3DX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beamsolid.com/psychiatrie/delier/pic/delier-pa.gif&amp;imgrefurl=http://www.beamsolid.com/psychiatrie/delier/delier-pa.shtml&amp;h=160&amp;w=123&amp;sz=8&amp;hl=nl&amp;start=3&amp;tbnid=bAXa3RWNyntoLM:&amp;tbnh=98&amp;tbnw=75&amp;prev=/images%3Fq%3Ddelier%26gbv%3D2%26svnum%3D10%26hl%3Dnl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freewebs.com/doktersassistent/dementie.jpg&amp;imgrefurl=http://www.freewebs.com/doktersassistent/dementie.htm&amp;usg=__wZRm2ekb4OftAhVLwDVUjFHTWSw=&amp;h=259&amp;w=397&amp;sz=6&amp;hl=nl&amp;start=2&amp;sig2=gOwTKy9Z8GtoUYD4ddjTgA&amp;um=1&amp;itbs=1&amp;tbnid=E-dpR8fkfLjA_M:&amp;tbnh=81&amp;tbnw=124&amp;prev=/images%3Fq%3Ddementie%26um%3D1%26hl%3Dnl%26sa%3DN%26tbs%3Disch:1&amp;ei=vUSjS6_OEYqQjAepseXvCQ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astoralekroes.nl/Dementie/afbeeldingen/Dementie_II_-_Ouderdomsdementie/dementie2.jpg&amp;imgrefurl=http://www.pastoralekroes.nl/Dementie/DementieII-Ouderdomsdemen.html&amp;usg=__RQfQ5NP04QjhIyt6ug_SMfgvP-o=&amp;h=156&amp;w=240&amp;sz=17&amp;hl=nl&amp;start=23&amp;sig2=VOp3ZLePM42dHTZHfbH-Hw&amp;um=1&amp;itbs=1&amp;tbnid=q6rOQPIX_5JpbM:&amp;tbnh=72&amp;tbnw=110&amp;prev=/images%3Fq%3Ddementie%26start%3D21%26um%3D1%26hl%3Dnl%26sa%3DN%26ndsp%3D21%26tbs%3Disch:1&amp;ei=qUWjS_SRMMKRjAer4rX7Dg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degelderseroos.nl/bestanden/pagina/Dementie.jpg&amp;imgrefurl=http://www.degelderseroos.nl/site/Actueel/Interactie&amp;usg=__SaL7PfJXmNv2A4KGNp08E7AO2Dk=&amp;h=300&amp;w=212&amp;sz=9&amp;hl=nl&amp;start=6&amp;sig2=3FLHd-ceMI_FmhGk9DxZeg&amp;um=1&amp;itbs=1&amp;tbnid=Sjx0YT2PncufGM:&amp;tbnh=116&amp;tbnw=82&amp;prev=/images%3Fq%3Ddementie%26um%3D1%26hl%3Dnl%26sa%3DN%26tbs%3Disch:1&amp;ei=vUSjS6_OEYqQjAepseXvCQ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flaghouse.com/images/orangeGrove4.jpg&amp;imgrefurl=http://www.flaghouse.com/orangeGrove.asp&amp;h=300&amp;w=400&amp;sz=16&amp;hl=nl&amp;start=8&amp;tbnid=K2J6iOKnAvqwtM:&amp;tbnh=93&amp;tbnw=124&amp;prev=/images%3Fq%3Dsnoezelen%26gbv%3D2%26svnum%3D10%26hl%3Dnl" TargetMode="External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harmaselecta.nl/psonline/images/gijs/weetniet.gif&amp;imgrefurl=http://www.pharmaselecta.nl/site/index.php%3Foption%3Dcom_content%26task%3Dview%26id%3D277%26Itemid%3D53&amp;h=169&amp;w=99&amp;sz=4&amp;hl=nl&amp;start=5&amp;tbnid=ueNawOZnL3grPM:&amp;tbnh=99&amp;tbnw=58&amp;prev=/images%3Fq%3Dgeheugenverlies%26gbv%3D2%26svnum%3D10%26hl%3Dnl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nl/imgres?imgurl=https://www2.kuleuven.be/tiki/show_image.php%3Fid%3D138&amp;imgrefurl=https://www2.kuleuven.be/tiki/tiki-index.php%3Fpage%3Dsequencing&amp;h=300&amp;w=464&amp;sz=53&amp;hl=nl&amp;start=5&amp;tbnid=UrVtv6FmJ4644M:&amp;tbnh=83&amp;tbnw=128&amp;prev=/images%3Fq%3Dmoeilijkheden%2Bmet%2Bdenken%26gbv%3D2%26svnum%3D10%26hl%3Dnl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hyperlink" Target="http://images.google.nl/imgres?imgurl=http://www.ikonrtv.nl/uploadedImgs/1boos.jpg&amp;imgrefurl=http://www.ikonrtv.nl/kerknieuws/nieuws.asp%3FoId%3D4265&amp;h=231&amp;w=246&amp;sz=16&amp;hl=nl&amp;start=6&amp;tbnid=uh_w5MYgSBDFyM:&amp;tbnh=103&amp;tbnw=110&amp;prev=/images%3Fq%3Dboos%26gbv%3D2%26svnum%3D10%26hl%3Dnl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A6B9-3BD0-4590-A787-FDF0E945435C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800" spc="-1" strike="noStrike">
                <a:solidFill>
                  <a:srgbClr val="999900"/>
                </a:solidFill>
                <a:latin typeface="Garamond"/>
              </a:rPr>
              <a:t>Zorgvragers met dementie: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7385-884E-4AC1-AABE-16DACF7C954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verige vormen van dementie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oorzaak van dementie hoeft niet altijd in de hersenen te liggen maar kan ook do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en stoornis in het afweersystee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giftiging door zink of aluminiu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itaminegebre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ong- en nieraandoening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ormen van dementie</a:t>
            </a:r>
            <a:br>
              <a:rPr sz="4400"/>
            </a:br>
            <a:r>
              <a:rPr b="0" lang="nl-NL" sz="2000" spc="-1" strike="noStrike">
                <a:solidFill>
                  <a:srgbClr val="999900"/>
                </a:solidFill>
                <a:latin typeface="Garamond"/>
              </a:rPr>
              <a:t>Diagnose d.m.v. CT-scan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8" name="Picture 6" descr="art_large_5909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4149720"/>
            <a:ext cx="11700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B0AE-0369-443E-850C-09B1C48E7C61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Overige vormen van dementie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orsakov-syndro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oor langdurig alcoholmisbruik en een slechte voedingstoest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giftiging hersencel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ids dementiecomple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ate complicatie bij een klein deel van de niet behandelde HIV patiënt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ziekte van Pi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ordt veroorzaakt door een aandoening in het voorste deel van de hersenen, gekenmerkt door ballonvormige zenuwcel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mentie bij syndroom van Dow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12CD-9310-4D09-87F8-4B5D68695D8F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het dementiesyndroom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ymptomen van de eerste orde (symptomen die zich </a:t>
            </a:r>
            <a:r>
              <a:rPr b="0" lang="nl-NL" sz="2800" spc="-1" strike="noStrike">
                <a:solidFill>
                  <a:srgbClr val="999900"/>
                </a:solidFill>
                <a:latin typeface="Verdana"/>
              </a:rPr>
              <a:t>altijd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voordoen bij een vorm van dementi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ymptomen van de tweede orde (symptomen die zich </a:t>
            </a:r>
            <a:r>
              <a:rPr b="0" lang="nl-NL" sz="2800" spc="-1" strike="noStrike">
                <a:solidFill>
                  <a:srgbClr val="999900"/>
                </a:solidFill>
                <a:latin typeface="Verdana"/>
              </a:rPr>
              <a:t>soms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kunnen voordoe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AEE0-843D-4D7D-81CB-1C8583D1E30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dementie:</a:t>
            </a:r>
            <a:br>
              <a:rPr sz="4000"/>
            </a:b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de eerste orde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</a:rPr>
              <a:t>Geheugenstoorniss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Inprentingstoorniss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orte termijn geheu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14680" indent="-343080">
              <a:spcBef>
                <a:spcPts val="499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ieuwe informatie wordt niet opgesla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Lange termijn geheu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14680" indent="-343080">
              <a:spcBef>
                <a:spcPts val="499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goede herinneringen blijven het langste besta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7" descr="Herken dementie op tijd"/>
          <p:cNvPicPr/>
          <p:nvPr/>
        </p:nvPicPr>
        <p:blipFill>
          <a:blip r:embed="rId1"/>
          <a:stretch/>
        </p:blipFill>
        <p:spPr>
          <a:xfrm>
            <a:off x="6588000" y="4292640"/>
            <a:ext cx="16322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9815-E05C-4B4C-BE2C-423EE653BE11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9900"/>
                </a:solidFill>
                <a:latin typeface="Garamond"/>
              </a:rPr>
              <a:t>Desoriëntatie in:</a:t>
            </a: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ij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weet niet op welk tijdstip hij zich bevind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la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weet niet waar hij is en raakt de weg kwij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erso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Familie en bekenden worden niet meer herke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oms weet men zelfs niet meer wie men zelf 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5" descr="Cognitie-groo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5661000"/>
            <a:ext cx="820800" cy="855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pubklok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96360" y="692280"/>
            <a:ext cx="1180800" cy="118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C221-46A8-4975-A94B-3C857CAC188C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fas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taalstoorn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xpressieve afasie (expressie = uitdrukk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heeft moeite met het uiten van woord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eet wat hij wil zeggen maar kan het woord niet vind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ceptieve afasie (receptie = ontvang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hoort de woorden wel, maar begrijpt de betekenis niet me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5" descr="leesplankje1"/>
          <p:cNvPicPr/>
          <p:nvPr/>
        </p:nvPicPr>
        <p:blipFill>
          <a:blip r:embed="rId1"/>
          <a:stretch/>
        </p:blipFill>
        <p:spPr>
          <a:xfrm>
            <a:off x="6732720" y="549360"/>
            <a:ext cx="19429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F955-8E72-4941-A16E-5BD02E1569C8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gnos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niet meer herkennen van voorwerp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an de zintuigen mankeert niets, maar in het geheugen wordt niet opgeroepen om welk voorwerp het gaa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5" descr="dement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4149720"/>
            <a:ext cx="1446480" cy="1460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4402-8466-49BA-83A5-18F37B719D3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prax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ij apraxie is een zorgvrager niet in staat een handeling doelbewust uit te voer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4" descr="kleding07"/>
          <p:cNvPicPr/>
          <p:nvPr/>
        </p:nvPicPr>
        <p:blipFill>
          <a:blip r:embed="rId1"/>
          <a:stretch/>
        </p:blipFill>
        <p:spPr>
          <a:xfrm>
            <a:off x="1763640" y="3429000"/>
            <a:ext cx="1521000" cy="1657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wassen15"/>
          <p:cNvPicPr/>
          <p:nvPr/>
        </p:nvPicPr>
        <p:blipFill>
          <a:blip r:embed="rId2"/>
          <a:stretch/>
        </p:blipFill>
        <p:spPr>
          <a:xfrm>
            <a:off x="4788000" y="3357720"/>
            <a:ext cx="25509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ijdelijke aanduiding voor dianumm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B82B-17BF-4830-8034-EE86CD0BB6F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de tweede orde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ersev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onfabul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zamelzuc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chterdoc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corumverl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temmings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aarnemings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nk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drags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bale en fysieke agress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(Motorische) onru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ersoonlijkheids-veranderi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li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6F85-BF33-45F1-89AD-F2A9BB91C59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Persever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rhaling van steeds dezelfde vragen en / of opmerking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f de zorgvrager vertelt steeds hetzelfde verha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4" descr="ziekenhuis10"/>
          <p:cNvPicPr/>
          <p:nvPr/>
        </p:nvPicPr>
        <p:blipFill>
          <a:blip r:embed="rId1"/>
          <a:stretch/>
        </p:blipFill>
        <p:spPr>
          <a:xfrm>
            <a:off x="1332000" y="42210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ziekenhuis10"/>
          <p:cNvPicPr/>
          <p:nvPr/>
        </p:nvPicPr>
        <p:blipFill>
          <a:blip r:embed="rId2"/>
          <a:stretch/>
        </p:blipFill>
        <p:spPr>
          <a:xfrm>
            <a:off x="3492360" y="42210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ziekenhuis10"/>
          <p:cNvPicPr/>
          <p:nvPr/>
        </p:nvPicPr>
        <p:blipFill>
          <a:blip r:embed="rId3"/>
          <a:stretch/>
        </p:blipFill>
        <p:spPr>
          <a:xfrm>
            <a:off x="5724360" y="42210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23B7-48B8-472C-9377-F52A8697238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7" name="Picture 3" descr="plaquesentangles2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828B-79A0-4D74-BBF1-DA2C523C8D24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Confabul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kan zich een bepaald verhaal niet herinneren of is tijdens het vertellen de draad kwijtgeraak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lege plekken in zijn geheugen vult hij op met fantasieë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doet dit volledig ter goeder trou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2F54-EACA-46E1-B8FE-3346218DDD9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erzamelzuch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verzamelen van allerlei voorwerpen en bewaart deze op een voor hem veilige pla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wil nog ergens controle over hebb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Picture 5" descr="index"/>
          <p:cNvPicPr/>
          <p:nvPr/>
        </p:nvPicPr>
        <p:blipFill>
          <a:blip r:embed="rId1"/>
          <a:stretch/>
        </p:blipFill>
        <p:spPr>
          <a:xfrm>
            <a:off x="4284720" y="4437000"/>
            <a:ext cx="1289160" cy="10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3213-B79F-4FDB-83AC-545B99BD33F8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chterdocht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met dementie is erg achterdochtig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C712-DE4C-4602-8EE3-389E786E82CF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corumverli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raakt zijn waarden en normen kwijt en zijn gevoel over wat wel en niet kan betreffende o.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le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t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mgangsvorme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4" descr="kabouters37"/>
          <p:cNvPicPr/>
          <p:nvPr/>
        </p:nvPicPr>
        <p:blipFill>
          <a:blip r:embed="rId1"/>
          <a:stretch/>
        </p:blipFill>
        <p:spPr>
          <a:xfrm>
            <a:off x="5508720" y="4005360"/>
            <a:ext cx="156852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B3E5-E06A-4CA3-938A-8CD07D80AA3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temmingsstoorniss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path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zorgvrager is soezerig en heeft geen aandacht voor hetgeen om hem heen gebeu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press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oor lichamelijke of psychische oorzaa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ufor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egenovergestelde van een depress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5" descr="96_206_depress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67640" y="4221000"/>
            <a:ext cx="80964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1559-132B-4AA5-B3D3-EFA3F56CF38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Waarnemingsstoorniss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arnemingsstoornissen zijn stoornissen van de zintuig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i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uik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o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oe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ev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rrigeren van de waarnemingsstoornis heeft geen zin, omdat de zorgvrager dit als werkelijkheid waarneem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2A0C-AFC0-4E62-9A72-BA111E19FAF2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nkstoorniss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nkstoornissen kunnen zich uiten in de vorm va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raaghei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duld is een schone za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coherenti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inhoud van het denken is niet meer logis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B021-8A6D-459A-B7CF-4AF06385AE5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Gedragsstoorniss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bale en fysieke agress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otorische on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4" descr="slapen55"/>
          <p:cNvPicPr/>
          <p:nvPr/>
        </p:nvPicPr>
        <p:blipFill>
          <a:blip r:embed="rId1"/>
          <a:stretch/>
        </p:blipFill>
        <p:spPr>
          <a:xfrm>
            <a:off x="4788000" y="4724280"/>
            <a:ext cx="1171440" cy="13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ruzie10"/>
          <p:cNvPicPr/>
          <p:nvPr/>
        </p:nvPicPr>
        <p:blipFill>
          <a:blip r:embed="rId2"/>
          <a:stretch/>
        </p:blipFill>
        <p:spPr>
          <a:xfrm>
            <a:off x="5867280" y="2349360"/>
            <a:ext cx="13338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0119-516A-408A-BF7D-00F690A79D8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Persoonlijkheidsverandering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persoonlijkheidsverandering houdt i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en verandering van karaktereigenschapp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cherping van karaktereigenschappe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5" descr="maske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11640" y="4076640"/>
            <a:ext cx="13431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2B86-2B0E-4D1D-A7AD-AB13F70A801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lier (of delirium)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organisch psychiatrisch syndro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ordt gekenmerkt door o.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inder helder bewustzijn van de omgeving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ncentratieprobleme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gnitieve functie stoornissen (zoals geheugen-, ori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Arial"/>
              </a:rPr>
              <a:t>ë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ntatie- en taalstoornissen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oord waak- slaapritme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5" descr="delier-p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5300640"/>
            <a:ext cx="71460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41CB-178A-487F-B306-14C736722A1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Wat is dementie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mentie is 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Verdana"/>
              </a:rPr>
              <a:t>geen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normaal ouderdomsverschijns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yndroom dat zich kenmerkt do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chillende cognitieve functiestoorni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oenemende aftakeling van psychische func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5" descr="dement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189000"/>
            <a:ext cx="19447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C26F-0FE3-4353-95F3-D75AD9EF096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Oorzaken delie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edicijngebrui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Ziekten in de hersenen (infectie, tumo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etabole stoornisse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ierinsufficiën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everinsufficiën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itamine B 12 tek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CFBD-0187-4D68-A8DE-627564EDB41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tadia dementie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1: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een lichte verwar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2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verwardheid in tijd en lichte geheugenstoorni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3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opvallende geheugenstoornissen, zowel bij de inprenting als bij het korte termijn geheu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8C04-1E7F-426C-B553-847BA0EEE0A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4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desoriëntatie en het afnemen van het gevoelsleven, decorumverlies en persoonlijkheidsveranderi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5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dat de zorgvrager volledig onbereikbaar i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tadia demen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45" name="Picture 8" descr="dementie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4686480"/>
            <a:ext cx="1655640" cy="108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73F5-41DC-4D4E-934C-133BA74038D1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Kenmerken 'lichte dementie':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als/dan vraag wordt moeilijker te beantwoorde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hypothetisch denken neemt af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el ziekte-besef. Geen ziekte-inzicht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gocentrism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en begrip meer voor formele regel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nige vorm van ontremd gedrag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6F65-86EE-4FBD-9102-BAD228A52D98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De jong dementerende zorgvrager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ussen 4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Verdana"/>
              </a:rPr>
              <a:t>ste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en 5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Verdana"/>
              </a:rPr>
              <a:t>ste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levensja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orzak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iekte van Alzheim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ziekte van Pic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chorea van Huntingt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reutsfeldt-Jacob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aidsdementia-comple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hronisch alcoholmisbrui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5236-77E1-4997-BE0F-9FA8771638C8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lgemene omgangsadviezen: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mente mensen onthouden vaak we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zich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it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verzorgende moet rekening houden me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esp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een onderwerp per z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angzaam en duidelijk pra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en dubbele ontkenni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ees duidelijk bij het belo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a conflicten zo veel mogelijk uit de we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Tact bij corrigeren van de oude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beer schrikken te voorkom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de zintuigen die goed werk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0268-39D8-4DB6-B3F9-26CAC938803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aliteits Oriëntatie Benade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alidationtherap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arme zorg, snoeze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miniscent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levingsgerichte zor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Benaderingswijz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3DC6-1587-4BFD-806D-0DC244C1BBE1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oelstelling van ROB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lgemeen doel: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Realiteits Oriëntatie Benadering heeft tot doel een verdere achteruitgang in het contact met en de aanpassing aan de omgeving van de dementerende oudere te voorkom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40A9-10E2-428D-8CB4-3ACE48E54372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Vervolg doelstelling van ROB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pgesplitst in 3 specifiekere doel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zo lang mogelijk in stand houden en eventueel verbeteren van lichamelijke, psychische en sociale functies die gestoord zij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bewoners een zodanig leefklimaat bieden dat deze zich vertrouwd voelen met hun omgeving en de mensen om hen he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personeel, familie en bekenden ertoe brengen een zodanige relatie met de bewo­ner op te bouwen dat deze gestimuleerd en geactiveerd wordt tot handelingen en bezigheden waartoe hij nog in staat 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3724-9D8B-4DDF-9390-A43EBA64326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ROB in groepsverband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en kleine groep bewoners in een speciale ruimte, waarmee activiteiten gedaan worden, die gericht zijn op de realite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B.v. kranten lezen, weerbericht doornemen, elkaars namen noemen, enz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attitude van de verzorgende tijdens de ROB is erg belangrij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loof in stimulerende werking van RO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enduidigheid in benadering van de bewo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ndersteunende en geen betuttelende hou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maken van iedere gelegenheid om het contact met de werkelijkheid te laten hervind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52D2-2C2C-4821-9CF0-4D487D50BC9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Cognitieve functiestoorniss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Cognitieve functiestoornissen zijn problemen m.b.t. het waarnemen, taal, geheugen en denk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5" descr="Dementie">
            <a:hlinkClick r:id="rId1"/>
          </p:cNvPr>
          <p:cNvPicPr/>
          <p:nvPr/>
        </p:nvPicPr>
        <p:blipFill>
          <a:blip r:embed="rId2"/>
          <a:srcRect l="0" t="21668" r="0" b="25839"/>
          <a:stretch/>
        </p:blipFill>
        <p:spPr>
          <a:xfrm>
            <a:off x="6804000" y="4797360"/>
            <a:ext cx="16462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AB4E-CFA4-480C-96B2-B449536E9BA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 u="sng">
                <a:solidFill>
                  <a:srgbClr val="999900"/>
                </a:solidFill>
                <a:uFillTx/>
                <a:latin typeface="Garamond"/>
              </a:rPr>
              <a:t>Wat is Validationtherapie</a:t>
            </a: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alidationtherapie is een benaderingswijze van de pg bewoner, die zich richt op het bevestigen van eigen gevoelens, van de eigen beleving van het verled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is een benaderingswijze die de bewoner accepteert daar waar hij is, in zijn realiteit en tij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9F6B-EDB9-4A13-84A1-6EF378365FF2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Doelstellingen validationtherapie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voel van eigen waarde herstellen/terugwinn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panning vermind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chtvaardigen van de manier van lev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nverwerkte conflicten oplossen uit het verled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Zich gelukkiger kunnen voel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BCEA-14BE-42D7-9C18-5580B3518BB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Warme zorg, Snoezele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wereld van dementie schept voortdurend een beleving van dreiging, onveiligheid en angs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vastgelopen geheugen ontneemt de demente zijn vroegere zekerheden. De demente is een vreemdeling geworden in een voor hem vreemde omgev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j zoekt oriëntatiepunten. Hij hoopt bescherming, warmte en veiligheid te krijgen. Hij heeft behoefte aan de veiligheid van de eigen oud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8195-D71A-49A4-B9A4-D33A38F947E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ervol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rme zorg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noezelen"    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"Respons Provoting Approach" 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emen de beleving van de demente bewoner als uitgangspu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doel is een milieu/omgeving te scheppen die tegemoe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omt aan de belangrijkste emotionele behoefte van de demente verwarde bewoner: veilighei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1533-6181-4153-8DFA-FC8C33AF5C0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noezelen: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s een therapievorm die aansluit bij warme zor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noezelen is het primair activeren van diep gestoorden (dementen) door middel van zintuiglijke waarnemingen en ervaring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(licht, geluid, tast, reuk en smaak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iep dementen zijn vaak niet te bereiken met ROB of Validationtherapi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geheugen en het denken werkt niet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us een stapje terug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primaire activering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er is het niet belangrijk om b.v. A.D.L. in stand te houden, maar om contact te maken met de bewon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7A3A-E97A-41F8-87A7-0A916D2F727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ctiviteit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Lichamelijk cont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Poppen/knuffelbeest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leine huisdi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uimtelijke aanpassing: licht, geluid, kl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noeien/werken met zachte kneedbare materia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Textiel/bal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ur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5" descr="orangeGrove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4437000"/>
            <a:ext cx="1181160" cy="8859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snoezelen2_300"/>
          <p:cNvPicPr/>
          <p:nvPr/>
        </p:nvPicPr>
        <p:blipFill>
          <a:blip r:embed="rId3"/>
          <a:stretch/>
        </p:blipFill>
        <p:spPr>
          <a:xfrm>
            <a:off x="6443640" y="105264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9" descr="31"/>
          <p:cNvPicPr/>
          <p:nvPr/>
        </p:nvPicPr>
        <p:blipFill>
          <a:blip r:embed="rId4"/>
          <a:stretch/>
        </p:blipFill>
        <p:spPr>
          <a:xfrm>
            <a:off x="3851280" y="4653000"/>
            <a:ext cx="123840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9855-72C3-48B9-B608-E8B1130E002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Weerstand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inderachtig gedoe: bewoner moet toch als volwassene benaderd worde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langrijk is dat je de bewoner accepteert op zijn niveau en ingaat op zijn behoeft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Lichamelijkheid is vaak een tabo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Familie (en personeel) vinden het vaak een schokkende ervar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Picture 5" descr="sneoz2"/>
          <p:cNvPicPr/>
          <p:nvPr/>
        </p:nvPicPr>
        <p:blipFill>
          <a:blip r:embed="rId1"/>
          <a:stretch/>
        </p:blipFill>
        <p:spPr>
          <a:xfrm>
            <a:off x="5867280" y="5229360"/>
            <a:ext cx="11811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D9AB-9A79-4A32-A563-4FD031090B8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Reminiscen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ij deze benaderingswijze staan de positieve ervaringen centra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nneer je met een bewoner over zijn herinneringen uit het verleden praat, krijg je als verzorgende ook meer inzicht in zijn levensloo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miniscentie is niet alleen het ophalen of opkomen van herinneringen, maar ook erbij stilstaan (reflectie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is dus een terugdenken aan en nadenken over levensgebeurtenissen die men ervaart als behorend tot het leve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0103-0B77-468C-9F8C-5BABF79B359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Belevingsgerichte zorg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en belevingsgerichte benadering is een benadering waarbij je rekening houdt met de belevingswereld van de zorgvrag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rie oorzaken voor verschillen in belevingswere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schillende vormen van dementie die elk op een eigen manier tot uiting kom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arakter voordat de verschijnselen van dementie er wa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lke dementerende oudere heeft zijn eigen levensgeschieden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7A25-B2C2-40C6-B382-F5F14B36775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FARIA CLOW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17" name="Afbeelding 3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24656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ftakeling psychische functi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toenemende aftakeling van psychische functies veranderen ingrijpend het gedrag en het karakter van mens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191B-970B-45BF-8B04-816B335F40C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men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mentie is een verzamelnaam voor een aantal aandoeningen met gemeenschappelijke symptom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E2D0-5FFE-4066-99EE-E07D9C745A2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7D52-1418-4841-ACF2-2768FF1E500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Gemeenschappelijke symptomen van dementie (verzamelnaam)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heugenverl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lies van ori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Arial"/>
              </a:rPr>
              <a:t>ëntat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Arial"/>
              </a:rPr>
              <a:t>Moeilijkheden met den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Arial"/>
              </a:rPr>
              <a:t>Verandering van gedra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5" descr="weetnie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1557360"/>
            <a:ext cx="552240" cy="942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show_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32720" y="2133720"/>
            <a:ext cx="1218960" cy="790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game-pic3"/>
          <p:cNvPicPr/>
          <p:nvPr/>
        </p:nvPicPr>
        <p:blipFill>
          <a:blip r:embed="rId5"/>
          <a:stretch/>
        </p:blipFill>
        <p:spPr>
          <a:xfrm>
            <a:off x="6227640" y="3141720"/>
            <a:ext cx="716040" cy="1111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3" name="Picture 13" descr="1boo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211640" y="4437000"/>
            <a:ext cx="10476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0B03-D17B-413B-A2F4-423A2FE84A5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Vormen van dementie</a:t>
            </a:r>
            <a:br>
              <a:rPr sz="4000"/>
            </a:br>
            <a:r>
              <a:rPr b="0" lang="nl-NL" sz="2000" spc="-1" strike="noStrike">
                <a:solidFill>
                  <a:srgbClr val="999900"/>
                </a:solidFill>
                <a:latin typeface="Garamond"/>
              </a:rPr>
              <a:t>Diagnose d.m.v. CT-scan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eniele dementie van het Alzheimertyp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moedelijk worden de hersencellen verdrongen door aan elkaar geklitte zenuw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orzaak is eiwitstapel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gressief verloo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ymptome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Verlies van interesse in de omgev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soriëntatie in tijd en plaa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Vereenvoudigd taalgebrui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Persoonlijkheidsveranderinge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Stemmingsstoornissen en denkstoorniss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5" descr="Doorsnede: hersenen bij Alzheimer zijn gekrompen; spraak en geheugen zijn gestoord"/>
          <p:cNvPicPr/>
          <p:nvPr/>
        </p:nvPicPr>
        <p:blipFill>
          <a:blip r:embed="rId1"/>
          <a:stretch/>
        </p:blipFill>
        <p:spPr>
          <a:xfrm>
            <a:off x="6095880" y="27082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94FC-08A3-454E-8C9B-7812F2ACA39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asculaire dement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schadiging van de hersenen door problemen met de bloedvaten, b.v. een C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eft een trapsgewijs dalend verlo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ymptomen zijn afhankelijk van de plaats van de beschadiging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heugenstoorniss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fas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blemen met de coördina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ormen van dementie</a:t>
            </a:r>
            <a:br>
              <a:rPr sz="4400"/>
            </a:br>
            <a:r>
              <a:rPr b="0" lang="nl-NL" sz="2000" spc="-1" strike="noStrike">
                <a:solidFill>
                  <a:srgbClr val="999900"/>
                </a:solidFill>
                <a:latin typeface="Garamond"/>
              </a:rPr>
              <a:t>Diagnose d.m.v. CT-scan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3" name="Picture 6" descr="MRI"/>
          <p:cNvPicPr/>
          <p:nvPr/>
        </p:nvPicPr>
        <p:blipFill>
          <a:blip r:embed="rId1"/>
          <a:stretch/>
        </p:blipFill>
        <p:spPr>
          <a:xfrm>
            <a:off x="6948360" y="4365720"/>
            <a:ext cx="943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5T20:47:05Z</dcterms:created>
  <dc:creator>Joke Kuyk</dc:creator>
  <dc:description/>
  <dc:language>en-US</dc:language>
  <cp:lastModifiedBy>spd</cp:lastModifiedBy>
  <dcterms:modified xsi:type="dcterms:W3CDTF">2012-03-28T13:31:21Z</dcterms:modified>
  <cp:revision>26</cp:revision>
  <dc:subject/>
  <dc:title>Psychogeriatrische zorgvragers:</dc:title>
</cp:coreProperties>
</file>