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867900" cy="676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3B88-9DAB-42ED-8EED-3AF8A40F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E400-60D7-45C0-B7CA-B660838A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B5B4-9A68-48C1-99EA-839EF306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8EDC-A8CE-4435-A826-1219FC2D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AB8F-D78C-4BC7-911E-8A65D920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8859-19CA-46A6-B4A4-D4CC9069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386B-8858-4076-B5AA-36F5F275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E852-EA1D-48FD-B58E-F4D6074E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69AD-94C7-469C-80DA-94CB6F18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835C-FBD1-4F57-9865-546A362A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AC35-430A-41E3-8FDB-006BF096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4062-C7C3-4DA4-8965-9BB34F8E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BB81-7267-4474-B128-D6C8CFB7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437F-4DBA-4B5B-A9D2-DA4DB9F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270C-41B0-47AD-B214-D4E5D49F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0172-CE2A-4B4E-9B59-874258E9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17AB-3809-4681-B293-4AA4730F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C649-287C-40A1-AF75-CA29FE80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18B8-E4DA-477A-B912-56978C7C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A4AA-8580-4E7B-9D6B-3AE59881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9798-7571-4551-BF8C-9CD7B525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F1E4-493B-4E6F-A0CC-CBC91906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FBD5-3ED4-45A6-8402-CA7F7456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91CE-BB7F-457B-8628-22631C75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2852-4FEB-4B8D-86C2-535316BE46BE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721D-9A18-48C4-A8BD-734F0DEB0C24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g.nl/scholieren/profielwerkstukken/pws/afbeeldingen/geheugen1.jpg&amp;imgrefurl=http://www.rug.nl/scholieren/profielwerkstukken/pws/alleBrainbox/werkgeheugen&amp;h=200&amp;w=200&amp;sz=9&amp;hl=nl&amp;start=9&amp;um=1&amp;tbnid=RgsYSC7ax-G0eM:&amp;tbnh=104&amp;tbnw=104&amp;prev=/images%3Fq%3Dgeheugen%26svnum%3D10%26um%3D1%26hl%3Dnl%26rls%3Dcom.microsoft:nl:IE-SearchBox%26rlz%3D1I7GGL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ooginal.demon.nl/kids/schildpad.jpg&amp;imgrefurl=http://fionamccabe.spaces.live.com/blog/cns!77953C1003B6188E!918.entry&amp;h=957&amp;w=718&amp;sz=124&amp;hl=nl&amp;start=19&amp;um=1&amp;tbnid=81sx-aJe2mG5nM:&amp;tbnh=148&amp;tbnw=111&amp;prev=/images%3Fq%3Dtraag%26svnum%3D10%26um%3D1%26hl%3Dnl%26rls%3Dcom.microsoft:nl:IE-SearchBox%26rlz%3D1I7GGL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esoveruwhypotheek.nl/images/pensioen1a.jpg&amp;imgrefurl=http://www.allesoveruwhypotheek.nl/&amp;h=215&amp;w=194&amp;sz=13&amp;hl=nl&amp;start=47&amp;um=1&amp;tbnid=ROt23p9aD9ahuM:&amp;tbnh=106&amp;tbnw=96&amp;prev=/images%3Fq%3Dpensioen%26start%3D40%26ndsp%3D20%26svnum%3D10%26um%3D1%26hl%3Dnl%26rls%3Dcom.microsoft:nl:IE-SearchBox%26rlz%3D1I7GGLG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dbnl.org/tekst/vrie011ever01_01/vrie011ever02ill44.gif&amp;imgrefurl=http://www.dbnl.org/tekst/vrie011ever01_01/vrie011ever01_01_0026.htm&amp;h=373&amp;w=350&amp;sz=75&amp;hl=nl&amp;start=1&amp;um=1&amp;tbnid=PHzitHhtWsD_ZM:&amp;tbnh=122&amp;tbnw=114&amp;prev=/images%3Fq%3Dvader%2Ben%2Bmoeder%26svnum%3D10%26um%3D1%26hl%3Dnl%26rls%3Dcom.microsoft:nl:IE-SearchBox%26rlz%3D1I7GGL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www.vrijwilliger.nl/images/vrijwilliger3.gif&amp;imgrefurl=http://www.vrijwilliger.nl/zoeken.php&amp;h=130&amp;w=253&amp;sz=13&amp;hl=nl&amp;start=69&amp;um=1&amp;tbnid=1K7CoyuwfKRCGM:&amp;tbnh=57&amp;tbnw=111&amp;prev=/images%3Fq%3Dvrijwilliger%26start%3D60%26ndsp%3D20%26svnum%3D10%26um%3D1%26hl%3Dnl%26rls%3Dcom.microsoft:nl:IE-SearchBox%26rlz%3D1I7GGLG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zonde-voeding.info/gezonde-voeding.jpg&amp;imgrefurl=http://www.gezonde-voeding.info/disclaimer.html&amp;h=212&amp;w=200&amp;sz=12&amp;hl=nl&amp;start=5&amp;um=1&amp;tbnid=wcVNsRM1yQ1VTM:&amp;tbnh=106&amp;tbnw=100&amp;prev=/images%3Fq%3Dvoeding%26svnum%3D10%26um%3D1%26hl%3Dnl%26rls%3Dcom.microsoft:nl:IE-SearchBox%26rlz%3D1I7GGL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land-in-zicht.com/images/media/foto_los_03.jpg&amp;imgrefurl=http://www.land-in-zicht.com/categorie.php%3Fid%3D8&amp;h=290&amp;w=430&amp;sz=32&amp;hl=nl&amp;start=2&amp;um=1&amp;tbnid=ULm0qPsaQJ5clM:&amp;tbnh=85&amp;tbnw=126&amp;prev=/images%3Fq%3Dkoffie%2Ben%2Bthee%26svnum%3D10%26um%3D1%26hl%3Dnl%26rls%3Dcom.microsoft:nl:IE-SearchBox%26rlz%3D1I7GGL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liguecardiologique.be/images/prevention/tabagisme.gif&amp;imgrefurl=http://www.liguecardiologique.be/nl/01_tabac.cfm&amp;h=237&amp;w=250&amp;sz=27&amp;hl=nl&amp;start=9&amp;um=1&amp;tbnid=z0LeTQxCBMYaiM:&amp;tbnh=105&amp;tbnw=111&amp;prev=/images%3Fq%3Droken%26svnum%3D10%26um%3D1%26hl%3Dnl%26rls%3Dcom.microsoft:nl:IE-SearchBox%26rlz%3D1I7GGL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mbvo-amsterdam.nl/images/conditietrainen.jpg&amp;imgrefurl=http://www.mbvo-amsterdam.nl/&amp;h=317&amp;w=342&amp;sz=33&amp;hl=nl&amp;start=14&amp;um=1&amp;tbnid=5EdGvobpzTHqIM:&amp;tbnh=111&amp;tbnw=120&amp;prev=/images%3Fq%3Dbewegen%26svnum%3D10%26um%3D1%26hl%3Dnl%26rls%3Dcom.microsoft:nl:IE-SearchBox%26rlz%3D1I7GGLG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m/imgres?imgurl=http://www.kieckens.nl/boeken/gewoon%2520gelukkig.jpg&amp;imgrefurl=http://www.kieckens.nl/wat%2520is%2520geluk%2520nader%2520bekeken.htm&amp;h=126&amp;w=75&amp;sz=21&amp;hl=nl&amp;start=9&amp;um=1&amp;tbnid=CXCtR0FRJbnD3M:&amp;tbnh=90&amp;tbnw=54&amp;prev=/images%3Fq%3Dpositieve%2Blevenshouding%26svnum%3D10%26um%3D1%26hl%3Dnl%26rls%3Dcom.microsoft:nl:IE-SearchBox%26rlz%3D1I7GGLG" TargetMode="External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zleuven.be/UZroot/images/diensttemplate/geriatrie.jpg&amp;imgrefurl=http://www.uzleuven.be/UZroot/content/Home/wieiswie/diensten/geriatrie/index.cfm&amp;h=213&amp;w=142&amp;sz=27&amp;hl=nl&amp;start=5&amp;um=1&amp;tbnid=BMN2GGI44Azz7M:&amp;tbnh=106&amp;tbnw=71&amp;prev=/images%3Fq%3Dgeriatrie%26svnum%3D10%26um%3D1%26hl%3Dnl%26rls%3Dcom.microsoft:nl:IE-SearchBox%26rlz%3D1I7GGL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-akademie.de/cms/_img_cms/60/Praxis_Ergotherapie_Geriatrie.jpg&amp;imgrefurl=http://www.med-akademie.de/cms/index.php%3Fdoc_id%3D301%26lang%3Dde&amp;h=413&amp;w=300&amp;sz=50&amp;hl=nl&amp;start=2&amp;um=1&amp;tbnid=xNrj83Msb6w4qM:&amp;tbnh=125&amp;tbnw=91&amp;prev=/images%3Fq%3Dgeriatrie%26svnum%3D10%26um%3D1%26hl%3Dnl%26rls%3Dcom.microsoft:nl:IE-SearchBox%26rlz%3D1I7GGL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ydals-degen.nl/nieuwsbrieven/babysit.jpg&amp;imgrefurl=http://www.beydals-degen.nl/nieuwsbrieven/nieuwsbrief.htm&amp;h=103&amp;w=150&amp;sz=41&amp;hl=nl&amp;start=10&amp;um=1&amp;tbnid=xqfeu7HZYk_IiM:&amp;tbnh=66&amp;tbnw=96&amp;prev=/images%3Fq%3Doppasoma%26svnum%3D10%26um%3D1%26hl%3Dnl%26rls%3Dcom.microsoft:nl:IE-SearchBox%26rlz%3D1I7GGL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aandekoreaan.web-log.nl/daandekoreaan/images/oldies.jpg&amp;imgrefurl=http://daandekoreaan.web-log.nl/daandekoreaan/2006/08/index.html&amp;h=337&amp;w=450&amp;sz=36&amp;hl=nl&amp;start=8&amp;um=1&amp;tbnid=kRRosdVcc05ctM:&amp;tbnh=95&amp;tbnw=127&amp;prev=/images%3Fq%3Dbejaarde%26svnum%3D10%26um%3D1%26hl%3Dnl%26rls%3Dcom.microsoft:nl:IE-SearchBox%26rlz%3D1I7GGLG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ubra.nl/fotografierubriek/reesdiepen/004.jpg&amp;imgrefurl=http://www.cubra.nl/fotografierubriek/reesdiepen.htm&amp;h=328&amp;w=250&amp;sz=41&amp;hl=nl&amp;start=4&amp;um=1&amp;tbnid=Z91O3p0cjOc7-M:&amp;tbnh=138&amp;tbnw=105&amp;prev=/images%3Fq%3Doudje%26svnum%3D10%26um%3D1%26hl%3Dnl%26rls%3Dcom.microsoft:nl:IE-SearchBox%26rlz%3D1I7GGL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kirpa.be/image/M/7/3/m7342_wal.jpg&amp;imgrefurl=http://www.kikirpa.be/www2/cgi-bin/wwwopac.exe%3FDATABASE%3Dobject%26LANGUAGE%3D2%26OPAC_URL%3D%26%25250%3D100050%26LIMIT%3D50&amp;h=276&amp;w=194&amp;sz=7&amp;hl=nl&amp;start=16&amp;um=1&amp;tbnid=VBArI7B7774j9M:&amp;tbnh=114&amp;tbnw=80&amp;prev=/images%3Fq%3Dbejaarde%26svnum%3D10%26um%3D1%26hl%3Dnl%26rls%3Dcom.microsoft:nl:IE-SearchBox%26rlz%3D1I7GGL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dividuele verschill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psychologische ontwikkeling is het resultaat van de interactie tussen mensen en hun omgevi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Leefomstandigheden en ervaring spelen een grote rol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ok de opleiding die je volgt is van bela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verstandelijke ontwikkeling kan worden beïnvloedt door biologische processen                    (trauma, hersenvliesontsteking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Individuele verschillen kunnen ook worden bepaald door dingen die men mee maakt waardoor men in een bepaalde rol wordt gedwongen                           (verlies van een ouder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p cognitief gebied ontstaan op een moment verandering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reactiesnelheid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geheugen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sen ervaren dit op verschillende manier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kan heel bedreigend zij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 kan ook proberen te genieten zo lang het ka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Niet vergelijken met vroeger helpt ook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5" descr="geheuge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157720"/>
            <a:ext cx="99072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Picture 7" descr="schildp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989000"/>
            <a:ext cx="10573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 de sociale veroudering verandert de rol die men speelt in het gezin en het we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s verdwijnt een ro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kind”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ouder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werk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Picture 5" descr="pensioen1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15772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KIND (31k image)"/>
          <p:cNvPicPr/>
          <p:nvPr/>
        </p:nvPicPr>
        <p:blipFill>
          <a:blip r:embed="rId3"/>
          <a:stretch/>
        </p:blipFill>
        <p:spPr>
          <a:xfrm>
            <a:off x="3851280" y="3141720"/>
            <a:ext cx="1378080" cy="155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vrie011ever02ill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292640"/>
            <a:ext cx="1465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ciale ouderdomsveranderingen kunnen pijnlijk zijn, maar ook posi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anderde invullen van de rollen brengt tijd en mogelijkheden met zich me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krijgt nieuwe rol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moet wel open staan voor de verander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5" descr="Vakanties voor zieken en gehandicapten"/>
          <p:cNvPicPr/>
          <p:nvPr/>
        </p:nvPicPr>
        <p:blipFill>
          <a:blip r:embed="rId1"/>
          <a:stretch/>
        </p:blipFill>
        <p:spPr>
          <a:xfrm>
            <a:off x="7667640" y="4437000"/>
            <a:ext cx="952560" cy="17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vrijwilliger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589720"/>
            <a:ext cx="1489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efstijl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wijze waarop men ouder wordt heeft ook te maken met externe factor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5" name="Picture 5" descr="gezonde-voe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13000"/>
            <a:ext cx="952560" cy="10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6" name="Picture 7" descr="foto_los_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005360"/>
            <a:ext cx="1200240" cy="80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tabagism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4869000"/>
            <a:ext cx="105732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Picture 13" descr="conditietrain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378936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gewoon%2520gelukk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24720" y="2852640"/>
            <a:ext cx="669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vensomstandighe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ciaal netwer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 stand houden en aangaan van (nieuwe) relaties en sociale contac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zaamhei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kom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Mensen met een hoog inkomen hebben het vaak net iets makkelijk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len gaan na hun pensioen er fors op achteru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tschappelijke ontwikkeling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el ouderen zijn in isolement terecht gekomen doordat zij hun maatschappelijke positie moesten opgev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genwoordig zorgen ouderen er voor een nuttige invulling van hun tijd te hebb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Stoornissen in de ontwikkeling bij het ouder wor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ouderen accepteren na verloop van tijd de realiteit en leren er mee om te g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mige mensen komen in de problemen doordat er zich op meerdere vlakken; biologisch, psychologisch en sociaal stoornissen optre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 spreken nu van de geriatrische zorgvrag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4" name="Picture 5" descr="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4941720"/>
            <a:ext cx="101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sengagement 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wikkeld midden 20</a:t>
            </a:r>
            <a:r>
              <a:rPr b="0" lang="nl-NL" sz="20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 eeuw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oudere trekt zich geleidelijk aan terug uit het sociale verke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Ze laten steeds meer activiteiten lo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uder worden is een proces van losla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7" name="Picture 5" descr="Praxis_Ergotherapie_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5013360"/>
            <a:ext cx="86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activiteiten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s een reactie op de voorgaand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loslaten van rollen leidt tot inactiviteit en tot het zich ongelukkig voel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kern van deze visie is om ouderen zo lang mogelijk actief te hou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 de rollen die men moet loslaten komen andere in de plaa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0" name="Picture 8" descr="babys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5516640"/>
            <a:ext cx="1371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continuïteits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er een reactie op de voorgaande theorieë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t alle oudere zitten te wachten op nieuwe rollen en activitei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de oudere zo veel mogelijk zijn oude leefpatroon vasthoudt, men dient dit alleen aan te pass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uderen moten zo lang mogelijk door gaan met wat men do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3" name="Picture 6" descr="oudere%2520werknemer"/>
          <p:cNvPicPr/>
          <p:nvPr/>
        </p:nvPicPr>
        <p:blipFill>
          <a:blip r:embed="rId1"/>
          <a:stretch/>
        </p:blipFill>
        <p:spPr>
          <a:xfrm>
            <a:off x="4788000" y="5300640"/>
            <a:ext cx="16304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Iedereen wil lang leven, maar niemand wil oud worden.“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Jonathan Swift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Leef niet alsof je nog duizenden jaren voor je hebt. Het noodlot zit je op de hielen. Neem het er goed van zolang leven en kracht tot je beschikking staan.“ 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Marcus Aurelius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fferential-aging theori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amenstelling van de voorgaand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ouder worden een individueel proces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sommigen is het goed om activiteiten los te la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anderen is het noodzakelijk om activiteiten te blijven ontplooi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ze visie gaat er van uit dat de oudere zelf wel weet wat goed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afhankelijkheid en autonomie zijn erg belangrij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6" name="Picture 6" descr="halters"/>
          <p:cNvPicPr/>
          <p:nvPr/>
        </p:nvPicPr>
        <p:blipFill>
          <a:blip r:embed="rId1"/>
          <a:stretch/>
        </p:blipFill>
        <p:spPr>
          <a:xfrm>
            <a:off x="7308720" y="1268280"/>
            <a:ext cx="866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raaggericht zorg verle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huidige maatschappij leidt er toe bij dat ouderen soms een beetje de weg kwijt ra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oor het grote aanbod aan middelen en mogelijkhedenweet men soms niet wat de echte behoeft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ierdoor gebeurt het dat de ‘diensten’ soms niet aansluiten op de behoeften van de zorgvra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anneer wij vraaggerichte zorg willen verlenen zullen we eerst de zorgbehoeften moet inventaris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Uitgangspunt is de autonomie van de zorgvra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ls verzorgende geef je informatie en adv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biologische verouderingsproces duurt een heel leven. Oud worden gaat langzaa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schillen tussen ouderen en jongeren worden niet noodzakelijk veroorzaakt door het verouderingspro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oorzaken kunnen extern liggen; b.v. het ontstaan van obstipatie door te weinig beweg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675e47"/>
                </a:solidFill>
                <a:latin typeface="Cambria"/>
              </a:rPr>
              <a:t>Endogene ouderdomsveranderingen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netisch bepaalde veranderingen die vroeg of laat optred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rijs haa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unner en droger worden van de 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isusklacht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iologische ouderdomsveranderin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lengte door inzakken van de wervels en vochtverlies in de tussenwervel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hoeveelheid lichaamsvoch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spier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enemen van de vet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5" descr="old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56536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5013360"/>
            <a:ext cx="1000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Orgaanspecifieke ouderdomsveranderingen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trofie (verschrompeling) va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kel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rse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ev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ar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tugger worden van diverse weefsels doordat er meer steunweefselcell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8" name="Picture 5" descr="m7342_w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141720"/>
            <a:ext cx="1144800" cy="163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unctionele verouder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functioneren van diverse organen gaat achteru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gint rond het 20</a:t>
            </a:r>
            <a:r>
              <a:rPr b="0" lang="nl-NL" sz="22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levensja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niet direct op door de grote reservecapaciteit van alle orga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pas op latere leeftijd o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veroudert in een eigen temp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Picture 7" descr="viewfile"/>
          <p:cNvPicPr/>
          <p:nvPr/>
        </p:nvPicPr>
        <p:blipFill>
          <a:blip r:embed="rId1"/>
          <a:srcRect l="0" t="12325" r="50883" b="0"/>
          <a:stretch/>
        </p:blipFill>
        <p:spPr>
          <a:xfrm>
            <a:off x="7272360" y="5321160"/>
            <a:ext cx="1871640" cy="153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viewfile"/>
          <p:cNvPicPr/>
          <p:nvPr/>
        </p:nvPicPr>
        <p:blipFill>
          <a:blip r:embed="rId2"/>
          <a:srcRect l="51044" t="12325" r="0" b="0"/>
          <a:stretch/>
        </p:blipFill>
        <p:spPr>
          <a:xfrm>
            <a:off x="6877080" y="2276640"/>
            <a:ext cx="1865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dat een en ander op een natuurlijke wijze verloopt heeft men pas op een latere leeftijd in de gaten dat men bij de ouderen ho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eindelijke voelt mens zelf ook dat het lichaam ouder word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mensen kunnen hier constructief mee om gaan en passen zich aan de veranderingen 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sych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Qua psychologische en verstandelijke ontwikkelingen zijn we op 35 jarige leeftijd op onze to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Na je 35</a:t>
            </a:r>
            <a:r>
              <a:rPr b="0" lang="nl-NL" sz="25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 ga je steeds meer een beroep doen op opgebouwde kennis en ervaring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oordat ouderen eerder opgedane kennis en ervaring combineren met nieuwe ontwikkelingen en inzichten kunnen zij soms betere prestaties leveren dan jongeren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Met het stijgen van de leeftijd treden veranderingen op in de verstandelijke vermogens, de oriëntatie, het taalvermogen en het denkvermogen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ouderen3"/>
          <p:cNvPicPr/>
          <p:nvPr/>
        </p:nvPicPr>
        <p:blipFill>
          <a:blip r:embed="rId1"/>
          <a:stretch/>
        </p:blipFill>
        <p:spPr>
          <a:xfrm>
            <a:off x="1187280" y="1052640"/>
            <a:ext cx="6753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4:33:05Z</dcterms:created>
  <dc:creator>JEM de Neeff - Verspeek</dc:creator>
  <dc:description/>
  <dc:language>en-US</dc:language>
  <cp:lastModifiedBy>Koen van Spaandonk</cp:lastModifiedBy>
  <dcterms:modified xsi:type="dcterms:W3CDTF">2012-03-28T10:47:41Z</dcterms:modified>
  <cp:revision>13</cp:revision>
  <dc:subject/>
  <dc:title>Verpleegkunde 309</dc:title>
</cp:coreProperties>
</file>