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43A1B-00E1-4AB0-AD79-F56764C5B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63A0E-2402-4278-95B3-B3E9F049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E42DE-3BE8-4972-85A2-0AFD85ECE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AB1BE-D563-41C3-B0ED-429E19212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A8119-93A6-4601-882A-A3832EBA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1F32C-3B7A-4687-9A21-C243138E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546D9-1804-4645-A053-B94AA66B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625B2-C82C-4240-8804-BB5A61E2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8C175-DA66-4946-A931-4899EAE3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50F0F-D003-4924-B705-9F61DA66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75A37-9FE4-40BA-9462-E85937B6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BDA7B-7D04-41A0-87DE-2CB508BA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0E96-41B7-415F-AF0D-30C227FA3A6E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leuven.be/ftp/thuiszorg%2520senioren.jpg&amp;imgrefurl=http://www.leuven.be/rss.asp%3FiPageID%3D980&amp;h=324&amp;w=283&amp;sz=20&amp;hl=nl&amp;start=1&amp;tbnid=ON6Vo_RqUPoK7M:&amp;tbnh=118&amp;tbnw=103&amp;prev=/images%3Fq%3Dthuiszorg%26gbv%3D2%26svnum%3D10%26hl%3Dnl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stagira.nl/files/Image/Thuiszorg_6296.jpg&amp;imgrefurl=http://www.stagira.nl/37_actueel.html&amp;h=242&amp;w=200&amp;sz=93&amp;hl=nl&amp;start=13&amp;tbnid=uwCM2ICAEG-kNM:&amp;tbnh=110&amp;tbnw=91&amp;prev=/images%3Fq%3Dthuiszorg%26gbv%3D2%26svnum%3D10%26hl%3Dnl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kalorama.nl/img/blobs/75/10461663600.767218983340175C__1_STUDIO_VAN_DALEN_PROJECTEN_KALORAMA_fotorama_foto_klein_000002.jpg&amp;imgrefurl=http://www.kalorama.nl/index.asp%3FshowMenu%3D4&amp;h=150&amp;w=300&amp;sz=16&amp;hl=nl&amp;start=8&amp;tbnid=-WdvKS-S_HlGpM:&amp;tbnh=58&amp;tbnw=116&amp;prev=/images%3Fq%3Dzorgverlening%26gbv%3D2%26svnum%3D10%26hl%3Dn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koster.nl/kpp/images/stel2.jpg&amp;imgrefurl=http://www.koster.nl/kpp/9812-01.htm&amp;h=131&amp;w=200&amp;sz=10&amp;hl=nl&amp;start=9&amp;tbnid=XFNFFeV4douJtM:&amp;tbnh=68&amp;tbnw=104&amp;prev=/images%3Fq%3Ddubbele%2Bvergrijzing%26gbv%3D2%26svnum%3D10%26hl%3Dn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nederweert.nl/FilesPage/1001368/tdj-logo.jpg&amp;imgrefurl=http://www.nederweert.nl/1001368.asp&amp;h=120&amp;w=120&amp;sz=13&amp;hl=nl&amp;start=2&amp;tbnid=Rv0SfIQdblS9yM:&amp;tbnh=88&amp;tbnw=88&amp;prev=/images%3Fq%3Dtafeltje%2Bdek%2Bje%26gbv%3D2%26svnum%3D10%26hl%3Dnl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nl/imgres?imgurl=http://www.e-spots.nl/images/3452.jpg&amp;imgrefurl=http://076.e-spots.nl/%3Fid%3D3452&amp;h=340&amp;w=313&amp;sz=12&amp;hl=nl&amp;start=19&amp;tbnid=2mNj6Cv6abT4xM:&amp;tbnh=119&amp;tbnw=110&amp;prev=/images%3Fq%3Dgeld%26gbv%3D2%26svnum%3D10%26hl%3Dnl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veendam.nl/md/39/ouderen%2520gym.jpg&amp;imgrefurl=http://www.veendam.nl/nl/pagina/1808/Bewegen_voor%2520ouderen.html%3FPHPSESSID%3Dc7e703adf308c8ad00789875b1f540d8&amp;h=241&amp;w=359&amp;sz=63&amp;hl=nl&amp;start=7&amp;tbnid=_-jweEG7lATZLM:&amp;tbnh=94&amp;tbnw=140&amp;prev=/images%3Fq%3Douderen%26gbv%3D2%26svnum%3D10%26hl%3Dnl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nl/imgres?imgurl=http://www.veilig.nl/images/logo%27s/jurist.gif&amp;imgrefurl=http://www.veilig.nl/producten/cameras_kl.htm&amp;h=160&amp;w=150&amp;sz=9&amp;hl=nl&amp;start=4&amp;tbnid=Bww2kiuAdg9vEM:&amp;tbnh=98&amp;tbnw=92&amp;prev=/images%3Fq%3Djurist%26gbv%3D2%26svnum%3D10%26hl%3Dnl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swonijverdal.nl/Homeplaatjes/internetcafe.jpg&amp;imgrefurl=http://www.swonijverdal.nl/internet-internetcirkel.html&amp;h=420&amp;w=560&amp;sz=89&amp;hl=nl&amp;start=3&amp;tbnid=ZWxF1hNYXXttmM:&amp;tbnh=112&amp;tbnw=150&amp;prev=/images%3Fq%3Dinternetcafe%26gbv%3D2%26svnum%3D10%26hl%3Dnl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ages.google.nl/imgres?imgurl=http://www.caboamsterdam.nl/Turk%2520Vr1.jpg&amp;imgrefurl=http://www.caboamsterdam.nl/over%2520oudere%2520migranten/Over%2520oudere%2520migranten.htm&amp;h=300&amp;w=400&amp;sz=120&amp;hl=nl&amp;start=4&amp;tbnid=PpKIQGxWhs1fSM:&amp;tbnh=93&amp;tbnw=124&amp;prev=/images%3Fq%3Dmigranten%26gbv%3D2%26svnum%3D10%26hl%3Dnl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600" spc="-1" strike="noStrike">
                <a:solidFill>
                  <a:srgbClr val="675e47"/>
                </a:solidFill>
                <a:latin typeface="Cambria"/>
              </a:rPr>
              <a:t>Maatschappelijke ontwikkelingen van de oudere zorgvrager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e8d8c"/>
                </a:solidFill>
                <a:latin typeface="Calibri"/>
              </a:rPr>
              <a:t>Geriatrische zorgvrag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Zor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vraag om zorg op maat wordt ingevuld via de commerciële thuiszorg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Voordeel: minder lange wachtlijs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Nadeel: hogere kosten, niet altijd volledig vergoe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Een aantal instellingen springt hier ook al op i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zorg is precies afgemeten op de individuele wens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4" name="Picture 5" descr="thuiszorg%2520senior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5229360"/>
            <a:ext cx="981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Won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uderen willen zo lang mogelijk zelfstandig blijv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ensen vinden hier op creatieve manieren oplossingen voo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Woongroep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Kleinschalige woonvorm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7" name="Picture 5" descr="Thuiszorg_62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450864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675e47"/>
                </a:solidFill>
                <a:latin typeface="Cambria"/>
              </a:rPr>
              <a:t>De oudere in de multiculturele samenleving</a:t>
            </a:r>
            <a:endParaRPr b="0" lang="en-US" sz="3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Nederland is multicultureel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De Nederlandse cultuur wordt hierdoor beïnvloed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Elke cultuur heeft specifieke kenmerken en vraag zijn eigen aanpak in de zor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Aandacht voor de normen en waarden is heel belangrijk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Geef duidelijk aan wie je bent en wat je komt do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Ga respectvol om met andere gewoont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Famili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Familie is voor iedereen belangrijk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Familiebanden zijn in veel culturen veel hechter dan de Nederlandse, men draagt ook bij in de zorg voor elkaa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Respecteer de aanwezigheid van famili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Raadpleeg de familie bij het nemen van beslissing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Informeer de familie over de stand van zak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ou je buiten familieaangelegenhed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Betrek de familie bij de zor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2" name="Picture 5" descr="familie01"/>
          <p:cNvPicPr/>
          <p:nvPr/>
        </p:nvPicPr>
        <p:blipFill>
          <a:blip r:embed="rId1"/>
          <a:stretch/>
        </p:blipFill>
        <p:spPr>
          <a:xfrm>
            <a:off x="7164360" y="5013360"/>
            <a:ext cx="118116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verlij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Ieder geloof kent zijn eigen rituel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Raadpleeg de familie over mogelijke wens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oe de nodige handelingen in overleg met de famili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Bewaar een professionele afstan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Laat de familie vrij om te beslissen om zaken met jou te besprek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Interculturele communicati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Anderstaligen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Familieleden tolk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Tolken telefoo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Beperkt Nederlands spreken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preek duidelijk in korte zinn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Zeg belangrijke dingen eers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oud oogcontac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Controleer of de zorgvragen alles begrijp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Taalbetekenis verschillend gebruik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ommige woorden hebben andere betekenissen in andere cultu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7" name="Picture 5" descr="bruegel_babel2_grt"/>
          <p:cNvPicPr/>
          <p:nvPr/>
        </p:nvPicPr>
        <p:blipFill>
          <a:blip r:embed="rId1"/>
          <a:stretch/>
        </p:blipFill>
        <p:spPr>
          <a:xfrm>
            <a:off x="7164360" y="2637000"/>
            <a:ext cx="1314360" cy="108576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6"/>
          <p:cNvSpPr/>
          <p:nvPr/>
        </p:nvSpPr>
        <p:spPr>
          <a:xfrm rot="10800000">
            <a:off x="8532360" y="6453000"/>
            <a:ext cx="360360" cy="215640"/>
          </a:xfrm>
          <a:custGeom>
            <a:avLst/>
            <a:gdLst>
              <a:gd name="textAreaLeft" fmla="*/ 0 w 360360"/>
              <a:gd name="textAreaRight" fmla="*/ 360720 w 360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9a57c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675e47"/>
                </a:solidFill>
                <a:latin typeface="Cambria"/>
              </a:rPr>
              <a:t>Maatschappelijke ontwikkelingen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Recessie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Het economische klimaat is aan het verander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Terroristische aanslagen hebben zaken negatief beïnvloed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Prijsstijgingen zorgen voor een verminderde koopkrach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werkeloosheid is toegenom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Er wordt bezuinig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Er is minder geld beschikbaar in de zor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Picture 7" descr="werkloosheid"/>
          <p:cNvPicPr/>
          <p:nvPr/>
        </p:nvPicPr>
        <p:blipFill>
          <a:blip r:embed="rId1"/>
          <a:stretch/>
        </p:blipFill>
        <p:spPr>
          <a:xfrm>
            <a:off x="7812000" y="1484280"/>
            <a:ext cx="1112760" cy="1695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De politiek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Er zijn meer ouderen en zij zijn mondiger dan vroege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Het kabinet wil mensen zelf de verantwoording alten dragen voor hun eigen leven en de mensen om hen he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Keuzevrijheid en zelfredzaamheid staan voorop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Maatregelen gericht op de ouderen in de maatschappij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Zorgen voor een toereikend inkom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Zorgen voor geschikte huisvest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Zorgen voor adequate zorgverlen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5" descr="Nico Visscher - Peter R. de Vries stort zich in de politiek"/>
          <p:cNvPicPr/>
          <p:nvPr/>
        </p:nvPicPr>
        <p:blipFill>
          <a:blip r:embed="rId1"/>
          <a:stretch/>
        </p:blipFill>
        <p:spPr>
          <a:xfrm>
            <a:off x="6804000" y="5157720"/>
            <a:ext cx="20509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ociale aspect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groep ouderen wordt steeds grote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et is niet meer vanzelfsprekend dat ouderen in het gezin van hun kinderen worden opgenom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uderen die iets gaan mankeren doen eerder een beroep op professionele zorgverleners en sociale voorziening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3" name="Picture 5" descr="104616636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5661000"/>
            <a:ext cx="165564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Demografische ontwikkeling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Het beleid van de overheid is gericht op een goed leefklimaat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Geld voor onderwijs, werkgelegenheid enz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Demografie is de wetenschap die zich bezig houdt met de opbouw, samenstelling en ontwikkeling van de bevolkin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Momenteel hebben we te maken met de z.g.n. dubbele vergrijzing, met alle gevolgen van dien voor de maatschappij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Meer mensen leven lang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Er worden minder kinderen gebo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6" name="Picture 5" descr="stel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5373720"/>
            <a:ext cx="9903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Emancipatie process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uderen waren vroeger afhankelijk van de ontwikkelingen zoals die werden gebod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Tegenwoordig wordt meer rekening gehouden met individuele wens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uderen willen gelijkwaardig behandeld worden en emancipe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it komt op een aantal vlakken tot uiting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9" name="Picture 7" descr="TSOBII-ouderen"/>
          <p:cNvPicPr/>
          <p:nvPr/>
        </p:nvPicPr>
        <p:blipFill>
          <a:blip r:embed="rId1"/>
          <a:srcRect l="0" t="29358" r="16684" b="4404"/>
          <a:stretch/>
        </p:blipFill>
        <p:spPr>
          <a:xfrm>
            <a:off x="6877080" y="5589720"/>
            <a:ext cx="172728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Welzij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Ouderen worden een aantal diensten geboden die hen ondersteunen in hun zelfstandigheid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De ouderenadviseu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Hier kan men terecht voor praktische zaken.                                        De adviseur is op de hoogte van alle voorzieningen voor ouderen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Welzijnsorganisaties voor oude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Info over voorzieningen m.b.t. huisvesting, financiën, vrijetijdsbesteding, zor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Activiteiten en cursuss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Kortdurende individuele hulpverle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Aanvragen van thuisbezorgde maaltijd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2" name="Picture 5" descr="tdj-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77080" y="5445000"/>
            <a:ext cx="838080" cy="838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3" name="Picture 7" descr="345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12000" y="3500280"/>
            <a:ext cx="1047960" cy="1133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Welzij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Sociale netwerken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Bemiddeling tussen ouderen die activiteiten willen ondernem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Ondersteunen en activeren van ouderen ter voorkoming van eenzaamhei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Cursussen organise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Begeleiding bij verliesverwerk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Wijk winkel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ulp en informatie op juridisch en sociaal vla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ulp bij invullen van belastingpapie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Vaak hebben ze een maatschappelijk werker en een sociaal raadsma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6" name="Picture 6" descr="ouderen%2520gy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3213000"/>
            <a:ext cx="1333440" cy="895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juris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1640" y="5661000"/>
            <a:ext cx="87624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Welzij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aatschappelijk werk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Een onafhankelijk luisterend oor die zijn eg kent door de bureaucratische werel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Vaak ook specialisten voor anderstalig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udere migranten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Kennen vaak een eigen netwerk van welzijnsinstanti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edia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Het internet!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0" name="Picture 6" descr="internetcaf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5373720"/>
            <a:ext cx="1428840" cy="1066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Turk%2520Vr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96360" y="3573360"/>
            <a:ext cx="118080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09:39:04Z</dcterms:created>
  <dc:creator>nef</dc:creator>
  <dc:description/>
  <dc:language>en-US</dc:language>
  <cp:lastModifiedBy>Koen van Spaandonk</cp:lastModifiedBy>
  <dcterms:modified xsi:type="dcterms:W3CDTF">2012-03-28T10:48:58Z</dcterms:modified>
  <cp:revision>14</cp:revision>
  <dc:subject/>
  <dc:title>Verpleegkunde 309</dc:title>
</cp:coreProperties>
</file>