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252-3BC9-4538-AC5F-6E17A1FA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AC8-DACE-46B4-A3B7-CED3F411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FE06-ECC0-45C9-80EB-56CFBDE0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D82-F174-4C5F-89C7-04105429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7125-C7A8-4B06-8ECA-F7902934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38A7-F12F-4AF9-8265-497E7D9E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493C-C421-4F3D-96B2-31AA1C5D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17C5-7F10-43BC-9561-60CD3748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FF83-0516-4318-93AB-1E552871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8F15-28D7-4ACF-9A6D-BC4089B4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8D06-016F-4847-8862-18849DCC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C31-32BA-4027-A50F-91EC9331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FD5B-9E34-4C19-B08B-28AF595B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1BD7-8FF5-45F5-8F93-D5B931A8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1ECA-F7FB-4B55-B523-D52214FE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FA05-4670-41ED-8D81-85226041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5735-1BB0-42DA-B00C-E56660FB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D22-248A-41DE-A724-45BA9977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7C4B-3EFE-460F-B1FF-CEECC756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2E4-6BD5-48D0-8ED3-CF0D39F4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5505-894A-424B-B056-7C59F8C5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C38-3143-45EE-9442-E8EEC9C1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2C23-7758-458D-90AB-9043881A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2BBC-65F8-454C-8949-E3507682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C85D-4E32-4E04-A89E-D6660726F3BF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E738-9C31-49B1-B553-0B2ED3F187E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9EE6-0E80-423A-844B-22F53DF0B676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1850-A245-4C78-BCD0-609318548AD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ln.be/static/FOTO/pe/14/2/5/art_large_590990.jpg&amp;imgrefurl=http://www.hln.be/hln/nl/33/Fit-Gezond/article/detail/557942/2008/12/17/Sarcasme-helpt-dementie-ontdekken.dhtml&amp;usg=__In8SkNytTqq_9LQlMCfFeXHyYBQ=&amp;h=332&amp;w=249&amp;sz=8&amp;hl=nl&amp;start=24&amp;sig2=I3-CAEXOfWsyBT0_MFfwUw&amp;um=1&amp;itbs=1&amp;tbnid=UVwXn6jRZtCJwM:&amp;tbnh=119&amp;tbnw=89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wo.nl/images.nsf/pages/NWOP_5XCECS/%24file/Cognitie-groot.jpg&amp;imgrefurl=http://aarts3.web-log.nl/aarts3/2007/10/psychiatrie_geh.html&amp;h=350&amp;w=335&amp;sz=6&amp;hl=nl&amp;start=1&amp;tbnid=0E_kjXWvTCMMTM:&amp;tbnh=120&amp;tbnw=115&amp;prev=/images%3Fq%3Ddesori%25C3%25ABntatie%2Bin%2Bpersoon%26gbv%3D2%26svnum%3D10%26hl%3Dn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klarenbeekklokken.nl/pubklok1.JPG&amp;imgrefurl=http://www.klarenbeekklokken.nl/pubklokkenklarenbeek.htm&amp;h=400&amp;w=400&amp;sz=23&amp;hl=nl&amp;start=50&amp;tbnid=ZoDRF8DPsiLEeM:&amp;tbnh=124&amp;tbnw=124&amp;prev=/images%3Fq%3Dwandklok%26start%3D40%26gbv%3D2%26ndsp%3D20%26svnum%3D10%26hl%3Dnl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beindhoven.nl/www/Informatiecentrum/Dossiers/images/dementie.jpg&amp;imgrefurl=http://aarts3.web-log.nl/aarts3/2007/10/psychiatrie_geh.html&amp;h=229&amp;w=227&amp;sz=26&amp;hl=nl&amp;start=16&amp;tbnid=-nT3RE_8PPd_OM:&amp;tbnh=108&amp;tbnw=107&amp;prev=/images%3Fq%3Dgeheugenstoornis%26gbv%3D2%26svnum%3D10%26hl%3Dn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achbloesemadvies.be/cms/cms/grafisch/tekst/96_206_depressie.jpg&amp;imgrefurl=http://www.bachbloesemadvies.be/home.asp%3Fp_id%3D599%26p_naam%3DBachbloesems%26tsectie%3D1%26offset%3D0&amp;h=423&amp;w=284&amp;sz=145&amp;hl=nl&amp;start=8&amp;tbnid=KzXGxhVEf8qGfM:&amp;tbnh=126&amp;tbnw=85&amp;prev=/images%3Fq%3Ddepressie%26gbv%3D2%26svnum%3D10%26hl%3Dn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rometheusfleets.com/spotlight/images/overige/maskers.PNG&amp;imgrefurl=http://www.prometheusfleets.com/spotlight/theater_geschiedenis.html&amp;h=171&amp;w=160&amp;sz=21&amp;hl=nl&amp;start=1&amp;tbnid=Xv1giZUaQQTraM:&amp;tbnh=100&amp;tbnw=94&amp;prev=/images%3Fq%3Dlach%2Ben%2Been%2Btraan%26gbv%3D2%26svnum%3D10%26hl%3Dnl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eamsolid.com/psychiatrie/delier/pic/delier-pa.gif&amp;imgrefurl=http://www.beamsolid.com/psychiatrie/delier/delier-pa.shtml&amp;h=160&amp;w=123&amp;sz=8&amp;hl=nl&amp;start=3&amp;tbnid=bAXa3RWNyntoLM:&amp;tbnh=98&amp;tbnw=75&amp;prev=/images%3Fq%3Ddelier%26gbv%3D2%26svnum%3D10%26hl%3Dn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reewebs.com/doktersassistent/dementie.jpg&amp;imgrefurl=http://www.freewebs.com/doktersassistent/dementie.htm&amp;usg=__wZRm2ekb4OftAhVLwDVUjFHTWSw=&amp;h=259&amp;w=397&amp;sz=6&amp;hl=nl&amp;start=2&amp;sig2=gOwTKy9Z8GtoUYD4ddjTgA&amp;um=1&amp;itbs=1&amp;tbnid=E-dpR8fkfLjA_M:&amp;tbnh=81&amp;tbnw=124&amp;prev=/images%3Fq%3Ddementie%26um%3D1%26hl%3Dnl%26sa%3DN%26tbs%3Disch:1&amp;ei=vUSjS6_OEYqQjAepseXvC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astoralekroes.nl/Dementie/afbeeldingen/Dementie_II_-_Ouderdomsdementie/dementie2.jpg&amp;imgrefurl=http://www.pastoralekroes.nl/Dementie/DementieII-Ouderdomsdemen.html&amp;usg=__RQfQ5NP04QjhIyt6ug_SMfgvP-o=&amp;h=156&amp;w=240&amp;sz=17&amp;hl=nl&amp;start=23&amp;sig2=VOp3ZLePM42dHTZHfbH-Hw&amp;um=1&amp;itbs=1&amp;tbnid=q6rOQPIX_5JpbM:&amp;tbnh=72&amp;tbnw=110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egelderseroos.nl/bestanden/pagina/Dementie.jpg&amp;imgrefurl=http://www.degelderseroos.nl/site/Actueel/Interactie&amp;usg=__SaL7PfJXmNv2A4KGNp08E7AO2Dk=&amp;h=300&amp;w=212&amp;sz=9&amp;hl=nl&amp;start=6&amp;sig2=3FLHd-ceMI_FmhGk9DxZeg&amp;um=1&amp;itbs=1&amp;tbnid=Sjx0YT2PncufGM:&amp;tbnh=116&amp;tbnw=82&amp;prev=/images%3Fq%3Ddementie%26um%3D1%26hl%3Dnl%26sa%3DN%26tbs%3Disch:1&amp;ei=vUSjS6_OEYqQjAepseXvC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laghouse.com/images/orangeGrove4.jpg&amp;imgrefurl=http://www.flaghouse.com/orangeGrove.asp&amp;h=300&amp;w=400&amp;sz=16&amp;hl=nl&amp;start=8&amp;tbnid=K2J6iOKnAvqwtM:&amp;tbnh=93&amp;tbnw=124&amp;prev=/images%3Fq%3Dsnoezelen%26gbv%3D2%26svnum%3D10%26hl%3Dnl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harmaselecta.nl/psonline/images/gijs/weetniet.gif&amp;imgrefurl=http://www.pharmaselecta.nl/site/index.php%3Foption%3Dcom_content%26task%3Dview%26id%3D277%26Itemid%3D53&amp;h=169&amp;w=99&amp;sz=4&amp;hl=nl&amp;start=5&amp;tbnid=ueNawOZnL3grPM:&amp;tbnh=99&amp;tbnw=58&amp;prev=/images%3Fq%3Dgeheugenverlies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s://www2.kuleuven.be/tiki/show_image.php%3Fid%3D138&amp;imgrefurl=https://www2.kuleuven.be/tiki/tiki-index.php%3Fpage%3Dsequencing&amp;h=300&amp;w=464&amp;sz=53&amp;hl=nl&amp;start=5&amp;tbnid=UrVtv6FmJ4644M:&amp;tbnh=83&amp;tbnw=128&amp;prev=/images%3Fq%3Dmoeilijkheden%2Bmet%2Bdenken%26gbv%3D2%26svnum%3D10%26hl%3Dn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images.google.nl/imgres?imgurl=http://www.ikonrtv.nl/uploadedImgs/1boos.jpg&amp;imgrefurl=http://www.ikonrtv.nl/kerknieuws/nieuws.asp%3FoId%3D4265&amp;h=231&amp;w=246&amp;sz=16&amp;hl=nl&amp;start=6&amp;tbnid=uh_w5MYgSBDFyM:&amp;tbnh=103&amp;tbnw=110&amp;prev=/images%3Fq%3Dboos%26gbv%3D2%26svnum%3D10%26hl%3Dn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FADE-5D6D-4893-8751-F558DF6375C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Zorgvragers met dementie: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DECD-68AC-44C1-B1B4-CDF96BA91F5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verige vormen van dementi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oorzaak van dementie hoeft niet altijd in de hersenen te liggen maar kan ook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stoornis in het afweersyste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door zink of alumini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gebre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ng- en nieraandoeni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Picture 6" descr="art_large_590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149720"/>
            <a:ext cx="1170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F72A-3A80-4374-B9D0-D0195C94CFF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verige vormen van dementi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sakov-synd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oor langdurig alcoholmisbruik en een slechte voedingstoest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hersen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ids dementie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te complicatie bij een klein deel van de niet behandelde HIV patiën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iekte van P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rdt veroorzaakt door een aandoening in het voorste deel van de hersenen, gekenmerkt door ballonvormige zenuw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bij syndroom van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5542-8391-4802-85A9-DB064B440E7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het dementiesyndroom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eerst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voordoen bij een vorm van dement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tweed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soms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kunnen voordo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90B2-D081-4362-9393-4BFC7B7FDA7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mentie:</a:t>
            </a:r>
            <a:br>
              <a:rPr sz="4000"/>
            </a:b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eerste ord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Geheugen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prenting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uwe informatie wordt niet opgesla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ng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herinneringen blijven het langste best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Herken dementie op tijd"/>
          <p:cNvPicPr/>
          <p:nvPr/>
        </p:nvPicPr>
        <p:blipFill>
          <a:blip r:embed="rId1"/>
          <a:stretch/>
        </p:blipFill>
        <p:spPr>
          <a:xfrm>
            <a:off x="6588000" y="4292640"/>
            <a:ext cx="1632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E395-B6D2-4DE8-BA75-EB042679E2B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9900"/>
                </a:solidFill>
                <a:latin typeface="Garamond"/>
              </a:rPr>
              <a:t>Desoriëntatie in: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op welk tijdstip hij zich bevind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waar hij is en raakt de weg kwij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er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amilie en bekenden worden niet meer herk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oms weet men zelfs niet meer wie men zelf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5" descr="Cognitie-g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661000"/>
            <a:ext cx="82080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ubklo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92280"/>
            <a:ext cx="118080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2626-CB28-459F-A009-F35F3A65217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a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taalstoor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pressieve afasie (expressie = uitdrukk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eeft moeite met het uiten van woo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t wat hij wil zeggen maar kan het woord niet v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ceptieve afasie (receptie = ontvang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oort de woorden wel, maar begrijpt de betekenis niet m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leesplankje1"/>
          <p:cNvPicPr/>
          <p:nvPr/>
        </p:nvPicPr>
        <p:blipFill>
          <a:blip r:embed="rId1"/>
          <a:stretch/>
        </p:blipFill>
        <p:spPr>
          <a:xfrm>
            <a:off x="6732720" y="549360"/>
            <a:ext cx="19429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6989-7FF8-4E3A-B91A-6CB9C8A04D9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gno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niet meer herkennen van voorwerp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an de zintuigen mankeert niets, maar in het geheugen wordt niet opgeroepen om welk voorwerp het ga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149720"/>
            <a:ext cx="1446480" cy="146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0B55-FFFE-4486-B869-EF1CD287AF2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prax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 apraxie is een zorgvrager niet in staat een handeling doelbewust uit te voe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kleding07"/>
          <p:cNvPicPr/>
          <p:nvPr/>
        </p:nvPicPr>
        <p:blipFill>
          <a:blip r:embed="rId1"/>
          <a:stretch/>
        </p:blipFill>
        <p:spPr>
          <a:xfrm>
            <a:off x="1763640" y="3429000"/>
            <a:ext cx="1521000" cy="16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wassen15"/>
          <p:cNvPicPr/>
          <p:nvPr/>
        </p:nvPicPr>
        <p:blipFill>
          <a:blip r:embed="rId2"/>
          <a:stretch/>
        </p:blipFill>
        <p:spPr>
          <a:xfrm>
            <a:off x="4788000" y="3357720"/>
            <a:ext cx="255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ijdelijke aanduiding voor dianumm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539B-A2A7-4BD2-B8B1-EC28930F46A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tweede ord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ev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onfabul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zamelzu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chterdo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corumver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em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arne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nk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Motorische) on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oonlijkheids-verander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l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E4EF-3161-497C-A669-B33CCEF3655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ever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rhaling van steeds dezelfde vragen en / of opmerkin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f de zorgvrager vertelt steeds hetzelfde verh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ziekenhuis10"/>
          <p:cNvPicPr/>
          <p:nvPr/>
        </p:nvPicPr>
        <p:blipFill>
          <a:blip r:embed="rId1"/>
          <a:stretch/>
        </p:blipFill>
        <p:spPr>
          <a:xfrm>
            <a:off x="1332000" y="422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ziekenhuis10"/>
          <p:cNvPicPr/>
          <p:nvPr/>
        </p:nvPicPr>
        <p:blipFill>
          <a:blip r:embed="rId2"/>
          <a:stretch/>
        </p:blipFill>
        <p:spPr>
          <a:xfrm>
            <a:off x="3492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ziekenhuis10"/>
          <p:cNvPicPr/>
          <p:nvPr/>
        </p:nvPicPr>
        <p:blipFill>
          <a:blip r:embed="rId3"/>
          <a:stretch/>
        </p:blipFill>
        <p:spPr>
          <a:xfrm>
            <a:off x="5724360" y="422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BB87-B64D-4A1D-B645-056FB137D28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3" descr="plaquesentangl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C4C6-5E68-48E7-98D2-787F5431AAA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nfabul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kan zich een bepaald verhaal niet herinneren of is tijdens het vertellen de draad kwijtger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lege plekken in zijn geheugen vult hij op met fantasieë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doet dit volledig ter goeder trou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2FD5-261A-4D43-A649-071F6025AF9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zamelzuch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zamelen van allerlei voorwerpen en bewaart deze op een voor hem veilige 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wil nog ergens controle over heb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5" descr="index"/>
          <p:cNvPicPr/>
          <p:nvPr/>
        </p:nvPicPr>
        <p:blipFill>
          <a:blip r:embed="rId1"/>
          <a:stretch/>
        </p:blipFill>
        <p:spPr>
          <a:xfrm>
            <a:off x="4284720" y="4437000"/>
            <a:ext cx="12891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4971-A9E0-4526-9367-F66E3DF9F72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hterdocht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met dementie is erg achterdochtig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FF0D-AFA0-42A3-BD1D-403157730D5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corumverl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raakt zijn waarden en normen kwijt en zijn gevoel over wat wel en niet kan betreffende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mgangsvorm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kabouters37"/>
          <p:cNvPicPr/>
          <p:nvPr/>
        </p:nvPicPr>
        <p:blipFill>
          <a:blip r:embed="rId1"/>
          <a:stretch/>
        </p:blipFill>
        <p:spPr>
          <a:xfrm>
            <a:off x="5508720" y="4005360"/>
            <a:ext cx="1568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4978-4229-46C0-8206-25D9F941574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emmin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path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orgvrager is soezerig en heeft geen aandacht voor hetgeen om hem heen gebeu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press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or lichamelijke of psychische oorza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ufor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genovergestelde van een depres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5" descr="96_206_depress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4221000"/>
            <a:ext cx="809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865A-5FAD-4EC9-BF44-2FDE8E4C7AF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arnemings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nemingsstoornissen zijn stoornissen van de zintui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ui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e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rrigeren van de waarnemingsstoornis heeft geen zin, omdat de zorgvrager dit als werkelijkheid waarneem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E24F-F272-4C48-8200-9E73BC7E8A9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nk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nkstoornissen kunnen zich uiten in de vorm v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aghei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uld is een schone za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coherent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inhoud van het denken is niet meer logi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AF37-3FBC-4BE9-9B45-57C601C51F9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dra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otorische on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slapen55"/>
          <p:cNvPicPr/>
          <p:nvPr/>
        </p:nvPicPr>
        <p:blipFill>
          <a:blip r:embed="rId1"/>
          <a:stretch/>
        </p:blipFill>
        <p:spPr>
          <a:xfrm>
            <a:off x="4788000" y="4724280"/>
            <a:ext cx="1171440" cy="13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ruzie10"/>
          <p:cNvPicPr/>
          <p:nvPr/>
        </p:nvPicPr>
        <p:blipFill>
          <a:blip r:embed="rId2"/>
          <a:stretch/>
        </p:blipFill>
        <p:spPr>
          <a:xfrm>
            <a:off x="5867280" y="2349360"/>
            <a:ext cx="133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BE30-E98A-42A4-8AE8-80F54CBDC39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oonlijkheidsverandering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persoonlijkheidsverandering houdt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verandering van karaktereigensc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erping van karaktereigenschapp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mask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4076640"/>
            <a:ext cx="13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98A0-B260-455D-BFB9-D095702D057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lier (of delirium)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organisch psychiatrisch synd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ordt gekenmerkt door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inder helder bewustzijn van de omgeving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entratieproblem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gnitieve functie stoornissen (zoals geheugen-, ori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Arial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tatie- en taalstoornisse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oord waak- slaapritm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delier-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5300640"/>
            <a:ext cx="714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65BE-7145-437A-BBFA-52DCA527ACD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t is dementie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is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geen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normaal ouderdomsverschijn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ndroom dat zich kenmerkt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lende cognitieve functie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oenemende aftakeling van psychische func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189000"/>
            <a:ext cx="1944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87E4-1F94-4549-AB55-CE960C1B188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orzaken del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dicijngebru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ekten in de hersenen (infectie, tum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tabole stoorniss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 B 12 tek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A054-54B8-4E83-996F-F52ED7784E8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1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een lichte verwar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2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verwardheid in tijd en lichte geheugen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3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opvallende geheugenstoornissen, zowel bij de inprenting als bij het 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1A4B-0AF4-47FD-91AA-8B4E8DF626D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4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desoriëntatie en het afnemen van het gevoelsleven, decorumverlies en persoonlijkheidsverander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5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dat de zorgvrager volledig onbereikbaar i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5" name="Picture 8" descr="dementi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686480"/>
            <a:ext cx="1655640" cy="10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66CA-A915-4876-968A-5920A3EC5AB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Kenmerken 'lichte dementie'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als/dan vraag wordt moeilijker te beantwo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ypothetisch denken neemt af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el ziekte-besef. Geen ziekte-inzich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gocentris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en begrip meer voor formele rege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nige vorm van ontremd gedra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A63A-585B-4F85-878A-191638B7B89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e jong dementerende zorgvrager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ussen 4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en 5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levensja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orzak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kte van Alzhe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ziekte van Pi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chorea van Hunting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reutsfeldt-Jaco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aidsdementia-comple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hronisch alcoholmisbru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CCF6-BD66-4435-9F04-AE0D6A30078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lgemene omgangsadviez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mente mensen onthouden vaak w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z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it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rzorgende moet rekening houden m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een onderwerp per z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ngzaam en duidelijk pr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dubbele ontkenn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s duidelijk bij het bel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a conflicten zo veel mogelijk uit de w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act bij corrigeren van de oud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eer schrikken te voor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de zintuigen die goed wer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4523-9888-4D90-885F-2588648968B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aliteits Oriëntatie Benad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rme zorg, snoez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miniscen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evingsgerichte z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naderingswijz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2387-2B9A-47FB-887E-091835C1E85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stelling van ROB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gemeen doel: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Realiteits Oriëntatie Benadering heeft tot doel een verdere achteruitgang in het contact met en de aanpassing aan de omgeving van de dementerende oudere te voorko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2A26-0AC8-4723-9D3C-4FA0E4C9627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ervolg doelstelling van ROB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splitst in 3 specifiekere doel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zo lang mogelijk in stand houden en eventueel verbeteren van lichamelijke, psychische en sociale functies die gestoord zij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bewoners een zodanig leefklimaat bieden dat deze zich vertrouwd voelen met hun omgeving en de mensen om hen h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personeel, familie en bekenden ertoe brengen een zodanige relatie met de bewo­ner op te bouwen dat deze gestimuleerd en geactiveerd wordt tot handelingen en bezigheden waartoe hij nog in staat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CC73-B0C0-4ADB-801F-BA19E66E795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ROB in groepsverban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kleine groep bewoners in een speciale ruimte, waarmee activiteiten gedaan worden, die gericht zijn op de realite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.v. kranten lezen, weerbericht doornemen, elkaars namen noemen, enz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attitude van de verzorgende tijdens de ROB is erg belangrij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loof in stimulerende werking van R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duidigheid in benadering van de bew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en geen betuttelende ho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maken van iedere gelegenheid om het contact met de werkelijkheid te laten hervin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D412-CEE0-4C87-820F-34681F62B42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gnitieve functie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Cognitieve functiestoornissen zijn problemen m.b.t. het waarnemen, taal, geheugen en denk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Dementie">
            <a:hlinkClick r:id="rId1"/>
          </p:cNvPr>
          <p:cNvPicPr/>
          <p:nvPr/>
        </p:nvPicPr>
        <p:blipFill>
          <a:blip r:embed="rId2"/>
          <a:srcRect l="0" t="21668" r="0" b="25839"/>
          <a:stretch/>
        </p:blipFill>
        <p:spPr>
          <a:xfrm>
            <a:off x="6804000" y="4797360"/>
            <a:ext cx="1646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4F96-A4EE-4F42-A84E-2E1503480F8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999900"/>
                </a:solidFill>
                <a:uFillTx/>
                <a:latin typeface="Garamond"/>
              </a:rPr>
              <a:t>Wat is Validationtherapie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 is een benaderingswijze van de pg bewoner, die zich richt op het bevestigen van eigen gevoelens, van de eigen beleving van het verle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is een benaderingswijze die de bewoner accepteert daar waar hij is, in zijn realiteit en tij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03EB-736B-49F1-808D-B29708724D9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oelstellingen validationtherapi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voel van eigen waarde herstellen/terugwin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anning vermind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chtvaardigen van de manier van l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nverwerkte conflicten oplossen uit het verle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ch gelukkiger kunnen voel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0D8A-22E2-4B70-BC57-F4896923E63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Warme zorg, Snoezele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wereld van dementie schept voortdurend een beleving van dreiging, onveiligheid en ang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vastgelopen geheugen ontneemt de demente zijn vroegere zekerheden. De demente is een vreemdeling geworden in een voor hem vreemde omge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j zoekt oriëntatiepunten. Hij hoopt bescherming, warmte en veiligheid te krijgen. Hij heeft behoefte aan de veiligheid van de eigen ou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451E-7DB0-4DC6-AA6C-A625F93B39F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vol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e zorg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"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"Respons Provoting Approach"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men de beleving van de demente bewoner als uitgangsp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doel is een milieu/omgeving te scheppen die tegemo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omt aan de belangrijkste emotionele behoefte van de demente verwarde bewoner: veil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BD46-2B69-4FDE-86BD-A7E8401F46B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noezel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 een therapievorm die aansluit bij warme zor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 is het primair activeren van diep gestoorden (dementen) door middel van zintuiglijke waarnemingen en ervar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licht, geluid, tast, reuk en sma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p dementen zijn vaak niet te bereiken met ROB of Validationtherapi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geheugen en het denken werkt niet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us een stapje teru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primaire activer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er is het niet belangrijk om b.v. A.D.L. in stand te houden, maar om contact te maken met de bewo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933A-0DAC-4CEC-AF8B-02C98FA98E4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tivitei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oppen/knuffelbee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leine huisd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uimtelijke aanpassing: licht, geluid, k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noeien/werken met zachte kneedbare materia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xtiel/ba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orangeGrov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snoezelen2_300"/>
          <p:cNvPicPr/>
          <p:nvPr/>
        </p:nvPicPr>
        <p:blipFill>
          <a:blip r:embed="rId3"/>
          <a:stretch/>
        </p:blipFill>
        <p:spPr>
          <a:xfrm>
            <a:off x="644364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1"/>
          <p:cNvPicPr/>
          <p:nvPr/>
        </p:nvPicPr>
        <p:blipFill>
          <a:blip r:embed="rId4"/>
          <a:stretch/>
        </p:blipFill>
        <p:spPr>
          <a:xfrm>
            <a:off x="3851280" y="4653000"/>
            <a:ext cx="1238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518A-5826-4DD5-978A-0D6DD8982AF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eerstand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inderachtig gedoe: bewoner moet toch als volwassene benaderd w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angrijk is dat je de bewoner accepteert op zijn niveau en ingaat op zijn behoeft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heid is vaak een tab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amilie (en personeel) vinden het vaak een schokkende erv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sneoz2"/>
          <p:cNvPicPr/>
          <p:nvPr/>
        </p:nvPicPr>
        <p:blipFill>
          <a:blip r:embed="rId1"/>
          <a:stretch/>
        </p:blipFill>
        <p:spPr>
          <a:xfrm>
            <a:off x="5867280" y="5229360"/>
            <a:ext cx="1181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FA39-FF8F-4042-A334-495440744A0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Reminisc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ij deze benaderingswijze staan de positieve ervaringen centra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nneer je met een bewoner over zijn herinneringen uit het verleden praat, krijg je als verzorgende ook meer inzicht in zijn levenslo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miniscentie is niet alleen het ophalen of opkomen van herinneringen, maar ook erbij stilstaan (reflecti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is dus een terugdenken aan en nadenken over levensgebeurtenissen die men ervaart als behorend tot het lev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A93C-705A-440F-8D3D-2E6D5467687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levingsgerichte zorg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belevingsgerichte benadering is een benadering waarbij je rekening houdt met de belevingswereld van de zorgvr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rie oorzaken voor verschillen in belevingswere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schillende vormen van dementie die elk op een eigen manier tot uiting 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rakter voordat de verschijnselen van dementie er w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lke dementerende oudere heeft zijn eigen levensgeschiede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5DA1-E94B-4384-BC02-FE414A7067B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FARIA CLOW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7" name="Afbeelding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465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takeling psychische funct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toenemende aftakeling van psychische functies veranderen ingrijpend het gedrag en het karakter van mens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F6E0-D7ED-45ED-B5F2-5B436435935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mentie is een verzamelnaam voor een aantal aandoeningen met gemeenschappelijke sympt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CD8B-2270-4678-AA82-1AF855D1C32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053C-4C8A-4B33-BC13-BEF12E0CE09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Gemeenschappelijke symptomen van dementie (verzamelnaam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heugenver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lies van ori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ënt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Moeilijkheden met den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Verandering v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weetni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557360"/>
            <a:ext cx="55224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ow_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133720"/>
            <a:ext cx="1218960" cy="7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game-pic3"/>
          <p:cNvPicPr/>
          <p:nvPr/>
        </p:nvPicPr>
        <p:blipFill>
          <a:blip r:embed="rId5"/>
          <a:stretch/>
        </p:blipFill>
        <p:spPr>
          <a:xfrm>
            <a:off x="6227640" y="3141720"/>
            <a:ext cx="716040" cy="1111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3" descr="1boo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4437000"/>
            <a:ext cx="1047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798B-5A6A-491C-B78D-D70927CF4CC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0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eniele dementie van het Alzheimer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moedelijk worden de hersencellen verdrongen door aan elkaar geklitte zenuw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orzaak is eiwitstap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gressief verlo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ymptom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lies van interesse in de omge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soriëntatie in tijd en pla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eenvoudigd taalgebru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oonlijkheidsverandering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emmingsstoornissen en denkstoorni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Doorsnede: hersenen bij Alzheimer zijn gekrompen; spraak en geheugen zijn gestoord"/>
          <p:cNvPicPr/>
          <p:nvPr/>
        </p:nvPicPr>
        <p:blipFill>
          <a:blip r:embed="rId1"/>
          <a:stretch/>
        </p:blipFill>
        <p:spPr>
          <a:xfrm>
            <a:off x="6095880" y="2708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AACB-BA85-42E0-88F7-F9520A4B7F2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sculaire dement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adiging van de hersenen door problemen met de bloedvaten, b.v. een C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een trapsgewijs dalend ver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mptomen zijn afhankelijk van de plaats van de beschadigin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heugenstoorniss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fa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lemen met de coördin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3" name="Picture 6" descr="MRI"/>
          <p:cNvPicPr/>
          <p:nvPr/>
        </p:nvPicPr>
        <p:blipFill>
          <a:blip r:embed="rId1"/>
          <a:stretch/>
        </p:blipFill>
        <p:spPr>
          <a:xfrm>
            <a:off x="6948360" y="4365720"/>
            <a:ext cx="94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47:05Z</dcterms:created>
  <dc:creator>Joke Kuyk</dc:creator>
  <dc:description/>
  <dc:language>en-US</dc:language>
  <cp:lastModifiedBy>Koen van Spaandonk</cp:lastModifiedBy>
  <dcterms:modified xsi:type="dcterms:W3CDTF">2012-03-28T11:10:18Z</dcterms:modified>
  <cp:revision>27</cp:revision>
  <dc:subject/>
  <dc:title>Psychogeriatrische zorgvragers:</dc:title>
</cp:coreProperties>
</file>