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1.jpeg" ContentType="image/jpeg"/>
  <Override PartName="/ppt/media/image18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0.gif" ContentType="image/gif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9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F7DC-CDD3-49E7-8F3E-5013920C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6AA6-0165-41E1-B36A-7BED4E7F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DD3-5A57-4971-B44A-D8F0E462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66E9-FF80-42DC-BB66-F129F2EA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B9BF-F79A-4B96-841F-C5EC94BF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9340C-9733-44BE-9854-A28A0845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65F6-52AF-447B-8C69-42F690B5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A327-8A52-4AC1-BAA2-8077A3C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6E5C-09FF-44D6-A580-0B0BBD73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5AE5-7D33-4BBD-9B90-C8E4D549F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86CF-92B5-4752-8E9A-81CB99E9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333E-C5D1-447B-8774-2A553713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5BF1-5814-484C-8A2B-A41B140E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37B9C-C7FA-4AF2-A49C-4D1360E3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1AD7-1BAF-41E5-84D1-C0C98E2A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1089-5C80-4ED5-88B3-58805D75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7121-BDFB-4751-973D-FD31F3F0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467-0188-45BE-B466-EF4927D4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C02-8202-43EC-8F77-3CF9185A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151-4579-4C3C-ABFE-8C1EDC11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189-7197-4991-BBDD-7A1366D6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7B5-0D02-413A-9873-5F40A4B8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9711-E640-4AE8-A8DF-2412D970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02AA-D5D3-40CE-93F9-DE07FEE6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9B0D-5872-4485-AA19-BD49142DEFB7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BD87-3C63-44EE-893C-3CD6A186A14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940D9-607F-42EA-A536-84A504D47844}" type="datetime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18EA-5A9D-4D94-A7E2-D80E800BF3C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ln.be/static/FOTO/pe/14/2/5/art_large_590990.jpg&amp;imgrefurl=http://www.hln.be/hln/nl/33/Fit-Gezond/article/detail/557942/2008/12/17/Sarcasme-helpt-dementie-ontdekken.dhtml&amp;usg=__In8SkNytTqq_9LQlMCfFeXHyYBQ=&amp;h=332&amp;w=249&amp;sz=8&amp;hl=nl&amp;start=24&amp;sig2=I3-CAEXOfWsyBT0_MFfwUw&amp;um=1&amp;itbs=1&amp;tbnid=UVwXn6jRZtCJwM:&amp;tbnh=119&amp;tbnw=89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wo.nl/images.nsf/pages/NWOP_5XCECS/%24file/Cognitie-groot.jpg&amp;imgrefurl=http://aarts3.web-log.nl/aarts3/2007/10/psychiatrie_geh.html&amp;h=350&amp;w=335&amp;sz=6&amp;hl=nl&amp;start=1&amp;tbnid=0E_kjXWvTCMMTM:&amp;tbnh=120&amp;tbnw=115&amp;prev=/images%3Fq%3Ddesori%25C3%25ABntatie%2Bin%2Bpersoon%26gbv%3D2%26svnum%3D10%26hl%3Dnl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klarenbeekklokken.nl/pubklok1.JPG&amp;imgrefurl=http://www.klarenbeekklokken.nl/pubklokkenklarenbeek.htm&amp;h=400&amp;w=400&amp;sz=23&amp;hl=nl&amp;start=50&amp;tbnid=ZoDRF8DPsiLEeM:&amp;tbnh=124&amp;tbnw=124&amp;prev=/images%3Fq%3Dwandklok%26start%3D40%26gbv%3D2%26ndsp%3D20%26svnum%3D10%26hl%3Dnl%26sa%3DN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obeindhoven.nl/www/Informatiecentrum/Dossiers/images/dementie.jpg&amp;imgrefurl=http://aarts3.web-log.nl/aarts3/2007/10/psychiatrie_geh.html&amp;h=229&amp;w=227&amp;sz=26&amp;hl=nl&amp;start=16&amp;tbnid=-nT3RE_8PPd_OM:&amp;tbnh=108&amp;tbnw=107&amp;prev=/images%3Fq%3Dgeheugenstoornis%26gbv%3D2%26svnum%3D10%26hl%3Dn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achbloesemadvies.be/cms/cms/grafisch/tekst/96_206_depressie.jpg&amp;imgrefurl=http://www.bachbloesemadvies.be/home.asp%3Fp_id%3D599%26p_naam%3DBachbloesems%26tsectie%3D1%26offset%3D0&amp;h=423&amp;w=284&amp;sz=145&amp;hl=nl&amp;start=8&amp;tbnid=KzXGxhVEf8qGfM:&amp;tbnh=126&amp;tbnw=85&amp;prev=/images%3Fq%3Ddepressie%26gbv%3D2%26svnum%3D10%26hl%3Dnl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rometheusfleets.com/spotlight/images/overige/maskers.PNG&amp;imgrefurl=http://www.prometheusfleets.com/spotlight/theater_geschiedenis.html&amp;h=171&amp;w=160&amp;sz=21&amp;hl=nl&amp;start=1&amp;tbnid=Xv1giZUaQQTraM:&amp;tbnh=100&amp;tbnw=94&amp;prev=/images%3Fq%3Dlach%2Ben%2Been%2Btraan%26gbv%3D2%26svnum%3D10%26hl%3Dnl%26sa%3DX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beamsolid.com/psychiatrie/delier/pic/delier-pa.gif&amp;imgrefurl=http://www.beamsolid.com/psychiatrie/delier/delier-pa.shtml&amp;h=160&amp;w=123&amp;sz=8&amp;hl=nl&amp;start=3&amp;tbnid=bAXa3RWNyntoLM:&amp;tbnh=98&amp;tbnw=75&amp;prev=/images%3Fq%3Ddelier%26gbv%3D2%26svnum%3D10%26hl%3Dn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reewebs.com/doktersassistent/dementie.jpg&amp;imgrefurl=http://www.freewebs.com/doktersassistent/dementie.htm&amp;usg=__wZRm2ekb4OftAhVLwDVUjFHTWSw=&amp;h=259&amp;w=397&amp;sz=6&amp;hl=nl&amp;start=2&amp;sig2=gOwTKy9Z8GtoUYD4ddjTgA&amp;um=1&amp;itbs=1&amp;tbnid=E-dpR8fkfLjA_M:&amp;tbnh=81&amp;tbnw=124&amp;prev=/images%3Fq%3Ddementie%26um%3D1%26hl%3Dnl%26sa%3DN%26tbs%3Disch:1&amp;ei=vUSjS6_OEYqQjAepseXvCQ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astoralekroes.nl/Dementie/afbeeldingen/Dementie_II_-_Ouderdomsdementie/dementie2.jpg&amp;imgrefurl=http://www.pastoralekroes.nl/Dementie/DementieII-Ouderdomsdemen.html&amp;usg=__RQfQ5NP04QjhIyt6ug_SMfgvP-o=&amp;h=156&amp;w=240&amp;sz=17&amp;hl=nl&amp;start=23&amp;sig2=VOp3ZLePM42dHTZHfbH-Hw&amp;um=1&amp;itbs=1&amp;tbnid=q6rOQPIX_5JpbM:&amp;tbnh=72&amp;tbnw=110&amp;prev=/images%3Fq%3Ddementie%26start%3D21%26um%3D1%26hl%3Dnl%26sa%3DN%26ndsp%3D21%26tbs%3Disch:1&amp;ei=qUWjS_SRMMKRjAer4rX7Dg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egelderseroos.nl/bestanden/pagina/Dementie.jpg&amp;imgrefurl=http://www.degelderseroos.nl/site/Actueel/Interactie&amp;usg=__SaL7PfJXmNv2A4KGNp08E7AO2Dk=&amp;h=300&amp;w=212&amp;sz=9&amp;hl=nl&amp;start=6&amp;sig2=3FLHd-ceMI_FmhGk9DxZeg&amp;um=1&amp;itbs=1&amp;tbnid=Sjx0YT2PncufGM:&amp;tbnh=116&amp;tbnw=82&amp;prev=/images%3Fq%3Ddementie%26um%3D1%26hl%3Dnl%26sa%3DN%26tbs%3Disch:1&amp;ei=vUSjS6_OEYqQjAepseXvCQ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flaghouse.com/images/orangeGrove4.jpg&amp;imgrefurl=http://www.flaghouse.com/orangeGrove.asp&amp;h=300&amp;w=400&amp;sz=16&amp;hl=nl&amp;start=8&amp;tbnid=K2J6iOKnAvqwtM:&amp;tbnh=93&amp;tbnw=124&amp;prev=/images%3Fq%3Dsnoezelen%26gbv%3D2%26svnum%3D10%26hl%3Dn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harmaselecta.nl/psonline/images/gijs/weetniet.gif&amp;imgrefurl=http://www.pharmaselecta.nl/site/index.php%3Foption%3Dcom_content%26task%3Dview%26id%3D277%26Itemid%3D53&amp;h=169&amp;w=99&amp;sz=4&amp;hl=nl&amp;start=5&amp;tbnid=ueNawOZnL3grPM:&amp;tbnh=99&amp;tbnw=58&amp;prev=/images%3Fq%3Dgeheugenverlies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s://www2.kuleuven.be/tiki/show_image.php%3Fid%3D138&amp;imgrefurl=https://www2.kuleuven.be/tiki/tiki-index.php%3Fpage%3Dsequencing&amp;h=300&amp;w=464&amp;sz=53&amp;hl=nl&amp;start=5&amp;tbnid=UrVtv6FmJ4644M:&amp;tbnh=83&amp;tbnw=128&amp;prev=/images%3Fq%3Dmoeilijkheden%2Bmet%2Bdenken%26gbv%3D2%26svnum%3D10%26hl%3Dnl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hyperlink" Target="http://images.google.nl/imgres?imgurl=http://www.ikonrtv.nl/uploadedImgs/1boos.jpg&amp;imgrefurl=http://www.ikonrtv.nl/kerknieuws/nieuws.asp%3FoId%3D4265&amp;h=231&amp;w=246&amp;sz=16&amp;hl=nl&amp;start=6&amp;tbnid=uh_w5MYgSBDFyM:&amp;tbnh=103&amp;tbnw=110&amp;prev=/images%3Fq%3Dboos%26gbv%3D2%26svnum%3D10%26hl%3Dnl" TargetMode="External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147C3-1A44-45F2-8F13-2B2227C4514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800" spc="-1" strike="noStrike">
                <a:solidFill>
                  <a:srgbClr val="999900"/>
                </a:solidFill>
                <a:latin typeface="Garamond"/>
              </a:rPr>
              <a:t>Zorgvragers met dementie: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9879-7B34-44EA-8FB3-CE76DE693E9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verige vormen van dementi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oorzaak van dementie hoeft niet altijd in de hersenen te liggen maar kan ook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stoornis in het afweersystee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door zink of aluminium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gebre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ong- en nieraandoeni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8" name="Picture 6" descr="art_large_5909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149720"/>
            <a:ext cx="117000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687E5-D752-425C-A726-5E809985463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verige vormen van dementie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sakov-syndro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oor langdurig alcoholmisbruik en een slechte voedingstoest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giftiging hersen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ids dementiecomple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te complicatie bij een klein deel van de niet behandelde HIV patiënt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iekte van Pic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ordt veroorzaakt door een aandoening in het voorste deel van de hersenen, gekenmerkt door ballonvormige zenuwc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bij syndroom van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64DE-7551-4D11-8F81-0568E5498C6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het dementiesyndroom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eerst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altijd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voordoen bij een vorm van dementi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ymptomen van de tweede orde (symptomen die zich </a:t>
            </a:r>
            <a:r>
              <a:rPr b="0" lang="nl-NL" sz="2800" spc="-1" strike="noStrike">
                <a:solidFill>
                  <a:srgbClr val="999900"/>
                </a:solidFill>
                <a:latin typeface="Verdana"/>
              </a:rPr>
              <a:t>soms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 kunnen voordoe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7783-DBAF-4E9E-A2BF-439E929E116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mentie:</a:t>
            </a:r>
            <a:br>
              <a:rPr sz="4000"/>
            </a:b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eerste ord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Verdana"/>
              </a:rPr>
              <a:t>Geheugen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nprentingstoorniss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uwe informatie wordt niet opgesla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95280" indent="-380880">
              <a:spcBef>
                <a:spcPts val="60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Lang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714680" indent="-343080">
              <a:spcBef>
                <a:spcPts val="4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herinneringen blijven het langste besta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Picture 7" descr="Herken dementie op tijd"/>
          <p:cNvPicPr/>
          <p:nvPr/>
        </p:nvPicPr>
        <p:blipFill>
          <a:blip r:embed="rId1"/>
          <a:stretch/>
        </p:blipFill>
        <p:spPr>
          <a:xfrm>
            <a:off x="6588000" y="4292640"/>
            <a:ext cx="16322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6EBE-16A3-4D77-B6AD-F4879DB3DA3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999900"/>
                </a:solidFill>
                <a:latin typeface="Garamond"/>
              </a:rPr>
              <a:t>Desoriëntatie in: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op welk tijdstip hij zich bevind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la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weet niet waar hij is en raakt de weg kwij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erso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Familie en bekenden worden niet meer herk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oms weet men zelfs niet meer wie men zelf 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5" descr="Cognitie-groo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5661000"/>
            <a:ext cx="820800" cy="855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pubklok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692280"/>
            <a:ext cx="1180800" cy="11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4976-CEEF-422F-B1B2-6EC2D7F1623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a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taalstoorn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pressieve afasie (expressie = uitdrukk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eeft moeite met het uiten van woo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t wat hij wil zeggen maar kan het woord niet vin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ceptieve afasie (receptie = ontvang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dementerende hoort de woorden wel, maar begrijpt de betekenis niet m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Picture 5" descr="leesplankje1"/>
          <p:cNvPicPr/>
          <p:nvPr/>
        </p:nvPicPr>
        <p:blipFill>
          <a:blip r:embed="rId1"/>
          <a:stretch/>
        </p:blipFill>
        <p:spPr>
          <a:xfrm>
            <a:off x="6732720" y="549360"/>
            <a:ext cx="19429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5185-3FEE-4155-A6BB-CA6A6A92F7C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gnos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niet meer herkennen van voorwerp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an de zintuigen mankeert niets, maar in het geheugen wordt niet opgeroepen om welk voorwerp het gaa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4149720"/>
            <a:ext cx="1446480" cy="146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697B-D0F4-4ED2-8E41-2BF2CBEB138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prax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ij apraxie is een zorgvrager niet in staat een handeling doelbewust uit te voe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kleding07"/>
          <p:cNvPicPr/>
          <p:nvPr/>
        </p:nvPicPr>
        <p:blipFill>
          <a:blip r:embed="rId1"/>
          <a:stretch/>
        </p:blipFill>
        <p:spPr>
          <a:xfrm>
            <a:off x="1763640" y="3429000"/>
            <a:ext cx="1521000" cy="1657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wassen15"/>
          <p:cNvPicPr/>
          <p:nvPr/>
        </p:nvPicPr>
        <p:blipFill>
          <a:blip r:embed="rId2"/>
          <a:stretch/>
        </p:blipFill>
        <p:spPr>
          <a:xfrm>
            <a:off x="4788000" y="3357720"/>
            <a:ext cx="25509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voettekst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ijdelijke aanduiding voor dianumm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F83B-46CF-486E-84EC-3A3E8C2732DE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ymptomen van de tweede ord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ev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onfabul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zamelzu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chterdo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corumverl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tem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arnemin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nk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sstoorni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(Motorische) onru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ersoonlijkheids-verander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l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82DE-756D-41F6-9573-31A20F2E55F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ever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rhaling van steeds dezelfde vragen en / of opmerking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f de zorgvrager vertelt steeds hetzelfde verha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4" descr="ziekenhuis10"/>
          <p:cNvPicPr/>
          <p:nvPr/>
        </p:nvPicPr>
        <p:blipFill>
          <a:blip r:embed="rId1"/>
          <a:stretch/>
        </p:blipFill>
        <p:spPr>
          <a:xfrm>
            <a:off x="1332000" y="4221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ziekenhuis10"/>
          <p:cNvPicPr/>
          <p:nvPr/>
        </p:nvPicPr>
        <p:blipFill>
          <a:blip r:embed="rId2"/>
          <a:stretch/>
        </p:blipFill>
        <p:spPr>
          <a:xfrm>
            <a:off x="3492360" y="42210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ziekenhuis10"/>
          <p:cNvPicPr/>
          <p:nvPr/>
        </p:nvPicPr>
        <p:blipFill>
          <a:blip r:embed="rId3"/>
          <a:stretch/>
        </p:blipFill>
        <p:spPr>
          <a:xfrm>
            <a:off x="5724360" y="42210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E92B-83AC-46BC-9F04-D6FA5904AD6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7" name="Picture 3" descr="plaquesentangles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BB28-1217-4331-A439-C30C51F69ED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nfabuler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kan zich een bepaald verhaal niet herinneren of is tijdens het vertellen de draad kwijtgeraak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lege plekken in zijn geheugen vult hij op met fantasieë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doet dit volledig ter goeder trou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EDA4-066C-4170-BC10-A4767E27D13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zamelzuch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verzamelen van allerlei voorwerpen en bewaart deze op een voor hem veilige pla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wil nog ergens controle over hebb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5" descr="index"/>
          <p:cNvPicPr/>
          <p:nvPr/>
        </p:nvPicPr>
        <p:blipFill>
          <a:blip r:embed="rId1"/>
          <a:stretch/>
        </p:blipFill>
        <p:spPr>
          <a:xfrm>
            <a:off x="4284720" y="4437000"/>
            <a:ext cx="1289160" cy="10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5FD9-BFBE-4161-B951-E38322A0F9E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hterdocht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met dementie is erg achterdochtig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A864-86DB-461C-84F4-565612E2ADF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corumverl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zorgvrager raakt zijn waarden en normen kwijt en zijn gevoel over wat wel en niet kan betreffende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mgangsvorm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Picture 4" descr="kabouters37"/>
          <p:cNvPicPr/>
          <p:nvPr/>
        </p:nvPicPr>
        <p:blipFill>
          <a:blip r:embed="rId1"/>
          <a:stretch/>
        </p:blipFill>
        <p:spPr>
          <a:xfrm>
            <a:off x="5508720" y="4005360"/>
            <a:ext cx="156852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FFD3-3DA9-41A9-B292-86403CBEC96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emmin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path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zorgvrager is soezerig en heeft geen aandacht voor hetgeen om hem heen gebeu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press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oor lichamelijke of psychische oorzaa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ufor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egenovergestelde van een depress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5" descr="96_206_depress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4221000"/>
            <a:ext cx="8096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92172-9993-437E-9760-F49AE6D8F0B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arnemings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arnemingsstoornissen zijn stoornissen van de zintui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ui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o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oe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ev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rrigeren van de waarnemingsstoornis heeft geen zin, omdat de zorgvrager dit als werkelijkheid waarneem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5761-D79C-4489-AE13-367EEAAAB5D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nkstoorniss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nkstoornissen kunnen zich uiten in de vorm va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raaghei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uld is een schone za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coherenti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inhoud van het denken is niet meer logis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8BAB-451C-48D0-B7D6-D688095ADFD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Gedrags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bale en fysieke agress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otorische on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1" name="Picture 4" descr="slapen55"/>
          <p:cNvPicPr/>
          <p:nvPr/>
        </p:nvPicPr>
        <p:blipFill>
          <a:blip r:embed="rId1"/>
          <a:stretch/>
        </p:blipFill>
        <p:spPr>
          <a:xfrm>
            <a:off x="4788000" y="4724280"/>
            <a:ext cx="1171440" cy="13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ruzie10"/>
          <p:cNvPicPr/>
          <p:nvPr/>
        </p:nvPicPr>
        <p:blipFill>
          <a:blip r:embed="rId2"/>
          <a:stretch/>
        </p:blipFill>
        <p:spPr>
          <a:xfrm>
            <a:off x="5867280" y="2349360"/>
            <a:ext cx="1333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7F33A-F759-4B2B-91E4-347D008FB80B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Persoonlijkheidsverandering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persoonlijkheidsverandering houdt i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verandering van karaktereigenschapp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erping van karaktereigenschapp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5" descr="masker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4076640"/>
            <a:ext cx="13431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AD3F-FECF-400A-A57A-4486D452CC50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lier (of delirium)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en organisch psychiatrisch syndro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ordt gekenmerkt door o.a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Minder helder bewustzijn van de omgeving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ncentratieproblemen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ognitieve functie stoornissen (zoals geheugen-, ori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  <a:ea typeface="Arial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tatie- en taalstoornissen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oord waak- slaapritm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delier-p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5300640"/>
            <a:ext cx="714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7A42-7D0C-4482-8EDB-1725BE3FE7D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at is dementie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mentie is </a:t>
            </a:r>
            <a:r>
              <a:rPr b="1" lang="nl-NL" sz="2400" spc="-1" strike="noStrike" u="sng">
                <a:solidFill>
                  <a:srgbClr val="000000"/>
                </a:solidFill>
                <a:uFillTx/>
                <a:latin typeface="Verdana"/>
              </a:rPr>
              <a:t>geen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normaal ouderdomsverschijn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ndroom dat zich kenmerkt do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lende cognitieve functie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oenemende aftakeling van psychische func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5" descr="dement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189000"/>
            <a:ext cx="194472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B958-A407-42FD-B58E-B14F4FF5DFD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Oorzaken delie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dicijngebrui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ekten in de hersenen (infectie, tumo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Metabole stoorniss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i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everinsufficiën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itamine B 12 tek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E089-28E0-4F12-9476-4BB23F21E89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1: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een lichte verwarr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2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verwardheid in tijd en lichte geheugenstoorni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3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opvallende geheugenstoornissen, zowel bij de inprenting als bij het korte termijn geheu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AC65-4C24-41A7-BFAB-BBE5D6F421F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4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 desoriëntatie en het afnemen van het gevoelsleven, decorumverlies en persoonlijkheidsveranderi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tadium 5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ordt gekenmerkt doordat de zorgvrager volledig onbereikbaar i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tadia 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5" name="Picture 8" descr="dementie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4686480"/>
            <a:ext cx="1655640" cy="10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4B77-7EB2-42AA-A65F-B03DF4A8B16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Kenmerken 'lichte dementie':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als/dan vraag wordt moeilijker te beantwo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ypothetisch denken neemt af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Wel ziekte-besef. Geen ziekte-inzicht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gocentrism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en begrip meer voor formele regel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Enige vorm van ontremd gedra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AF93-6365-4F77-B80A-A1AEAD3B0B1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e jong dementerende zorgvrager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Tussen 4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en 5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Verdana"/>
              </a:rPr>
              <a:t>ste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levensja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Oorzak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iekte van Alzheime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ziekte van Pick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chorea van Huntingto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reutsfeldt-Jacob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aidsdementia-comple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Chronisch alcoholmisbrui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EEA5-778B-45DA-9B34-BE4824CB0279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lgemene omgangsadviez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mente mensen onthouden vaak w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zich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it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rzorgende moet rekening houden me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sp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een onderwerp per z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Langzaam en duidelijk pr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dubbele ontkenni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ees duidelijk bij het belo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a conflicten zo veel mogelijk uit de we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act bij corrigeren van de oude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eer schrikken te voor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de zintuigen die goed werk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E6A7-C00A-4146-A3FB-C3384AE2D01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aliteits Oriëntatie Benad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arme zorg, snoeze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miniscen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evingsgerichte z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naderingswijz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F56-FE69-4DBF-8CF3-518AAB0D245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oelstelling van ROB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Algemeen doel: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Realiteits Oriëntatie Benadering heeft tot doel een verdere achteruitgang in het contact met en de aanpassing aan de omgeving van de dementerende oudere te voorko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EA02-25F5-43E5-932F-A9A067DD560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ervolg doelstelling van ROB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pgesplitst in 3 specifiekere doel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zo lang mogelijk in stand houden en eventueel verbeteren van lichamelijke, psychische en sociale functies die gestoord zij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bewoners een zodanig leefklimaat bieden dat deze zich vertrouwd voelen met hun omgeving en de mensen om hen he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personeel, familie en bekenden ertoe brengen een zodanige relatie met de bewo­ner op te bouwen dat deze gestimuleerd en geactiveerd wordt tot handelingen en bezigheden waartoe hij nog in staat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903A-B3D0-41CB-9A9C-55A09C7C74E6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ROB in groepsverband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 kleine groep bewoners in een speciale ruimte, waarmee activiteiten gedaan worden, die gericht zijn op de realitei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B.v. kranten lezen, weerbericht doornemen, elkaars namen noemen, enz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attitude van de verzorgende tijdens de ROB is erg belangrijk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loof in stimulerende werking van R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enduidigheid in benadering van de bewo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ndersteunende en geen betuttelende hou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maken van iedere gelegenheid om het contact met de werkelijkheid te laten hervind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C000-6A32-4FA9-A330-75F9676EC24D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Cognitieve functiestoorniss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Cognitieve functiestoornissen zijn problemen m.b.t. het waarnemen, taal, geheugen en denk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5" descr="Dementie">
            <a:hlinkClick r:id="rId1"/>
          </p:cNvPr>
          <p:cNvPicPr/>
          <p:nvPr/>
        </p:nvPicPr>
        <p:blipFill>
          <a:blip r:embed="rId2"/>
          <a:srcRect l="0" t="21668" r="0" b="25839"/>
          <a:stretch/>
        </p:blipFill>
        <p:spPr>
          <a:xfrm>
            <a:off x="6804000" y="4797360"/>
            <a:ext cx="1646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2C3A-60F4-481C-90C1-D8D105DDF2D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999900"/>
                </a:solidFill>
                <a:uFillTx/>
                <a:latin typeface="Garamond"/>
              </a:rPr>
              <a:t>Wat is Validationtherapie</a:t>
            </a: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lidationtherapie is een benaderingswijze van de pg bewoner, die zich richt op het bevestigen van eigen gevoelens, van de eigen beleving van het verled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is een benaderingswijze die de bewoner accepteert daar waar hij is, in zijn realiteit en tij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4761-F861-4A06-9C95-76C8AE253212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Doelstellingen validationtherapie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voel van eigen waarde herstellen/terugwinn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panning vermind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echtvaardigen van de manier van lev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Onverwerkte conflicten oplossen uit het verle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Zich gelukkiger kunnen voel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7D3FE-7EEC-4150-A56E-5E7766C4778A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Warme zorg, Snoezele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e wereld van dementie schept voortdurend een beleving van dreiging, onveiligheid en angs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vastgelopen geheugen ontneemt de demente zijn vroegere zekerheden. De demente is een vreemdeling geworden in een voor hem vreemde omgev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j zoekt oriëntatiepunten. Hij hoopt bescherming, warmte en veiligheid te krijgen. Hij heeft behoefte aan de veiligheid van de eigen oud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5A8A-4377-4F74-968E-6737A0BE63C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ervolg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rme zorg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"   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"Respons Provoting Approach" 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men de beleving van de demente bewoner als uitgangspu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Het doel is een milieu/omgeving te scheppen die tegemoe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omt aan de belangrijkste emotionele behoefte van de demente verwarde bewoner: veil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C257-0721-487C-9A1D-037330407D7C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Snoezelen: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s een therapievorm die aansluit bij warme zor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noezelen is het primair activeren van diep gestoorden (dementen) door middel van zintuiglijke waarnemingen en ervaring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(licht, geluid, tast, reuk en smaak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iep dementen zijn vaak niet te bereiken met ROB of Validationtherapi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geheugen en het denken werkt niet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us een stapje terug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primaire activering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ier is het niet belangrijk om b.v. A.D.L. in stand te houden, maar om contact te maken met de bewon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8B46-E266-4056-B3EC-73F5566291D5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ctiviteiten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oppen/knuffelbee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leine huisdier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Ruimtelijke aanpassing: licht, geluid, kl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noeien/werken met zachte kneedbare materia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xtiel/ball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ur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5" descr="orangeGrove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4437000"/>
            <a:ext cx="1181160" cy="8859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snoezelen2_300"/>
          <p:cNvPicPr/>
          <p:nvPr/>
        </p:nvPicPr>
        <p:blipFill>
          <a:blip r:embed="rId3"/>
          <a:stretch/>
        </p:blipFill>
        <p:spPr>
          <a:xfrm>
            <a:off x="6443640" y="1052640"/>
            <a:ext cx="1104840" cy="11048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9" descr="31"/>
          <p:cNvPicPr/>
          <p:nvPr/>
        </p:nvPicPr>
        <p:blipFill>
          <a:blip r:embed="rId4"/>
          <a:stretch/>
        </p:blipFill>
        <p:spPr>
          <a:xfrm>
            <a:off x="3851280" y="4653000"/>
            <a:ext cx="1238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97EF-E426-4E9B-B4E0-9A9D1EBE2781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Weerstande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inderachtig gedoe: bewoner moet toch als volwassene benaderd worde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langrijk is dat je de bewoner accepteert op zijn niveau en ingaat op zijn behoeft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Lichamelijkheid is vaak een tabo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Familie (en personeel) vinden het vaak een schokkende ervar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sneoz2"/>
          <p:cNvPicPr/>
          <p:nvPr/>
        </p:nvPicPr>
        <p:blipFill>
          <a:blip r:embed="rId1"/>
          <a:stretch/>
        </p:blipFill>
        <p:spPr>
          <a:xfrm>
            <a:off x="5867280" y="5229360"/>
            <a:ext cx="11811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4B78-CF52-47C4-9B69-4361C36CB7BF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Reminisc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ij deze benaderingswijze staan de positieve ervaringen centra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Wanneer je met een bewoner over zijn herinneringen uit het verleden praat, krijg je als verzorgende ook meer inzicht in zijn levensloop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Reminiscentie is niet alleen het ophalen of opkomen van herinneringen, maar ook erbij stilstaan (reflecti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is dus een terugdenken aan en nadenken over levensgebeurtenissen die men ervaart als behorend tot het leve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CF27-FB68-4064-9446-91DED1045F38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Belevingsgerichte zorg: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en belevingsgerichte benadering is een benadering waarbij je rekening houdt met de belevingswereld van de zorgvrage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Drie oorzaken voor verschillen in belevingswere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schillende vormen van dementie die elk op een eigen manier tot uiting kom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rakter voordat de verschijnselen van dementie er wa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Elke dementerende oudere heeft zijn eigen levensgeschieden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3107-BCC6-4CE7-85D8-3BD135B4C68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FARIA CLOW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317" name="Afbeelding 3" descr=""/>
          <p:cNvPicPr/>
          <p:nvPr/>
        </p:nvPicPr>
        <p:blipFill>
          <a:blip r:embed="rId1"/>
          <a:stretch/>
        </p:blipFill>
        <p:spPr>
          <a:xfrm>
            <a:off x="2340000" y="1557360"/>
            <a:ext cx="42465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Aftakeling psychische functi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 toenemende aftakeling van psychische functies veranderen ingrijpend het gedrag en het karakter van mens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90CB2-AD6C-4EB0-BABD-DC7EAA3B8954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dementi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mentie is een verzamelnaam voor een aantal aandoeningen met gemeenschappelijke symptome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ijdelijke aanduiding voor voettekst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ijdelijke aanduiding voor dianumm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C34F-E836-4A35-9BB9-F074A8502323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BBCC-9BAE-4C3A-B4ED-D58AB17ED52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Gemeenschappelijke symptomen van dementie (verzamelnaam):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eheugenverl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rlies van ori</a:t>
            </a: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ëntat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Moeilijkheden met den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  <a:ea typeface="Arial"/>
              </a:rPr>
              <a:t>Verandering v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weetni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96000" y="1557360"/>
            <a:ext cx="552240" cy="942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show_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2133720"/>
            <a:ext cx="1218960" cy="7905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game-pic3"/>
          <p:cNvPicPr/>
          <p:nvPr/>
        </p:nvPicPr>
        <p:blipFill>
          <a:blip r:embed="rId5"/>
          <a:stretch/>
        </p:blipFill>
        <p:spPr>
          <a:xfrm>
            <a:off x="6227640" y="3141720"/>
            <a:ext cx="716040" cy="1111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3" name="Picture 13" descr="1boo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11640" y="4437000"/>
            <a:ext cx="1047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87E9-E7B2-4B11-9C93-44F5486F251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0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eniele dementie van het Alzheimertyp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moedelijk worden de hersencellen verdrongen door aan elkaar geklitte zenuw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Oorzaak is eiwitstap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gressief verlo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ymptome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lies van interesse in de omgev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soriëntatie in tijd en plaa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Vereenvoudigd taalgebru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soonlijkheidsveranderingen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temmingsstoornissen en denkstoornis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Doorsnede: hersenen bij Alzheimer zijn gekrompen; spraak en geheugen zijn gestoord"/>
          <p:cNvPicPr/>
          <p:nvPr/>
        </p:nvPicPr>
        <p:blipFill>
          <a:blip r:embed="rId1"/>
          <a:stretch/>
        </p:blipFill>
        <p:spPr>
          <a:xfrm>
            <a:off x="6095880" y="270828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Zorgvragers met dementie  Hoofdstuk 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ijdelijke aanduiding voor dianumm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1229-A6BF-4552-BA5A-5BA24E1FB167}" type="slidenum">
              <a:rPr b="0" lang="nl-NL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asculaire dementi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schadiging van de hersenen door problemen met de bloedvaten, b.v. een C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een trapsgewijs dalend verloo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ymptomen zijn afhankelijk van de plaats van de beschadiging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heugenstoorniss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Afas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roblemen met de coördina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999900"/>
                </a:solidFill>
                <a:latin typeface="Garamond"/>
              </a:rPr>
              <a:t>Vormen van dementie</a:t>
            </a:r>
            <a:br>
              <a:rPr sz="4400"/>
            </a:br>
            <a:r>
              <a:rPr b="0" lang="nl-NL" sz="2000" spc="-1" strike="noStrike">
                <a:solidFill>
                  <a:srgbClr val="999900"/>
                </a:solidFill>
                <a:latin typeface="Garamond"/>
              </a:rPr>
              <a:t>Diagnose d.m.v. CT-scan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3" name="Picture 6" descr="MRI"/>
          <p:cNvPicPr/>
          <p:nvPr/>
        </p:nvPicPr>
        <p:blipFill>
          <a:blip r:embed="rId1"/>
          <a:stretch/>
        </p:blipFill>
        <p:spPr>
          <a:xfrm>
            <a:off x="6948360" y="4365720"/>
            <a:ext cx="9432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20:47:05Z</dcterms:created>
  <dc:creator>Joke Kuyk</dc:creator>
  <dc:description/>
  <dc:language>en-US</dc:language>
  <cp:lastModifiedBy>Koen van Spaandonk</cp:lastModifiedBy>
  <dcterms:modified xsi:type="dcterms:W3CDTF">2012-03-28T11:10:18Z</dcterms:modified>
  <cp:revision>27</cp:revision>
  <dc:subject/>
  <dc:title>Psychogeriatrische zorgvragers:</dc:title>
</cp:coreProperties>
</file>