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1EC13-22EA-473D-9CBF-CE73B2CAC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420C3-FB3E-41D0-8700-B8AC18B1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7D334-17B4-42E5-8823-4F2746516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C60CA-F1E4-4C7E-99DE-30CCDC2B2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5B333-C458-4A65-9955-79D121D1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D1637-6058-4D6D-BA4B-5355DDAA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8FBAE-34E8-4C63-8F0F-39ACAA4A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961EF-E2FC-4F16-B4ED-0A693F66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76C16-6918-465E-950C-4F9426F6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7C910-D8D9-4F3C-93D2-1F26B755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874AC-D78C-42A0-9BFF-C9E2EE8F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F93B0-98C4-4A39-BF6F-600671EB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3693-9FD2-4DDE-99C2-02AF807DB2C8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600" spc="-1" strike="noStrike">
                <a:solidFill>
                  <a:srgbClr val="675e47"/>
                </a:solidFill>
                <a:latin typeface="Cambria"/>
              </a:rPr>
              <a:t>	</a:t>
            </a:r>
            <a:r>
              <a:rPr b="0" lang="nl-NL" sz="6600" spc="-1" strike="noStrike">
                <a:solidFill>
                  <a:srgbClr val="675e47"/>
                </a:solidFill>
                <a:latin typeface="Cambria"/>
              </a:rPr>
              <a:t>Ouderen en activiteiten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e8d8c"/>
                </a:solidFill>
                <a:latin typeface="Calibri"/>
              </a:rPr>
              <a:t>De geriatrische zorgvrager</a:t>
            </a:r>
            <a:r>
              <a:rPr b="0" lang="nl-NL" sz="2000" spc="-1" strike="noStrike">
                <a:solidFill>
                  <a:srgbClr val="8e8d8c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120D-3AF4-4FDF-8475-33728D6239E8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CDEE-7B18-4053-886B-A90D428281FD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71" name="Picture 5" descr="koersbal%209"/>
          <p:cNvPicPr/>
          <p:nvPr/>
        </p:nvPicPr>
        <p:blipFill>
          <a:blip r:embed="rId1"/>
          <a:stretch/>
        </p:blipFill>
        <p:spPr>
          <a:xfrm>
            <a:off x="755640" y="549360"/>
            <a:ext cx="7561440" cy="58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6EB91-D556-4ABC-B633-7C0094B14762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73" name="Picture 5" descr="Henk%20Stuurman%20biljarten"/>
          <p:cNvPicPr/>
          <p:nvPr/>
        </p:nvPicPr>
        <p:blipFill>
          <a:blip r:embed="rId1"/>
          <a:stretch/>
        </p:blipFill>
        <p:spPr>
          <a:xfrm>
            <a:off x="1979640" y="260280"/>
            <a:ext cx="5184720" cy="62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333E-8B6B-427F-BA4C-25AF2E02EEB0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75" name="Picture 5" descr="Openhuis"/>
          <p:cNvPicPr/>
          <p:nvPr/>
        </p:nvPicPr>
        <p:blipFill>
          <a:blip r:embed="rId1"/>
          <a:stretch/>
        </p:blipFill>
        <p:spPr>
          <a:xfrm>
            <a:off x="755640" y="476280"/>
            <a:ext cx="7272360" cy="546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3D9F-F026-4A89-9B49-A3797126A608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77" name="Picture 9" descr="yoga-voor-ouderen"/>
          <p:cNvPicPr/>
          <p:nvPr/>
        </p:nvPicPr>
        <p:blipFill>
          <a:blip r:embed="rId1"/>
          <a:stretch/>
        </p:blipFill>
        <p:spPr>
          <a:xfrm>
            <a:off x="539640" y="907920"/>
            <a:ext cx="7632720" cy="482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CE8D3-7FC1-4E2D-AD68-6D5D02FAA3BF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79" name="Picture 5" descr="bloemschikken"/>
          <p:cNvPicPr/>
          <p:nvPr/>
        </p:nvPicPr>
        <p:blipFill>
          <a:blip r:embed="rId1"/>
          <a:stretch/>
        </p:blipFill>
        <p:spPr>
          <a:xfrm>
            <a:off x="971640" y="1052640"/>
            <a:ext cx="7272360" cy="500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Nut van de activiteite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gezondheid in stand houd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et dag- nachtritme  te structurer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tijd door te breng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Plezier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Contact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ntwikkeling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B00D-8ADA-4F90-BBA7-9F9A27515C5A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uderen en groepe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pname in een groep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Wenfase; (kennismaking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Aanpassingsfase; (afstemmen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Kritieke fase;(balan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Acceptatiefase; (plaats “veroverd”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5531-30AD-4BD9-922C-CC4A08891EB4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Groepen begeleiden:</a:t>
            </a:r>
            <a:br>
              <a:rPr sz="3200"/>
            </a:b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uidelijke structuur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Persoonlijke wensen, verwachtingen en eigenschappen van de verschillende groepsleden zijn bekend en worden geaccepteerd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groepsleden zijn tevreden over de mate van inspraak die ze hebben op de dagelijkse gang van zaken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groepsleden kunnen zich vinden in de rollen en invloedsverdeling binnen de groep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8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DF72-0723-438E-8FF7-17A07167B89E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ervolg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r bestaat een open communicatie tussen de groepsled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r is sprake van een bepaald onderling vertrouw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zorgverleners en de zorgvragers zijn goed op elkaar afgestem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1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AF7E-6C99-4038-9E4B-15F526C59FBF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Activiteiten organisere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ap 1: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nalyser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ap 2: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Plann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ap 3: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Realiser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tap 4: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valueren;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4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9168-4E90-46B7-9592-ECDA82B3E4A7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Draaglast en draagkrach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raagkracht en draaglast moeten in evenwicht zijn om goed te kunnen function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ls de draaglast groter is dan de draagkracht kan dit problemen gev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raagkracht neemt af door ontwikkelingen op lichamelijk, psychisch en sociaal gebi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8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345B-1A6A-4B25-A274-C36EF9B81533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Stap 1:</a:t>
            </a: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	</a:t>
            </a: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Analyseren van de beginsituatie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Leeftijd en sekse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gevolgen van een ziektebeeld op deelname aan activiteiten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nog in tact gebleven mogelijkheden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maximale gevraagde inzet bij een bepaalde activiteit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Levensloop, beleving van de belangstelling voor een bepaalde activiteit;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e mogelijkheden om deel te nemen aan een activiteit; 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7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27E9-73EA-48A9-A94C-183086ACBB75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tap 2: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	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Plann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at is het doel van de activiteit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Hoe wordt dit doel door de activiteit behaald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Uit welke activiteiten kunnen we kiezen gezien de beginsituatie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Hoe zullen de deelnemers zich tijdens de activiteit gedragen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ie organiseert de activiteit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ie begeleidt de activiteit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elke materialen en ruimten worden gebruikt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anneer vindt de activiteit plaats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at moet er voor die tijd allemaal gebeuren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2f2b20"/>
                </a:solidFill>
                <a:latin typeface="Calibri"/>
              </a:rPr>
              <a:t>Wanneer moeten de deeltaken klaar zijn (tijdspad)?</a:t>
            </a:r>
            <a:endParaRPr b="0" lang="en-US" sz="21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0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1309-2AB3-4195-AD42-847573F405AF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tap 3: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	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Realiser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lgemene inleiding;(welkom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Inleiding activiteit;(hoe en wat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Uitvoering activiteit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fronding;(ervaringen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3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F4B8-0387-43D1-B985-6FAACAD74EB4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tap 4: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	</a:t>
            </a: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 Evalueren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t ging anders dan verwacht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t had beter gekund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ar liepen de deelnemers tegenaan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s de activiteit geschikt voor de deelnemers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Hoe verliep de begeleiding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t moet de volgende keer anders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Wat vonden de deelnemers van de activiteit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Is het doel behaald?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6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A8A4-9037-48D9-9E60-783CBB6819B9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Het belang van activiteit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nderdeel van de basiszorg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asiszorg die erop gericht is de zorgvrager zo goed mogelijk te laten functioneren met zijn/haar beperking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zorgverlener zal de zorgvrager zo veel mogelijk stimuleren om activiteiten zelf uit te voeren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E134-27D9-42E7-B4F2-FB02207BED63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De menselijke behoeften van Maslow: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Basisbehoeften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Lucht, water, voeding, uitscheiding rust en temperatuur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Behoefte aan veiligheid en zekerheid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Safe en veilig willen voelen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Behoefte aan liefde en geborgenheid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Intimiteit, acceptatie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Behoefte aan achting en respect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Waardering, zelfrespect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Kennisbehoeften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Onderzoeken, willen begrijpen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Esthetische behoeften: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lnSpc>
                <a:spcPct val="80000"/>
              </a:lnSpc>
              <a:spcBef>
                <a:spcPts val="425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2f2b20"/>
                </a:solidFill>
                <a:latin typeface="Calibri"/>
              </a:rPr>
              <a:t>Schoonheid, goedheid, orde;</a:t>
            </a:r>
            <a:endParaRPr b="0" lang="en-US" sz="1700" spc="-1" strike="noStrike">
              <a:solidFill>
                <a:srgbClr val="2f2b2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476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2f2b20"/>
                </a:solidFill>
                <a:latin typeface="Calibri"/>
              </a:rPr>
              <a:t>Zelfverwerkelijking;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419A-9E71-4585-AF13-63304AC72E84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Piramide van Maslow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7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3927-78B4-4214-8158-4D211FE12927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58" name="Picture 4" descr="maslov"/>
          <p:cNvPicPr/>
          <p:nvPr/>
        </p:nvPicPr>
        <p:blipFill>
          <a:blip r:embed="rId1"/>
          <a:stretch/>
        </p:blipFill>
        <p:spPr>
          <a:xfrm>
            <a:off x="971640" y="2421000"/>
            <a:ext cx="5486400" cy="38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asisbehoeften zijn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ten en drink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eks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lap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Persoonlijke hygiëne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Zelfstandigheid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eiligheid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83E2-F2FD-4829-8FD7-19A6E603D012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Activiteiten gericht op de basisbehoeften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DL (de algemene dagelijkse levensverrichtingen)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DL (huishoudelijke dagelijkse levensverrichting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DL (bijzondere dagelijkse levensverrichtingen)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eksuele activiteiten;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Activiteiten die dienen als ontspanning;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4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536B-F839-4974-8C43-1A692C6C1327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675e47"/>
                </a:solidFill>
                <a:latin typeface="Cambria"/>
              </a:rPr>
              <a:t>Activiteiten gericht op behoeften op hoger niveau: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Geluk van mens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1.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Ontplooiing en ontwikkeling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*   Praatgroep;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*   Dansavond;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*   Wandelgroep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2.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Ontspanning: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295280" indent="-380880">
              <a:spcBef>
                <a:spcPts val="451"/>
              </a:spcBef>
              <a:buClr>
                <a:srgbClr val="d2cb6c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7" name="Tijdelijke aanduiding voor dianummer 5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C0D2-FD6A-466F-BD2D-8C62B4352134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ijdelijke aanduiding voor dianummer 3"/>
          <p:cNvSpPr/>
          <p:nvPr/>
        </p:nvSpPr>
        <p:spPr>
          <a:xfrm>
            <a:off x="8531280" y="5648400"/>
            <a:ext cx="549360" cy="396720"/>
          </a:xfrm>
          <a:prstGeom prst="bracketPair">
            <a:avLst>
              <a:gd name="adj" fmla="val 17949"/>
            </a:avLst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FBE9-0B04-4198-82BA-9865AC242912}" type="slidenum">
              <a:rPr b="0" lang="nl-NL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2f2b20"/>
              </a:solidFill>
              <a:latin typeface="Verdana"/>
            </a:endParaRPr>
          </a:p>
        </p:txBody>
      </p:sp>
      <p:pic>
        <p:nvPicPr>
          <p:cNvPr id="69" name="Picture 5" descr="soos55plus_500_3300k-In"/>
          <p:cNvPicPr/>
          <p:nvPr/>
        </p:nvPicPr>
        <p:blipFill>
          <a:blip r:embed="rId1"/>
          <a:stretch/>
        </p:blipFill>
        <p:spPr>
          <a:xfrm>
            <a:off x="755640" y="620640"/>
            <a:ext cx="8064360" cy="5354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9:29:16Z</dcterms:created>
  <dc:creator>Joke Kuyk/ Ank Douma</dc:creator>
  <dc:description/>
  <dc:language>en-US</dc:language>
  <cp:lastModifiedBy>Koen van Spaandonk</cp:lastModifiedBy>
  <dcterms:modified xsi:type="dcterms:W3CDTF">2012-03-28T11:01:10Z</dcterms:modified>
  <cp:revision>20</cp:revision>
  <dc:subject/>
  <dc:title> Ouderen en activiteiten</dc:title>
</cp:coreProperties>
</file>