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867900" cy="6764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643F3-CBFD-4E8C-8B54-8826FA03F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FAEE-B7AC-4D9F-9891-B2E16830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85E6-CFA0-432F-A6D7-93258DDB2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C838F-EA1B-4A3B-AEF8-026292F0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AA1A-FFA1-4CDF-BE84-DAF497C9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E102-0BE7-48A5-8AB2-A6B4A6CF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50FC-64B8-462E-AD74-59AE7323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237C-91DF-4E61-8ACD-011BACDF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9E82-3D61-4C7E-ACB6-7E68047A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A324-76B7-4EA5-AB38-201F4DEA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D3DC-8599-4F1F-AA18-9D7FC3A9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1C6FC-F381-4BED-BF43-9F5255A8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DB1E-C711-4B63-8BA9-9B4C069C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5C36-29EF-4F3B-831D-C74723EA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5CB5-F54B-4F4B-99E6-A6F26B5D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7EF2-F44E-48B8-9147-5270A42A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278A-DC77-479D-96DF-72AB0C139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7E4A2-37DB-41AF-8C13-A97CF18D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C9D03-A8B8-4213-9E54-BA9A2495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1CC15-CF53-4F89-A90C-1C03B5F4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158D-F30C-49E9-A1CC-F6BE430F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1D9D-377D-4755-AE97-BBE114F9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CCC4-4D61-4763-B87F-15110528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D8BA-7459-44D6-8718-40F429C8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793F-5682-440C-855C-536C4B39DADC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893D-8450-4721-9F5C-70746FAF6B8B}" type="slidenum">
              <a:rPr b="0" lang="nl-NL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rug.nl/scholieren/profielwerkstukken/pws/afbeeldingen/geheugen1.jpg&amp;imgrefurl=http://www.rug.nl/scholieren/profielwerkstukken/pws/alleBrainbox/werkgeheugen&amp;h=200&amp;w=200&amp;sz=9&amp;hl=nl&amp;start=9&amp;um=1&amp;tbnid=RgsYSC7ax-G0eM:&amp;tbnh=104&amp;tbnw=104&amp;prev=/images%3Fq%3Dgeheugen%26svnum%3D10%26um%3D1%26hl%3Dnl%26rls%3Dcom.microsoft:nl:IE-SearchBox%26rlz%3D1I7GGL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ooginal.demon.nl/kids/schildpad.jpg&amp;imgrefurl=http://fionamccabe.spaces.live.com/blog/cns!77953C1003B6188E!918.entry&amp;h=957&amp;w=718&amp;sz=124&amp;hl=nl&amp;start=19&amp;um=1&amp;tbnid=81sx-aJe2mG5nM:&amp;tbnh=148&amp;tbnw=111&amp;prev=/images%3Fq%3Dtraag%26svnum%3D10%26um%3D1%26hl%3Dnl%26rls%3Dcom.microsoft:nl:IE-SearchBox%26rlz%3D1I7GGL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esoveruwhypotheek.nl/images/pensioen1a.jpg&amp;imgrefurl=http://www.allesoveruwhypotheek.nl/&amp;h=215&amp;w=194&amp;sz=13&amp;hl=nl&amp;start=47&amp;um=1&amp;tbnid=ROt23p9aD9ahuM:&amp;tbnh=106&amp;tbnw=96&amp;prev=/images%3Fq%3Dpensioen%26start%3D40%26ndsp%3D20%26svnum%3D10%26um%3D1%26hl%3Dnl%26rls%3Dcom.microsoft:nl:IE-SearchBox%26rlz%3D1I7GGLG%26sa%3DN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http://images.google.com/imgres?imgurl=http://www.dbnl.org/tekst/vrie011ever01_01/vrie011ever02ill44.gif&amp;imgrefurl=http://www.dbnl.org/tekst/vrie011ever01_01/vrie011ever01_01_0026.htm&amp;h=373&amp;w=350&amp;sz=75&amp;hl=nl&amp;start=1&amp;um=1&amp;tbnid=PHzitHhtWsD_ZM:&amp;tbnh=122&amp;tbnw=114&amp;prev=/images%3Fq%3Dvader%2Ben%2Bmoeder%26svnum%3D10%26um%3D1%26hl%3Dnl%26rls%3Dcom.microsoft:nl:IE-SearchBox%26rlz%3D1I7GGL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images.google.com/imgres?imgurl=http://www.vrijwilliger.nl/images/vrijwilliger3.gif&amp;imgrefurl=http://www.vrijwilliger.nl/zoeken.php&amp;h=130&amp;w=253&amp;sz=13&amp;hl=nl&amp;start=69&amp;um=1&amp;tbnid=1K7CoyuwfKRCGM:&amp;tbnh=57&amp;tbnw=111&amp;prev=/images%3Fq%3Dvrijwilliger%26start%3D60%26ndsp%3D20%26svnum%3D10%26um%3D1%26hl%3Dnl%26rls%3Dcom.microsoft:nl:IE-SearchBox%26rlz%3D1I7GGLG%26sa%3DN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ezonde-voeding.info/gezonde-voeding.jpg&amp;imgrefurl=http://www.gezonde-voeding.info/disclaimer.html&amp;h=212&amp;w=200&amp;sz=12&amp;hl=nl&amp;start=5&amp;um=1&amp;tbnid=wcVNsRM1yQ1VTM:&amp;tbnh=106&amp;tbnw=100&amp;prev=/images%3Fq%3Dvoeding%26svnum%3D10%26um%3D1%26hl%3Dnl%26rls%3Dcom.microsoft:nl:IE-SearchBox%26rlz%3D1I7GGL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land-in-zicht.com/images/media/foto_los_03.jpg&amp;imgrefurl=http://www.land-in-zicht.com/categorie.php%3Fid%3D8&amp;h=290&amp;w=430&amp;sz=32&amp;hl=nl&amp;start=2&amp;um=1&amp;tbnid=ULm0qPsaQJ5clM:&amp;tbnh=85&amp;tbnw=126&amp;prev=/images%3Fq%3Dkoffie%2Ben%2Bthee%26svnum%3D10%26um%3D1%26hl%3Dnl%26rls%3Dcom.microsoft:nl:IE-SearchBox%26rlz%3D1I7GGL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m/imgres?imgurl=http://www.liguecardiologique.be/images/prevention/tabagisme.gif&amp;imgrefurl=http://www.liguecardiologique.be/nl/01_tabac.cfm&amp;h=237&amp;w=250&amp;sz=27&amp;hl=nl&amp;start=9&amp;um=1&amp;tbnid=z0LeTQxCBMYaiM:&amp;tbnh=105&amp;tbnw=111&amp;prev=/images%3Fq%3Droken%26svnum%3D10%26um%3D1%26hl%3Dnl%26rls%3Dcom.microsoft:nl:IE-SearchBox%26rlz%3D1I7GGLG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com/imgres?imgurl=http://www.mbvo-amsterdam.nl/images/conditietrainen.jpg&amp;imgrefurl=http://www.mbvo-amsterdam.nl/&amp;h=317&amp;w=342&amp;sz=33&amp;hl=nl&amp;start=14&amp;um=1&amp;tbnid=5EdGvobpzTHqIM:&amp;tbnh=111&amp;tbnw=120&amp;prev=/images%3Fq%3Dbewegen%26svnum%3D10%26um%3D1%26hl%3Dnl%26rls%3Dcom.microsoft:nl:IE-SearchBox%26rlz%3D1I7GGLG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images.google.com/imgres?imgurl=http://www.kieckens.nl/boeken/gewoon%2520gelukkig.jpg&amp;imgrefurl=http://www.kieckens.nl/wat%2520is%2520geluk%2520nader%2520bekeken.htm&amp;h=126&amp;w=75&amp;sz=21&amp;hl=nl&amp;start=9&amp;um=1&amp;tbnid=CXCtR0FRJbnD3M:&amp;tbnh=90&amp;tbnw=54&amp;prev=/images%3Fq%3Dpositieve%2Blevenshouding%26svnum%3D10%26um%3D1%26hl%3Dnl%26rls%3Dcom.microsoft:nl:IE-SearchBox%26rlz%3D1I7GGLG" TargetMode="External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uzleuven.be/UZroot/images/diensttemplate/geriatrie.jpg&amp;imgrefurl=http://www.uzleuven.be/UZroot/content/Home/wieiswie/diensten/geriatrie/index.cfm&amp;h=213&amp;w=142&amp;sz=27&amp;hl=nl&amp;start=5&amp;um=1&amp;tbnid=BMN2GGI44Azz7M:&amp;tbnh=106&amp;tbnw=71&amp;prev=/images%3Fq%3Dgeriatrie%26svnum%3D10%26um%3D1%26hl%3Dnl%26rls%3Dcom.microsoft:nl:IE-SearchBox%26rlz%3D1I7GGL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ed-akademie.de/cms/_img_cms/60/Praxis_Ergotherapie_Geriatrie.jpg&amp;imgrefurl=http://www.med-akademie.de/cms/index.php%3Fdoc_id%3D301%26lang%3Dde&amp;h=413&amp;w=300&amp;sz=50&amp;hl=nl&amp;start=2&amp;um=1&amp;tbnid=xNrj83Msb6w4qM:&amp;tbnh=125&amp;tbnw=91&amp;prev=/images%3Fq%3Dgeriatrie%26svnum%3D10%26um%3D1%26hl%3Dnl%26rls%3Dcom.microsoft:nl:IE-SearchBox%26rlz%3D1I7GGL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eydals-degen.nl/nieuwsbrieven/babysit.jpg&amp;imgrefurl=http://www.beydals-degen.nl/nieuwsbrieven/nieuwsbrief.htm&amp;h=103&amp;w=150&amp;sz=41&amp;hl=nl&amp;start=10&amp;um=1&amp;tbnid=xqfeu7HZYk_IiM:&amp;tbnh=66&amp;tbnw=96&amp;prev=/images%3Fq%3Doppasoma%26svnum%3D10%26um%3D1%26hl%3Dnl%26rls%3Dcom.microsoft:nl:IE-SearchBox%26rlz%3D1I7GGL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daandekoreaan.web-log.nl/daandekoreaan/images/oldies.jpg&amp;imgrefurl=http://daandekoreaan.web-log.nl/daandekoreaan/2006/08/index.html&amp;h=337&amp;w=450&amp;sz=36&amp;hl=nl&amp;start=8&amp;um=1&amp;tbnid=kRRosdVcc05ctM:&amp;tbnh=95&amp;tbnw=127&amp;prev=/images%3Fq%3Dbejaarde%26svnum%3D10%26um%3D1%26hl%3Dnl%26rls%3Dcom.microsoft:nl:IE-SearchBox%26rlz%3D1I7GGLG%26sa%3D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cubra.nl/fotografierubriek/reesdiepen/004.jpg&amp;imgrefurl=http://www.cubra.nl/fotografierubriek/reesdiepen.htm&amp;h=328&amp;w=250&amp;sz=41&amp;hl=nl&amp;start=4&amp;um=1&amp;tbnid=Z91O3p0cjOc7-M:&amp;tbnh=138&amp;tbnw=105&amp;prev=/images%3Fq%3Doudje%26svnum%3D10%26um%3D1%26hl%3Dnl%26rls%3Dcom.microsoft:nl:IE-SearchBox%26rlz%3D1I7GGL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kikirpa.be/image/M/7/3/m7342_wal.jpg&amp;imgrefurl=http://www.kikirpa.be/www2/cgi-bin/wwwopac.exe%3FDATABASE%3Dobject%26LANGUAGE%3D2%26OPAC_URL%3D%26%25250%3D100050%26LIMIT%3D50&amp;h=276&amp;w=194&amp;sz=7&amp;hl=nl&amp;start=16&amp;um=1&amp;tbnid=VBArI7B7774j9M:&amp;tbnh=114&amp;tbnw=80&amp;prev=/images%3Fq%3Dbejaarde%26svnum%3D10%26um%3D1%26hl%3Dnl%26rls%3Dcom.microsoft:nl:IE-SearchBox%26rlz%3D1I7GGL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e8d8c"/>
                </a:solidFill>
                <a:latin typeface="Calibri"/>
              </a:rPr>
              <a:t>De geriatrische zorgvrag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Individuele verschill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psychologische ontwikkeling is het resultaat van de interactie tussen mensen en hun omgevi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Leefomstandigheden en ervaring spelen een grote rol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ok de opleiding die je volgt is van belang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verstandelijke ontwikkeling kan worden beïnvloedt door biologische processen                    (trauma, hersenvliesontsteking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Individuele verschillen kunnen ook worden bepaald door dingen die men mee maakt waardoor men in een bepaalde rol wordt gedwongen                           (verlies van een ouder)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Op cognitief gebied ontstaan op een moment verandering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De reactiesnelheid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geheugen verminder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649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sen ervaren dit op verschillende manieren: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Het kan heel bedreigend zij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Men kan ook proberen te genieten zo lang het kan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4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2f2b20"/>
                </a:solidFill>
                <a:latin typeface="Calibri"/>
              </a:rPr>
              <a:t>Niet vergelijken met vroeger helpt ook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2" name="Picture 5" descr="geheugen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51640" y="5157720"/>
            <a:ext cx="99072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13" name="Picture 7" descr="schildpa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451640" y="1989000"/>
            <a:ext cx="10573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Social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n de sociale veroudering verandert de rol die men speelt in het gezin en het wer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s verdwijnt een ro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kind”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ouder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“werk” rol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6" name="Picture 5" descr="pensioen1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67640" y="5157720"/>
            <a:ext cx="1235160" cy="1363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KIND (31k image)"/>
          <p:cNvPicPr/>
          <p:nvPr/>
        </p:nvPicPr>
        <p:blipFill>
          <a:blip r:embed="rId3"/>
          <a:stretch/>
        </p:blipFill>
        <p:spPr>
          <a:xfrm>
            <a:off x="3851280" y="3141720"/>
            <a:ext cx="1378080" cy="1555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vrie011ever02ill44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724360" y="4292640"/>
            <a:ext cx="14655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ciale ouderdomsveranderingen kunnen pijnlijk zijn, maar ook positief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anderde invullen van de rollen brengt tijd en mogelijkheden met zich me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krijgt nieuwe roll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Men moet wel open staan voor de verandering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1" name="Picture 5" descr="Vakanties voor zieken en gehandicapten"/>
          <p:cNvPicPr/>
          <p:nvPr/>
        </p:nvPicPr>
        <p:blipFill>
          <a:blip r:embed="rId1"/>
          <a:stretch/>
        </p:blipFill>
        <p:spPr>
          <a:xfrm>
            <a:off x="7667640" y="4437000"/>
            <a:ext cx="952560" cy="1704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vrijwilliger3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88000" y="5589720"/>
            <a:ext cx="14893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efstijl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wijze waarop men ouder wordt heeft ook te maken met externe factore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25" name="Picture 5" descr="gezonde-voed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213000"/>
            <a:ext cx="952560" cy="100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6" name="Picture 7" descr="foto_los_0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68360" y="4005360"/>
            <a:ext cx="1200240" cy="809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tabagism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95640" y="4869000"/>
            <a:ext cx="1057320" cy="1000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28" name="Picture 13" descr="conditietrain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651640" y="3789360"/>
            <a:ext cx="1143000" cy="1057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5" descr="gewoon%2520gelukki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524720" y="2852640"/>
            <a:ext cx="66996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Positieve en negatieve invloeden:</a:t>
            </a:r>
            <a:br>
              <a:rPr sz="3200"/>
            </a:b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Levensomstandighe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ociaal netwerk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n stand houden en aangaan van (nieuwe) relaties en sociale contac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Eenzaamheid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Inkom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Mensen met een hoog inkomen hebben het vaak net iets makkelijk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len gaan na hun pensioen er fors op achteruit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Maatschappelijke ontwikkelinge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eel ouderen zijn in isolement terecht gekomen doordat zij hun maatschappelijke positie moesten opgev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Tegenwoordig zorgen ouderen er voor een nuttige invulling van hun tijd te hebb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75e47"/>
                </a:solidFill>
                <a:latin typeface="Cambria"/>
              </a:rPr>
              <a:t>Stoornissen in de ontwikkeling bij het ouder worden</a:t>
            </a:r>
            <a:endParaRPr b="0" lang="en-US" sz="32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ouderen accepteren na verloop van tijd de realiteit en leren er mee om te g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Sommige mensen komen in de problemen doordat er zich op meerdere vlakken; biologisch, psychologisch en sociaal stoornissen optred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We spreken nu van de geriatrische zorgvrage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4" name="Picture 5" descr="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956720" y="4941720"/>
            <a:ext cx="101412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sengagement 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ntwikkeld midden 20</a:t>
            </a:r>
            <a:r>
              <a:rPr b="0" lang="nl-NL" sz="20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 eeuw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oudere trekt zich geleidelijk aan terug uit het sociale verkee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Ze laten steeds meer activiteiten lo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Ouder worden is een proces van loslat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37" name="Picture 5" descr="Praxis_Ergotherapie_Geriatri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5013360"/>
            <a:ext cx="866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activiteiten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Is een reactie op de voorgaand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Het loslaten van rollen leidt tot inactiviteit en tot het zich ongelukkig voel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De kern van deze visie is om ouderen zo lang mogelijk actief te houde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2f2b20"/>
                </a:solidFill>
                <a:latin typeface="Calibri"/>
              </a:rPr>
              <a:t>Voor de rollen die men moet loslaten komen andere in de plaat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0" name="Picture 8" descr="babysi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5516640"/>
            <a:ext cx="137160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continuïteitstheorie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Weer een reactie op de voorgaande theorieë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t alle oudere zitten te wachten op nieuwe rollen en activitei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de oudere zo veel mogelijk zijn oude leefpatroon vasthoudt, men dient dit alleen aan te pass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uderen moten zo lang mogelijk door gaan met wat men do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3" name="Picture 6" descr="oudere%2520werknemer"/>
          <p:cNvPicPr/>
          <p:nvPr/>
        </p:nvPicPr>
        <p:blipFill>
          <a:blip r:embed="rId1"/>
          <a:stretch/>
        </p:blipFill>
        <p:spPr>
          <a:xfrm>
            <a:off x="4788000" y="5300640"/>
            <a:ext cx="163044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675e47"/>
                </a:solidFill>
                <a:latin typeface="Cambria"/>
              </a:rPr>
              <a:t>Processen van het ouder worden</a:t>
            </a:r>
            <a:endParaRPr b="0" lang="en-US" sz="4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Iedereen wil lang leven, maar niemand wil oud worden.“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Jonathan Swift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"Leef niet alsof je nog duizenden jaren voor je hebt. Het noodlot zit je op de hielen. Neem het er goed van zolang leven en kracht tot je beschikking staan.“ (</a:t>
            </a:r>
            <a:r>
              <a:rPr b="0" lang="nl-NL" sz="1600" spc="-1" strike="noStrike">
                <a:solidFill>
                  <a:srgbClr val="2f2b20"/>
                </a:solidFill>
                <a:latin typeface="Calibri"/>
              </a:rPr>
              <a:t>Marcus Aurelius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isies op ouder wor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Calibri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differential-aging theori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amenstelling van de voorgaand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 kern van deze theorie is dat ouder worden een individueel proces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sommigen is het goed om activiteiten los te lat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oor anderen is het noodzakelijk om activiteiten te blijven ontplooi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eze visie gaat er van uit dat de oudere zelf wel weet wat goed i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Onafhankelijkheid en autonomie zijn erg belangrij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46" name="Picture 6" descr="halters"/>
          <p:cNvPicPr/>
          <p:nvPr/>
        </p:nvPicPr>
        <p:blipFill>
          <a:blip r:embed="rId1"/>
          <a:stretch/>
        </p:blipFill>
        <p:spPr>
          <a:xfrm>
            <a:off x="7308720" y="1268280"/>
            <a:ext cx="8668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Vraaggericht zorg verlen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e huidige maatschappij leidt er toe bij dat ouderen soms een beetje de weg kwijt rak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Door het grote aanbod aan middelen en mogelijkhedenweet men soms niet wat de echte behoeft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Hierdoor gebeurt het dat de ‘diensten’ soms niet aansluiten op de behoeften van de zorgvrage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Wanneer wij vraaggerichte zorg willen verlenen zullen we eerst de zorgbehoeften moet inventarisere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Uitgangspunt is de autonomie van de zorgvrag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8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ls verzorgende geef je informatie en adv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i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biologische verouderingsproces duurt een heel leven. Oud worden gaat langzaam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verschillen tussen ouderen en jongeren worden niet noodzakelijk veroorzaakt door het verouderingsproces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oorzaken kunnen extern liggen; b.v. het ontstaan van obstipatie door te weinig beweging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675e47"/>
                </a:solidFill>
                <a:latin typeface="Cambria"/>
              </a:rPr>
              <a:t>Endogene ouderdomsveranderingen</a:t>
            </a:r>
            <a:endParaRPr b="0" lang="en-US" sz="38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Genetisch bepaalde veranderingen die vroeg of laat optred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Grijs haa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Dunner en droger worden van de 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Visusklachte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Biologische ouderdomsveranderingen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lengte door inzakken van de wervels en vochtverlies in de tussenwervel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hoeveelheid lichaamsvoch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Afnemen van de spier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Toenemen van de vetmassa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4" name="Picture 5" descr="oldi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77080" y="2565360"/>
            <a:ext cx="1209600" cy="905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0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24720" y="5013360"/>
            <a:ext cx="100008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675e47"/>
                </a:solidFill>
                <a:latin typeface="Cambria"/>
              </a:rPr>
              <a:t>Orgaanspecifieke ouderdomsveranderingen</a:t>
            </a:r>
            <a:endParaRPr b="0" lang="en-US" sz="30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Atrofie (verschrompeling) va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p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Skelet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ui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ersen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Lev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Nier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f2b20"/>
                </a:solidFill>
                <a:latin typeface="Calibri"/>
              </a:rPr>
              <a:t>Hart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f2b20"/>
                </a:solidFill>
                <a:latin typeface="Calibri"/>
              </a:rPr>
              <a:t>Stugger worden van diverse weefsels doordat er meer steunweefselcellen zij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98" name="Picture 5" descr="m7342_w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3141720"/>
            <a:ext cx="1144800" cy="1630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Functionele verouder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Het functioneren van diverse organen gaat achterui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Begint rond het 20</a:t>
            </a:r>
            <a:r>
              <a:rPr b="0" lang="nl-NL" sz="22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 levensjaa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niet direct op door de grote reservecapaciteit van alle organe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Valt pas op latere leeftijd op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Ieder veroudert in een eigen tempo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01" name="Picture 7" descr="viewfile"/>
          <p:cNvPicPr/>
          <p:nvPr/>
        </p:nvPicPr>
        <p:blipFill>
          <a:blip r:embed="rId1"/>
          <a:srcRect l="0" t="12325" r="50883" b="0"/>
          <a:stretch/>
        </p:blipFill>
        <p:spPr>
          <a:xfrm>
            <a:off x="7272360" y="5321160"/>
            <a:ext cx="1871640" cy="153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viewfile"/>
          <p:cNvPicPr/>
          <p:nvPr/>
        </p:nvPicPr>
        <p:blipFill>
          <a:blip r:embed="rId2"/>
          <a:srcRect l="51044" t="12325" r="0" b="0"/>
          <a:stretch/>
        </p:blipFill>
        <p:spPr>
          <a:xfrm>
            <a:off x="6877080" y="2276640"/>
            <a:ext cx="186516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Beleving en welbevinden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oordat een en ander op een natuurlijke wijze verloopt heeft men pas op een latere leeftijd in de gaten dat men bij de ouderen hoo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Uiteindelijke voelt mens zelf ook dat het lichaam ouder word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2f2b20"/>
                </a:solidFill>
                <a:latin typeface="Calibri"/>
              </a:rPr>
              <a:t>De meeste mensen kunnen hier constructief mee om gaan en passen zich aan de veranderingen aa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>
                <a:solidFill>
                  <a:srgbClr val="675e47"/>
                </a:solidFill>
                <a:latin typeface="Cambria"/>
              </a:rPr>
              <a:t>Psychologische ontwikkeling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Qua psychologische en verstandelijke ontwikkelingen zijn we op 35 jarige leeftijd op onze top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Na je 35</a:t>
            </a:r>
            <a:r>
              <a:rPr b="0" lang="nl-NL" sz="2500" spc="-1" strike="noStrike" baseline="30000">
                <a:solidFill>
                  <a:srgbClr val="2f2b20"/>
                </a:solidFill>
                <a:latin typeface="Calibri"/>
              </a:rPr>
              <a:t>e</a:t>
            </a: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 ga je steeds meer een beroep doen op opgebouwde kennis en ervaring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Doordat ouderen eerder opgedane kennis en ervaring combineren met nieuwe ontwikkelingen en inzichten kunnen zij soms betere prestaties leveren dan jongeren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624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2f2b20"/>
                </a:solidFill>
                <a:latin typeface="Calibri"/>
              </a:rPr>
              <a:t>Met het stijgen van de leeftijd treden veranderingen op in de verstandelijke vermogens, de oriëntatie, het taalvermogen en het denkvermogen.</a:t>
            </a:r>
            <a:endParaRPr b="0" lang="en-US" sz="25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ouderen3"/>
          <p:cNvPicPr/>
          <p:nvPr/>
        </p:nvPicPr>
        <p:blipFill>
          <a:blip r:embed="rId1"/>
          <a:stretch/>
        </p:blipFill>
        <p:spPr>
          <a:xfrm>
            <a:off x="1187280" y="1052640"/>
            <a:ext cx="67532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4:33:05Z</dcterms:created>
  <dc:creator>JEM de Neeff - Verspeek</dc:creator>
  <dc:description/>
  <dc:language>en-US</dc:language>
  <cp:lastModifiedBy>Koen van Spaandonk</cp:lastModifiedBy>
  <dcterms:modified xsi:type="dcterms:W3CDTF">2012-03-28T10:47:41Z</dcterms:modified>
  <cp:revision>13</cp:revision>
  <dc:subject/>
  <dc:title>Verpleegkunde 309</dc:title>
</cp:coreProperties>
</file>