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677FA-C494-457F-8AD6-70AEACFC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3C19-FADD-49C1-898B-051CE41E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9E31D-FF02-4C8A-B6A5-8884042A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B33B7-B47B-408D-890E-3A596E4F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9D0D6-EC64-4992-80E7-07A7D49A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C65C3-7055-44C9-A3AE-5AF78FF4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DF1D2-3F3C-4BF8-80F1-37557980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00519-6F37-494B-9FD9-20D82BE7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AA9FB-5484-4DFB-AEE7-DE5A05B4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94A74-6ECA-4157-8D8F-30FCC928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79571-709E-44A0-B863-4CC1AFAE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F7CBD-63A3-4356-A220-E915512A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8F0B-E560-45CF-A0D1-B9696DC6D2BA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Ouderen en activiteiten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De geriatrische zorgvrager</a:t>
            </a: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51E1-5654-4AC9-9C70-E577A4D79E65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B2BA-7A24-4065-B7DD-89F35B51B1D1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1" name="Picture 5" descr="koersbal%209"/>
          <p:cNvPicPr/>
          <p:nvPr/>
        </p:nvPicPr>
        <p:blipFill>
          <a:blip r:embed="rId1"/>
          <a:stretch/>
        </p:blipFill>
        <p:spPr>
          <a:xfrm>
            <a:off x="755640" y="549360"/>
            <a:ext cx="7561440" cy="58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7C00-866E-4837-8877-2387298144D7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3" name="Picture 5" descr="Henk%20Stuurman%20biljarten"/>
          <p:cNvPicPr/>
          <p:nvPr/>
        </p:nvPicPr>
        <p:blipFill>
          <a:blip r:embed="rId1"/>
          <a:stretch/>
        </p:blipFill>
        <p:spPr>
          <a:xfrm>
            <a:off x="1979640" y="260280"/>
            <a:ext cx="518472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98B4-CA15-42A9-BAF8-2E6D6174F78D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5" name="Picture 5" descr="Openhuis"/>
          <p:cNvPicPr/>
          <p:nvPr/>
        </p:nvPicPr>
        <p:blipFill>
          <a:blip r:embed="rId1"/>
          <a:stretch/>
        </p:blipFill>
        <p:spPr>
          <a:xfrm>
            <a:off x="755640" y="476280"/>
            <a:ext cx="7272360" cy="54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E8A6-6F56-464C-92B6-18ECEEC7F6C9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7" name="Picture 9" descr="yoga-voor-ouderen"/>
          <p:cNvPicPr/>
          <p:nvPr/>
        </p:nvPicPr>
        <p:blipFill>
          <a:blip r:embed="rId1"/>
          <a:stretch/>
        </p:blipFill>
        <p:spPr>
          <a:xfrm>
            <a:off x="539640" y="907920"/>
            <a:ext cx="7632720" cy="48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F403-FB08-4537-848A-4AD7C2762A6A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9" name="Picture 5" descr="bloemschikken"/>
          <p:cNvPicPr/>
          <p:nvPr/>
        </p:nvPicPr>
        <p:blipFill>
          <a:blip r:embed="rId1"/>
          <a:stretch/>
        </p:blipFill>
        <p:spPr>
          <a:xfrm>
            <a:off x="971640" y="1052640"/>
            <a:ext cx="7272360" cy="50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Nut van de activiteit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gezondheid in stand houd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dag- nachtritme  te structurer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tijd door te breng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lezier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Contact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twikkeling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46F7-4D3D-4BAD-A897-6E5C92F69AAA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uderen en groep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pname in een groep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Wenfase; (kennismaking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anpassingsfase; (afstemmen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ritieke fase;(balan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cceptatiefase; (plaats “veroverd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5EA4-0D9B-43BC-9E69-232B42AE1C05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Groepen begeleiden:</a:t>
            </a:r>
            <a:br>
              <a:rPr sz="3200"/>
            </a:b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uidelijke structuur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Persoonlijke wensen, verwachtingen en eigenschappen van de verschillende groepsleden zijn bekend en worden geaccepteerd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groepsleden zijn tevreden over de mate van inspraak die ze hebben op de dagelijkse gang van zaken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groepsleden kunnen zich vinden in de rollen en invloedsverdeling binnen de groep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C100-A97F-4C7C-9FB1-CE35C807D648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ervolg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r bestaat een open communicatie tussen de groepsled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r is sprake van een bepaald onderling vertrouw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zorgverleners en de zorgvragers zijn goed op elkaar afgestem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1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D11D-A9A2-4DE8-992F-EAA5437BADAD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Activiteiten organiser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1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nalyser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2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lann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3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Realiser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4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valueren;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4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4069-37C0-45D4-B3BB-ADBC650CBC9A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raaglast en draagkrach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raagkracht en draaglast moeten in evenwicht zijn om goed te kunnen function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ls de draaglast groter is dan de draagkracht kan dit problemen gev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raagkracht neemt af door ontwikkelingen op lichamelijk, psychisch en sociaal gebi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BB11-AA0B-42DE-A777-B9E3286859FB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Stap 1:</a:t>
            </a: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Analyseren van de beginsituatie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Leeftijd en sekse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gevolgen van een ziektebeeld op deelname aan activiteiten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nog in tact gebleven mogelijkheden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maximale gevraagde inzet bij een bepaalde activiteit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Levensloop, beleving van de belangstelling voor een bepaalde activiteit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mogelijkheden om deel te nemen aan een activiteit; 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7E5A-4DE4-42A4-B45E-C56CE1AE7255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tap 2: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lann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t is het doel van de activitei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Hoe wordt dit doel door de activiteit behaald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Uit welke activiteiten kunnen we kiezen gezien de beginsituatie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Hoe zullen de deelnemers zich tijdens de activiteit gedragen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ie organiseert de activitei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ie begeleidt de activitei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elke materialen en ruimten worden gebruik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nneer vindt de activiteit plaats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t moet er voor die tijd allemaal gebeuren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nneer moeten de deeltaken klaar zijn (tijdspad)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0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CAFA-6B54-4426-8CD2-FEA37FB2168A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tap 3: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Realiser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lgemene inleiding;(welkom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nleiding activiteit;(hoe en wat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Uitvoering activiteit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fronding;(ervaringen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52B4-FAA0-47C3-94E2-42329A44933B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tap 4: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 Evalueren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ging anders dan verwacht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had beter gekund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ar liepen de deelnemers tegenaan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s de activiteit geschikt voor de deelnemers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Hoe verliep de begeleiding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moet de volgende keer anders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vonden de deelnemers van de activiteit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Is het doel behaald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C4BA-EE1D-41B4-8DF0-9FE56D80D663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Het belang van activitei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derdeel van de basiszorg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asiszorg die erop gericht is de zorgvrager zo goed mogelijk te laten functioneren met zijn/haar beperking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zorgverlener zal de zorgvrager zo veel mogelijk stimuleren om activiteiten zelf uit te voere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4B57-EEC8-4F47-817E-22A67A0A1B2C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De menselijke behoeften van Maslow: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asisbehoeften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Lucht, water, voeding, uitscheiding rust en temperatuur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ehoefte aan veiligheid en zekerheid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Safe en veilig willen voelen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ehoefte aan liefde en geborgenheid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Intimiteit, acceptatie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ehoefte aan achting en respect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Waardering, zelfrespect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Kennisbehoeften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Onderzoeken, willen begrijpen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Esthetische behoeften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Schoonheid, goedheid, orde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Zelfverwerkelijking;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9B60-1F98-45E2-B6E2-AFFC6E3E2F16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iramide van Maslow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72E0-1E84-4123-89DB-9F5C4E3339AF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58" name="Picture 4" descr="maslov"/>
          <p:cNvPicPr/>
          <p:nvPr/>
        </p:nvPicPr>
        <p:blipFill>
          <a:blip r:embed="rId1"/>
          <a:stretch/>
        </p:blipFill>
        <p:spPr>
          <a:xfrm>
            <a:off x="971640" y="2421000"/>
            <a:ext cx="548640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asisbehoeften zij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ten en drink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eks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lap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ersoonlijke hygiëne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Zelfstandigheid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iligheid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F7E2-9C0F-4C93-B899-28CAC7618D5C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Activiteiten gericht op de basisbehoeften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DL (de algemene dagelijkse levensverrichtingen)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DL (huishoudelijke dagelijkse levensverrichting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DL (bijzondere dagelijkse levensverrichtingen)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eksuele activiteit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ctiviteiten die dienen als ontspanning;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00CD-E683-44D1-8646-A4F664FD0403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Activiteiten gericht op behoeften op hoger niveau: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luk van mens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1.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ntplooiing en ontwikkeling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*   Praatgroep;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*   Dansavond;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*   Wandelgroep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2.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ntspanning: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295280" indent="-380880">
              <a:spcBef>
                <a:spcPts val="451"/>
              </a:spcBef>
              <a:buClr>
                <a:srgbClr val="d2cb6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711D-6F73-42C7-BA44-547D29EF1CE4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477A-9681-40D2-9E1C-3B73421E2857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69" name="Picture 5" descr="soos55plus_500_3300k-In"/>
          <p:cNvPicPr/>
          <p:nvPr/>
        </p:nvPicPr>
        <p:blipFill>
          <a:blip r:embed="rId1"/>
          <a:stretch/>
        </p:blipFill>
        <p:spPr>
          <a:xfrm>
            <a:off x="755640" y="620640"/>
            <a:ext cx="8064360" cy="535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9:29:16Z</dcterms:created>
  <dc:creator>Joke Kuyk/ Ank Douma</dc:creator>
  <dc:description/>
  <dc:language>en-US</dc:language>
  <cp:lastModifiedBy>Koen van Spaandonk</cp:lastModifiedBy>
  <dcterms:modified xsi:type="dcterms:W3CDTF">2012-03-28T11:01:10Z</dcterms:modified>
  <cp:revision>20</cp:revision>
  <dc:subject/>
  <dc:title> Ouderen en activiteiten</dc:title>
</cp:coreProperties>
</file>