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7BAFC-BD0E-4032-8C24-0FF60A9F6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D8631-88E5-4C28-BE8A-67477687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0AEEF-6609-4689-948D-F48990E04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68C57-0F22-45AC-9B80-33E787CA6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D1569-36FB-4298-9B98-BB83E842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6922E-81FE-4942-9763-7FAFB775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31166-E844-4173-982B-6D818BB9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F1897-F892-475D-B4CE-0C5256D6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AB17F-E8EC-430A-9C96-0547D58E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905C9-3885-4085-A852-D5888FC7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B3566-69C2-4E4D-9CB4-06AA6910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32745-06C8-4FB9-90FE-CFDD7312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60D6-A9DF-4E5B-BF6D-BB0B4E1CB9EC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600" spc="-1" strike="noStrike">
                <a:solidFill>
                  <a:srgbClr val="675e47"/>
                </a:solidFill>
                <a:latin typeface="Cambria"/>
              </a:rPr>
              <a:t>	</a:t>
            </a:r>
            <a:r>
              <a:rPr b="0" lang="nl-NL" sz="6600" spc="-1" strike="noStrike">
                <a:solidFill>
                  <a:srgbClr val="675e47"/>
                </a:solidFill>
                <a:latin typeface="Cambria"/>
              </a:rPr>
              <a:t>Ouderen en activiteiten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e8d8c"/>
                </a:solidFill>
                <a:latin typeface="Calibri"/>
              </a:rPr>
              <a:t>De geriatrische zorgvrager</a:t>
            </a:r>
            <a:r>
              <a:rPr b="0" lang="nl-NL" sz="2000" spc="-1" strike="noStrike">
                <a:solidFill>
                  <a:srgbClr val="8e8d8c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527B-5763-45E9-BB04-E44504829258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AE49-CC23-471D-8D6F-0369588D2412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71" name="Picture 5" descr="koersbal%209"/>
          <p:cNvPicPr/>
          <p:nvPr/>
        </p:nvPicPr>
        <p:blipFill>
          <a:blip r:embed="rId1"/>
          <a:stretch/>
        </p:blipFill>
        <p:spPr>
          <a:xfrm>
            <a:off x="755640" y="549360"/>
            <a:ext cx="7561440" cy="58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A0C6-E9B4-49D9-877A-004DDC629CAF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73" name="Picture 5" descr="Henk%20Stuurman%20biljarten"/>
          <p:cNvPicPr/>
          <p:nvPr/>
        </p:nvPicPr>
        <p:blipFill>
          <a:blip r:embed="rId1"/>
          <a:stretch/>
        </p:blipFill>
        <p:spPr>
          <a:xfrm>
            <a:off x="1979640" y="260280"/>
            <a:ext cx="518472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1F60-D2A8-45C7-83DE-A13DE4CF17F1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75" name="Picture 5" descr="Openhuis"/>
          <p:cNvPicPr/>
          <p:nvPr/>
        </p:nvPicPr>
        <p:blipFill>
          <a:blip r:embed="rId1"/>
          <a:stretch/>
        </p:blipFill>
        <p:spPr>
          <a:xfrm>
            <a:off x="755640" y="476280"/>
            <a:ext cx="7272360" cy="54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0688-A247-4003-8E42-733FD49783A8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77" name="Picture 9" descr="yoga-voor-ouderen"/>
          <p:cNvPicPr/>
          <p:nvPr/>
        </p:nvPicPr>
        <p:blipFill>
          <a:blip r:embed="rId1"/>
          <a:stretch/>
        </p:blipFill>
        <p:spPr>
          <a:xfrm>
            <a:off x="539640" y="907920"/>
            <a:ext cx="7632720" cy="48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5A23-EF0D-43D9-8845-62D7A93D04AE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79" name="Picture 5" descr="bloemschikken"/>
          <p:cNvPicPr/>
          <p:nvPr/>
        </p:nvPicPr>
        <p:blipFill>
          <a:blip r:embed="rId1"/>
          <a:stretch/>
        </p:blipFill>
        <p:spPr>
          <a:xfrm>
            <a:off x="971640" y="1052640"/>
            <a:ext cx="7272360" cy="500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Nut van de activiteite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gezondheid in stand houd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et dag- nachtritme  te structurer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tijd door te breng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Plezier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Contact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ntwikkeling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7F9B-91BB-40B7-8B53-FEA1B99ED85B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uderen en groepe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pname in een groep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Wenfase; (kennismaking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Aanpassingsfase; (afstemmen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Kritieke fase;(balan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Acceptatiefase; (plaats “veroverd”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40ED-BE8A-4FAD-B809-4155D77E9D98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Groepen begeleiden:</a:t>
            </a:r>
            <a:br>
              <a:rPr sz="3200"/>
            </a:b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uidelijke structuur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Persoonlijke wensen, verwachtingen en eigenschappen van de verschillende groepsleden zijn bekend en worden geaccepteerd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groepsleden zijn tevreden over de mate van inspraak die ze hebben op de dagelijkse gang van zaken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groepsleden kunnen zich vinden in de rollen en invloedsverdeling binnen de groep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8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254A-B66A-446A-99C4-897BE98E8609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ervolg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r bestaat een open communicatie tussen de groepsled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r is sprake van een bepaald onderling vertrouw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zorgverleners en de zorgvragers zijn goed op elkaar afgestem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1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9B40-A8E8-46F2-A9F9-AC96B720DE78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Activiteiten organisere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ap 1: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nalyser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ap 2: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Plann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ap 3: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Realiser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ap 4: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valueren;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4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02ED-2579-495D-9790-4342C5193455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Draaglast en draagkrach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raagkracht en draaglast moeten in evenwicht zijn om goed te kunnen function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ls de draaglast groter is dan de draagkracht kan dit problemen gev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raagkracht neemt af door ontwikkelingen op lichamelijk, psychisch en sociaal gebi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8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BE0F-D508-4990-9CFB-29E3263B13E5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Stap 1:</a:t>
            </a: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	</a:t>
            </a: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Analyseren van de beginsituatie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Leeftijd en sekse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gevolgen van een ziektebeeld op deelname aan activiteiten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nog in tact gebleven mogelijkheden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maximale gevraagde inzet bij een bepaalde activiteit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Levensloop, beleving van de belangstelling voor een bepaalde activiteit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mogelijkheden om deel te nemen aan een activiteit; 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7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892C-3227-4E34-BD5C-C38FB71C6086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tap 2: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	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Plann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at is het doel van de activiteit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Hoe wordt dit doel door de activiteit behaald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Uit welke activiteiten kunnen we kiezen gezien de beginsituatie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Hoe zullen de deelnemers zich tijdens de activiteit gedragen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ie organiseert de activiteit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ie begeleidt de activiteit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elke materialen en ruimten worden gebruikt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anneer vindt de activiteit plaats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at moet er voor die tijd allemaal gebeuren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anneer moeten de deeltaken klaar zijn (tijdspad)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0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9467-3512-41AA-B131-11E1681C0A00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tap 3: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	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Realiser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lgemene inleiding;(welkom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Inleiding activiteit;(hoe en wat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Uitvoering activiteit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fronding;(ervaringen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3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A85F-65ED-4518-A732-0A6982922996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tap 4: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	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 Evalueren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t ging anders dan verwacht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t had beter gekund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ar liepen de deelnemers tegenaan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s de activiteit geschikt voor de deelnemers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Hoe verliep de begeleiding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t moet de volgende keer anders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t vonden de deelnemers van de activiteit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Is het doel behaald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6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E984-F9C8-413A-9270-5C2694CC9974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Het belang van activiteit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nderdeel van de basiszorg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asiszorg die erop gericht is de zorgvrager zo goed mogelijk te laten functioneren met zijn/haar beperking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zorgverlener zal de zorgvrager zo veel mogelijk stimuleren om activiteiten zelf uit te voere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4736-9BFA-46BE-8FA6-00397677779B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De menselijke behoeften van Maslow: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Basisbehoeften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Lucht, water, voeding, uitscheiding rust en temperatuur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Behoefte aan veiligheid en zekerheid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Safe en veilig willen voelen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Behoefte aan liefde en geborgenheid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Intimiteit, acceptatie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Behoefte aan achting en respect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Waardering, zelfrespect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Kennisbehoeften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Onderzoeken, willen begrijpen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Esthetische behoeften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Schoonheid, goedheid, orde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Zelfverwerkelijking;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B991-8982-44C4-A02D-5D5403AE9766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Piramide van Maslow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7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97D4-97AF-471A-BE7B-7C7E1C0A7603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58" name="Picture 4" descr="maslov"/>
          <p:cNvPicPr/>
          <p:nvPr/>
        </p:nvPicPr>
        <p:blipFill>
          <a:blip r:embed="rId1"/>
          <a:stretch/>
        </p:blipFill>
        <p:spPr>
          <a:xfrm>
            <a:off x="971640" y="2421000"/>
            <a:ext cx="5486400" cy="38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asisbehoeften zij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ten en drink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eks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lap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Persoonlijke hygiëne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Zelfstandigheid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eiligheid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7278-A5BB-400A-821A-A85F3FA97E93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Activiteiten gericht op de basisbehoeften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DL (de algemene dagelijkse levensverrichtingen)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DL (huishoudelijke dagelijkse levensverrichting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DL (bijzondere dagelijkse levensverrichtingen)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eksuele activiteit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ctiviteiten die dienen als ontspanning;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4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A632-B98B-4391-BA87-C36364A45A11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Activiteiten gericht op behoeften op hoger niveau: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luk van mens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1.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Ontplooiing en ontwikkeling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*   Praatgroep;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*   Dansavond;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*   Wandelgroep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2.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Ontspanning: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295280" indent="-380880">
              <a:spcBef>
                <a:spcPts val="451"/>
              </a:spcBef>
              <a:buClr>
                <a:srgbClr val="d2cb6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7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CD3D-11C7-4A34-9D42-899C043A3082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62CB-C75E-4D8D-ACF4-C1E539E46DA9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69" name="Picture 5" descr="soos55plus_500_3300k-In"/>
          <p:cNvPicPr/>
          <p:nvPr/>
        </p:nvPicPr>
        <p:blipFill>
          <a:blip r:embed="rId1"/>
          <a:stretch/>
        </p:blipFill>
        <p:spPr>
          <a:xfrm>
            <a:off x="755640" y="620640"/>
            <a:ext cx="8064360" cy="5354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9:29:16Z</dcterms:created>
  <dc:creator>Joke Kuyk/ Ank Douma</dc:creator>
  <dc:description/>
  <dc:language>en-US</dc:language>
  <cp:lastModifiedBy>Koen van Spaandonk</cp:lastModifiedBy>
  <dcterms:modified xsi:type="dcterms:W3CDTF">2012-03-28T11:01:10Z</dcterms:modified>
  <cp:revision>20</cp:revision>
  <dc:subject/>
  <dc:title> Ouderen en activiteiten</dc:title>
</cp:coreProperties>
</file>