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755C-FB83-47A6-9E70-C064DEF0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7321-1D05-4A87-B01B-826383D8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F1F3-F6A5-4614-8489-46793978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A9CC-9BEF-4C71-8E81-4BDE2643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06FC-0828-44BE-98E0-718F3953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223F-291B-42ED-A717-B1DE74AE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83A2-EA1D-4B5A-8B41-0FA4523E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8070-57A2-4FF7-9FCE-48B25C26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987E-2750-445A-96F0-F4E459A4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2989-7964-4C72-BBE0-1A0E0511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E4D6-CC8A-4AA3-A064-4F46DCD7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9900-2335-4906-840A-B5E7488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4868-B0BF-40F1-A074-D3986044A031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leuven.be/ftp/thuiszorg%2520senioren.jpg&amp;imgrefurl=http://www.leuven.be/rss.asp%3FiPageID%3D980&amp;h=324&amp;w=283&amp;sz=20&amp;hl=nl&amp;start=1&amp;tbnid=ON6Vo_RqUPoK7M:&amp;tbnh=118&amp;tbnw=103&amp;prev=/images%3Fq%3Dthuiszorg%26gbv%3D2%26svnum%3D10%26hl%3Dn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tagira.nl/files/Image/Thuiszorg_6296.jpg&amp;imgrefurl=http://www.stagira.nl/37_actueel.html&amp;h=242&amp;w=200&amp;sz=93&amp;hl=nl&amp;start=13&amp;tbnid=uwCM2ICAEG-kNM:&amp;tbnh=110&amp;tbnw=91&amp;prev=/images%3Fq%3Dthuiszorg%26gbv%3D2%26svnum%3D10%26hl%3Dn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alorama.nl/img/blobs/75/10461663600.767218983340175C__1_STUDIO_VAN_DALEN_PROJECTEN_KALORAMA_fotorama_foto_klein_000002.jpg&amp;imgrefurl=http://www.kalorama.nl/index.asp%3FshowMenu%3D4&amp;h=150&amp;w=300&amp;sz=16&amp;hl=nl&amp;start=8&amp;tbnid=-WdvKS-S_HlGpM:&amp;tbnh=58&amp;tbnw=116&amp;prev=/images%3Fq%3Dzorgverlening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oster.nl/kpp/images/stel2.jpg&amp;imgrefurl=http://www.koster.nl/kpp/9812-01.htm&amp;h=131&amp;w=200&amp;sz=10&amp;hl=nl&amp;start=9&amp;tbnid=XFNFFeV4douJtM:&amp;tbnh=68&amp;tbnw=104&amp;prev=/images%3Fq%3Ddubbele%2Bvergrijzing%26gbv%3D2%26svnum%3D10%26hl%3Dn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ederweert.nl/FilesPage/1001368/tdj-logo.jpg&amp;imgrefurl=http://www.nederweert.nl/1001368.asp&amp;h=120&amp;w=120&amp;sz=13&amp;hl=nl&amp;start=2&amp;tbnid=Rv0SfIQdblS9yM:&amp;tbnh=88&amp;tbnw=88&amp;prev=/images%3Fq%3Dtafeltje%2Bdek%2Bje%26gbv%3D2%26svnum%3D10%26hl%3Dn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nl/imgres?imgurl=http://www.e-spots.nl/images/3452.jpg&amp;imgrefurl=http://076.e-spots.nl/%3Fid%3D3452&amp;h=340&amp;w=313&amp;sz=12&amp;hl=nl&amp;start=19&amp;tbnid=2mNj6Cv6abT4xM:&amp;tbnh=119&amp;tbnw=110&amp;prev=/images%3Fq%3Dgeld%26gbv%3D2%26svnum%3D10%26hl%3Dn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eendam.nl/md/39/ouderen%2520gym.jpg&amp;imgrefurl=http://www.veendam.nl/nl/pagina/1808/Bewegen_voor%2520ouderen.html%3FPHPSESSID%3Dc7e703adf308c8ad00789875b1f540d8&amp;h=241&amp;w=359&amp;sz=63&amp;hl=nl&amp;start=7&amp;tbnid=_-jweEG7lATZLM:&amp;tbnh=94&amp;tbnw=140&amp;prev=/images%3Fq%3Douderen%26gbv%3D2%26svnum%3D10%26hl%3Dn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veilig.nl/images/logo%27s/jurist.gif&amp;imgrefurl=http://www.veilig.nl/producten/cameras_kl.htm&amp;h=160&amp;w=150&amp;sz=9&amp;hl=nl&amp;start=4&amp;tbnid=Bww2kiuAdg9vEM:&amp;tbnh=98&amp;tbnw=92&amp;prev=/images%3Fq%3Djurist%26gbv%3D2%26svnum%3D10%26hl%3Dn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wonijverdal.nl/Homeplaatjes/internetcafe.jpg&amp;imgrefurl=http://www.swonijverdal.nl/internet-internetcirkel.html&amp;h=420&amp;w=560&amp;sz=89&amp;hl=nl&amp;start=3&amp;tbnid=ZWxF1hNYXXttmM:&amp;tbnh=112&amp;tbnw=150&amp;prev=/images%3Fq%3Dinternetcafe%26gbv%3D2%26svnum%3D10%26hl%3Dn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nl/imgres?imgurl=http://www.caboamsterdam.nl/Turk%2520Vr1.jpg&amp;imgrefurl=http://www.caboamsterdam.nl/over%2520oudere%2520migranten/Over%2520oudere%2520migranten.htm&amp;h=300&amp;w=400&amp;sz=120&amp;hl=nl&amp;start=4&amp;tbnid=PpKIQGxWhs1fSM:&amp;tbnh=93&amp;tbnw=124&amp;prev=/images%3Fq%3Dmigranten%26gbv%3D2%26svnum%3D10%26hl%3Dn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Maatschappelijke ontwikkelingen van de oudere zorgvrag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Zor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raag om zorg op maat wordt ingevuld via de commerciële thuiszor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deel: minder lange wachtlijs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Nadeel: hogere kosten, niet altijd volledig vergo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en aantal instellingen springt hier ook al op 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 is precies afgemeten op de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5" descr="thuiszorg%2520senior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229360"/>
            <a:ext cx="981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o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zo lang mogelijk zelfstandig blij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sen vinden hier op creatieve manieren oplossingen vo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oongroep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leinschalige woonvor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7" name="Picture 5" descr="Thuiszorg_6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864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De oudere in de multiculturele samenleving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ederland is multiculture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Nederlandse cultuur wordt hierdoor beïnv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lke cultuur heeft specifieke kenmerken en vraag zijn eigen aanpak in de zor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andacht voor de normen en waarden is heel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f duidelijk aan wie je bent en wat je komt do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a respectvol om met andere gewoon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amil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 is voor iedereen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banden zijn in veel culturen veel hechter dan de Nederlandse, men draagt ook bij in de zorg voor elkaa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especteer de aanwezigheid van famil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aadpleeg de familie bij het nemen van beslissin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formeer de familie over de stand van za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 je buiten familieaangelegenhed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trek de familie bij de zor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2" name="Picture 5" descr="familie01"/>
          <p:cNvPicPr/>
          <p:nvPr/>
        </p:nvPicPr>
        <p:blipFill>
          <a:blip r:embed="rId1"/>
          <a:stretch/>
        </p:blipFill>
        <p:spPr>
          <a:xfrm>
            <a:off x="7164360" y="5013360"/>
            <a:ext cx="1181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verl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geloof kent zijn eigen ritue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Raadpleeg de familie over mogelijke wen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oe de nodige handelingen in overleg met de famili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Bewaar een professionele afst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Laat de familie vrij om te beslissen om zaken met jou te bespre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terculturele communica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nderstali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Familieleden tol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lken telefo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perkt Nederlands spre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reek duidelijk in korte zin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g belangrijke dingen eer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d oogcontac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ontroleer of de zorgvragen alles begrijp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aalbetekenis verschillend gebrui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mmige woorden hebben andere betekenissen in andere cultu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7" name="Picture 5" descr="bruegel_babel2_grt"/>
          <p:cNvPicPr/>
          <p:nvPr/>
        </p:nvPicPr>
        <p:blipFill>
          <a:blip r:embed="rId1"/>
          <a:stretch/>
        </p:blipFill>
        <p:spPr>
          <a:xfrm>
            <a:off x="7164360" y="2637000"/>
            <a:ext cx="1314360" cy="1085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 rot="10800000">
            <a:off x="8532360" y="645300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9a57c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Maatschappelijke ontwikkeling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cess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economische klimaat is aan het verander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rroristische aanslagen hebben zaken negatief beïnvloed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Prijsstijgingen zorgen voor een verminderde koopkrac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werkeloosheid is toegeno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wordt bezuinig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is minder geld beschikbaar in de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7" descr="werkloosheid"/>
          <p:cNvPicPr/>
          <p:nvPr/>
        </p:nvPicPr>
        <p:blipFill>
          <a:blip r:embed="rId1"/>
          <a:stretch/>
        </p:blipFill>
        <p:spPr>
          <a:xfrm>
            <a:off x="7812000" y="1484280"/>
            <a:ext cx="111276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 politie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 zijn meer ouderen en zij zijn mondiger dan vroe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kabinet wil mensen zelf de verantwoording alten dragen voor hun eigen leven en de mensen om hen he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euzevrijheid en zelfredzaamheid staan voorop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aatregelen gericht op de ouderen in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een toereikend inko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geschikte huisves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adequate zorgverle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Nico Visscher - Peter R. de Vries stort zich in de politiek"/>
          <p:cNvPicPr/>
          <p:nvPr/>
        </p:nvPicPr>
        <p:blipFill>
          <a:blip r:embed="rId1"/>
          <a:stretch/>
        </p:blipFill>
        <p:spPr>
          <a:xfrm>
            <a:off x="6804000" y="5157720"/>
            <a:ext cx="2050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aspec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roep ouderen wordt steed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is niet meer vanzelfsprekend dat ouderen in het gezin van hun kinderen worden opgen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die iets gaan mankeren doen eerder een beroep op professionele zorgverleners en sociale voorzien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5" descr="1046166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661000"/>
            <a:ext cx="1655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mografische ontwikkel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beleid van de overheid is gericht op een goed leefklimaa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ld voor onderwijs, werkgelegenheid enz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mografie is de wetenschap die zich bezig houdt met de opbouw, samenstelling en ontwikkeling van de bevol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omenteel hebben we te maken met de z.g.n. dubbele vergrijzing, met alle gevolgen van dien voor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eer mensen leven lan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r worden minder kinderen gebo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ste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5373720"/>
            <a:ext cx="99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mancipatie proces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aren vroeger afhankelijk van de ontwikkelingen zoals die werden gebo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egenwoordig wordt meer rekening gehouden met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gelijkwaardig behandeld worden en emancip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it komt op een aantal vlakken tot uit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" name="Picture 7" descr="TSOBII-ouderen"/>
          <p:cNvPicPr/>
          <p:nvPr/>
        </p:nvPicPr>
        <p:blipFill>
          <a:blip r:embed="rId1"/>
          <a:srcRect l="0" t="29358" r="16684" b="4404"/>
          <a:stretch/>
        </p:blipFill>
        <p:spPr>
          <a:xfrm>
            <a:off x="6877080" y="5589720"/>
            <a:ext cx="1727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uderen worden een aantal diensten geboden die hen ondersteunen in hun zelfstandigheid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ouderenadviseu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ier kan men terecht voor praktische zaken.                                        De adviseur is op de hoogte van alle voorzieningen voor oudere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lzijnsorganisaties voor oud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fo over voorzieningen m.b.t. huisvesting, financiën, vrijetijdsbesteding,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tiviteiten en cursus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ortdurende individuele hulpverl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vragen van thuisbezorgde maaltij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5" descr="tdj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45000"/>
            <a:ext cx="838080" cy="83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icture 7" descr="34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3500280"/>
            <a:ext cx="1047960" cy="113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ociale netwer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middeling tussen ouderen die activiteiten willen onderne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dersteunen en activeren van ouderen ter voorkoming van eenzaamhe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ursussen organis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geleiding bij verliesverwerk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ijk winke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en informatie op juridisch en sociaal vla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bij invullen van belastingpa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aak hebben ze een maatschappelijk werker en een sociaal raadsma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uderen%2520gy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213000"/>
            <a:ext cx="133344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juri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661000"/>
            <a:ext cx="876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tschappelijk wer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 onafhankelijk luisterend oor die zijn eg kent door de bureaucratische werel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aak ook specialisten voor anderstalig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 migrant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ennen vaak een eigen netwerk van welzijnsinstant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dia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internet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6" descr="internetcaf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urk%2520V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3573360"/>
            <a:ext cx="1180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9:39:04Z</dcterms:created>
  <dc:creator>nef</dc:creator>
  <dc:description/>
  <dc:language>en-US</dc:language>
  <cp:lastModifiedBy>Koen van Spaandonk</cp:lastModifiedBy>
  <dcterms:modified xsi:type="dcterms:W3CDTF">2012-03-28T10:48:58Z</dcterms:modified>
  <cp:revision>14</cp:revision>
  <dc:subject/>
  <dc:title>Verpleegkunde 309</dc:title>
</cp:coreProperties>
</file>