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0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CE20-4EFD-4399-BC1C-A647A33E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9409-915A-4BD6-B5A5-36CBFCD1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FDD3-6D59-4F45-B6FD-D5C21476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D651-ABFE-40D8-87B1-ADA3DE4CA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8263-31DA-45BE-B29D-1CC1AA08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5D1B-7127-4059-8BEE-FB6BFC7A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2121-369F-401F-B74D-07C60C39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F5E1-72C0-4FB2-AFFF-03BA814B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9007-CB55-48AA-AFF5-7B248898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DD5D-5827-400C-A29A-EC78E377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3B23-399D-4AC4-8D6E-BD43D9CD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7127-9F3E-4961-AFAF-FD50F3DD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1FEC-49FB-4BB5-AD38-29E43D8C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2A6D-600A-469D-8B5C-310AE78D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C450-17EF-4D83-83DC-AF2C3D28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F065-4D2D-4E9C-8D5E-8A63F52B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0A9E-2E0C-4C99-9BFF-968DAA7F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D147-A4B1-4398-99C6-37443F63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2CFD-19A2-445F-9347-87F0E01B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11AE-BA07-4367-AF2A-1AB7A038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D2D0-80BF-4A90-BF9A-BC992A26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E089-8FB3-4E9D-99E6-BF079C33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8608-0B60-4E7C-8931-FDFA246A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4892-A9ED-486B-96C3-85C3D62A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2B95-3282-4C80-B235-4BB7DA4C1EF7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9354-7F9F-46EB-8918-2EAB27CD6EC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0642-68A6-450A-9CA5-2A20BF281434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441A-BD13-4913-B5B0-E5E02FBBF527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ln.be/static/FOTO/pe/14/2/5/art_large_590990.jpg&amp;imgrefurl=http://www.hln.be/hln/nl/33/Fit-Gezond/article/detail/557942/2008/12/17/Sarcasme-helpt-dementie-ontdekken.dhtml&amp;usg=__In8SkNytTqq_9LQlMCfFeXHyYBQ=&amp;h=332&amp;w=249&amp;sz=8&amp;hl=nl&amp;start=24&amp;sig2=I3-CAEXOfWsyBT0_MFfwUw&amp;um=1&amp;itbs=1&amp;tbnid=UVwXn6jRZtCJwM:&amp;tbnh=119&amp;tbnw=89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nwo.nl/images.nsf/pages/NWOP_5XCECS/%24file/Cognitie-groot.jpg&amp;imgrefurl=http://aarts3.web-log.nl/aarts3/2007/10/psychiatrie_geh.html&amp;h=350&amp;w=335&amp;sz=6&amp;hl=nl&amp;start=1&amp;tbnid=0E_kjXWvTCMMTM:&amp;tbnh=120&amp;tbnw=115&amp;prev=/images%3Fq%3Ddesori%25C3%25ABntatie%2Bin%2Bpersoon%26gbv%3D2%26svnum%3D10%26hl%3Dnl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www.klarenbeekklokken.nl/pubklok1.JPG&amp;imgrefurl=http://www.klarenbeekklokken.nl/pubklokkenklarenbeek.htm&amp;h=400&amp;w=400&amp;sz=23&amp;hl=nl&amp;start=50&amp;tbnid=ZoDRF8DPsiLEeM:&amp;tbnh=124&amp;tbnw=124&amp;prev=/images%3Fq%3Dwandklok%26start%3D40%26gbv%3D2%26ndsp%3D20%26svnum%3D10%26hl%3Dnl%26sa%3DN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beindhoven.nl/www/Informatiecentrum/Dossiers/images/dementie.jpg&amp;imgrefurl=http://aarts3.web-log.nl/aarts3/2007/10/psychiatrie_geh.html&amp;h=229&amp;w=227&amp;sz=26&amp;hl=nl&amp;start=16&amp;tbnid=-nT3RE_8PPd_OM:&amp;tbnh=108&amp;tbnw=107&amp;prev=/images%3Fq%3Dgeheugenstoornis%26gbv%3D2%26svnum%3D10%26hl%3Dn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achbloesemadvies.be/cms/cms/grafisch/tekst/96_206_depressie.jpg&amp;imgrefurl=http://www.bachbloesemadvies.be/home.asp%3Fp_id%3D599%26p_naam%3DBachbloesems%26tsectie%3D1%26offset%3D0&amp;h=423&amp;w=284&amp;sz=145&amp;hl=nl&amp;start=8&amp;tbnid=KzXGxhVEf8qGfM:&amp;tbnh=126&amp;tbnw=85&amp;prev=/images%3Fq%3Ddepressie%26gbv%3D2%26svnum%3D10%26hl%3Dn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rometheusfleets.com/spotlight/images/overige/maskers.PNG&amp;imgrefurl=http://www.prometheusfleets.com/spotlight/theater_geschiedenis.html&amp;h=171&amp;w=160&amp;sz=21&amp;hl=nl&amp;start=1&amp;tbnid=Xv1giZUaQQTraM:&amp;tbnh=100&amp;tbnw=94&amp;prev=/images%3Fq%3Dlach%2Ben%2Been%2Btraan%26gbv%3D2%26svnum%3D10%26hl%3Dnl%26sa%3DX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eamsolid.com/psychiatrie/delier/pic/delier-pa.gif&amp;imgrefurl=http://www.beamsolid.com/psychiatrie/delier/delier-pa.shtml&amp;h=160&amp;w=123&amp;sz=8&amp;hl=nl&amp;start=3&amp;tbnid=bAXa3RWNyntoLM:&amp;tbnh=98&amp;tbnw=75&amp;prev=/images%3Fq%3Ddelier%26gbv%3D2%26svnum%3D10%26hl%3Dn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reewebs.com/doktersassistent/dementie.jpg&amp;imgrefurl=http://www.freewebs.com/doktersassistent/dementie.htm&amp;usg=__wZRm2ekb4OftAhVLwDVUjFHTWSw=&amp;h=259&amp;w=397&amp;sz=6&amp;hl=nl&amp;start=2&amp;sig2=gOwTKy9Z8GtoUYD4ddjTgA&amp;um=1&amp;itbs=1&amp;tbnid=E-dpR8fkfLjA_M:&amp;tbnh=81&amp;tbnw=124&amp;prev=/images%3Fq%3Ddementie%26um%3D1%26hl%3Dnl%26sa%3DN%26tbs%3Disch:1&amp;ei=vUSjS6_OEYqQjAepseXvCQ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astoralekroes.nl/Dementie/afbeeldingen/Dementie_II_-_Ouderdomsdementie/dementie2.jpg&amp;imgrefurl=http://www.pastoralekroes.nl/Dementie/DementieII-Ouderdomsdemen.html&amp;usg=__RQfQ5NP04QjhIyt6ug_SMfgvP-o=&amp;h=156&amp;w=240&amp;sz=17&amp;hl=nl&amp;start=23&amp;sig2=VOp3ZLePM42dHTZHfbH-Hw&amp;um=1&amp;itbs=1&amp;tbnid=q6rOQPIX_5JpbM:&amp;tbnh=72&amp;tbnw=110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degelderseroos.nl/bestanden/pagina/Dementie.jpg&amp;imgrefurl=http://www.degelderseroos.nl/site/Actueel/Interactie&amp;usg=__SaL7PfJXmNv2A4KGNp08E7AO2Dk=&amp;h=300&amp;w=212&amp;sz=9&amp;hl=nl&amp;start=6&amp;sig2=3FLHd-ceMI_FmhGk9DxZeg&amp;um=1&amp;itbs=1&amp;tbnid=Sjx0YT2PncufGM:&amp;tbnh=116&amp;tbnw=82&amp;prev=/images%3Fq%3Ddementie%26um%3D1%26hl%3Dnl%26sa%3DN%26tbs%3Disch:1&amp;ei=vUSjS6_OEYqQjAepseXvCQ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laghouse.com/images/orangeGrove4.jpg&amp;imgrefurl=http://www.flaghouse.com/orangeGrove.asp&amp;h=300&amp;w=400&amp;sz=16&amp;hl=nl&amp;start=8&amp;tbnid=K2J6iOKnAvqwtM:&amp;tbnh=93&amp;tbnw=124&amp;prev=/images%3Fq%3Dsnoezelen%26gbv%3D2%26svnum%3D10%26hl%3Dnl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harmaselecta.nl/psonline/images/gijs/weetniet.gif&amp;imgrefurl=http://www.pharmaselecta.nl/site/index.php%3Foption%3Dcom_content%26task%3Dview%26id%3D277%26Itemid%3D53&amp;h=169&amp;w=99&amp;sz=4&amp;hl=nl&amp;start=5&amp;tbnid=ueNawOZnL3grPM:&amp;tbnh=99&amp;tbnw=58&amp;prev=/images%3Fq%3Dgeheugenverlies%26gbv%3D2%26svnum%3D10%26hl%3Dnl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s://www2.kuleuven.be/tiki/show_image.php%3Fid%3D138&amp;imgrefurl=https://www2.kuleuven.be/tiki/tiki-index.php%3Fpage%3Dsequencing&amp;h=300&amp;w=464&amp;sz=53&amp;hl=nl&amp;start=5&amp;tbnid=UrVtv6FmJ4644M:&amp;tbnh=83&amp;tbnw=128&amp;prev=/images%3Fq%3Dmoeilijkheden%2Bmet%2Bdenken%26gbv%3D2%26svnum%3D10%26hl%3Dnl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hyperlink" Target="http://images.google.nl/imgres?imgurl=http://www.ikonrtv.nl/uploadedImgs/1boos.jpg&amp;imgrefurl=http://www.ikonrtv.nl/kerknieuws/nieuws.asp%3FoId%3D4265&amp;h=231&amp;w=246&amp;sz=16&amp;hl=nl&amp;start=6&amp;tbnid=uh_w5MYgSBDFyM:&amp;tbnh=103&amp;tbnw=110&amp;prev=/images%3Fq%3Dboos%26gbv%3D2%26svnum%3D10%26hl%3Dnl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A612-BD82-4091-A3A6-BB6FDA9D278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800" spc="-1" strike="noStrike">
                <a:solidFill>
                  <a:srgbClr val="999900"/>
                </a:solidFill>
                <a:latin typeface="Garamond"/>
              </a:rPr>
              <a:t>Zorgvragers met dementie: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9C94-8A44-4077-B744-BAE8DC17B71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verige vormen van dementi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oorzaak van dementie hoeft niet altijd in de hersenen te liggen maar kan ook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stoornis in het afweersystee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door zink of aluminiu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gebre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ong- en nieraandoenin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8" name="Picture 6" descr="art_large_5909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149720"/>
            <a:ext cx="1170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4F42-939F-46EA-9DBD-2E213843E3E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verige vormen van dementi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sakov-synd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oor langdurig alcoholmisbruik en een slechte voedingstoest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hersen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ids dementiecompl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te complicatie bij een klein deel van de niet behandelde HIV patiënt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iekte van Pi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ordt veroorzaakt door een aandoening in het voorste deel van de hersenen, gekenmerkt door ballonvormige zenuw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bij syndroom van 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343B-11CD-4126-A783-FCD6D076193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het dementiesyndroom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eerst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altijd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voordoen bij een vorm van dementi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tweed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soms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kunnen voordoe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9F7A-24F9-4899-A75C-402B9EBB654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mentie:</a:t>
            </a:r>
            <a:br>
              <a:rPr sz="4000"/>
            </a:b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eerste ord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Geheugen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nprenting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uwe informatie wordt niet opgesla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ang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goede herinneringen blijven het langste besta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7" descr="Herken dementie op tijd"/>
          <p:cNvPicPr/>
          <p:nvPr/>
        </p:nvPicPr>
        <p:blipFill>
          <a:blip r:embed="rId1"/>
          <a:stretch/>
        </p:blipFill>
        <p:spPr>
          <a:xfrm>
            <a:off x="6588000" y="4292640"/>
            <a:ext cx="16322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4466-1F28-41A4-B2C5-9AD5BC2CD43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9900"/>
                </a:solidFill>
                <a:latin typeface="Garamond"/>
              </a:rPr>
              <a:t>Desoriëntatie in: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ij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op welk tijdstip hij zich bevind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la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waar hij is en raakt de weg kwij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er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amilie en bekenden worden niet meer herk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oms weet men zelfs niet meer wie men zelf 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5" descr="Cognitie-groo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5661000"/>
            <a:ext cx="820800" cy="855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pubklok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692280"/>
            <a:ext cx="118080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5695-97DA-4D48-9601-5014F187CD2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a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taalstoorn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pressieve afasie (expressie = uitdrukk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eeft moeite met het uiten van woor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t wat hij wil zeggen maar kan het woord niet vin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ceptieve afasie (receptie = ontvang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oort de woorden wel, maar begrijpt de betekenis niet m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5" descr="leesplankje1"/>
          <p:cNvPicPr/>
          <p:nvPr/>
        </p:nvPicPr>
        <p:blipFill>
          <a:blip r:embed="rId1"/>
          <a:stretch/>
        </p:blipFill>
        <p:spPr>
          <a:xfrm>
            <a:off x="6732720" y="549360"/>
            <a:ext cx="19429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ABFA-714B-4BA8-9EE6-8F06769CBEA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gno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niet meer herkennen van voorwerp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an de zintuigen mankeert niets, maar in het geheugen wordt niet opgeroepen om welk voorwerp het gaa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149720"/>
            <a:ext cx="1446480" cy="1460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A6A7-CA8D-4439-B210-F32A0206DB7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prax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ij apraxie is een zorgvrager niet in staat een handeling doelbewust uit te voe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4" descr="kleding07"/>
          <p:cNvPicPr/>
          <p:nvPr/>
        </p:nvPicPr>
        <p:blipFill>
          <a:blip r:embed="rId1"/>
          <a:stretch/>
        </p:blipFill>
        <p:spPr>
          <a:xfrm>
            <a:off x="1763640" y="3429000"/>
            <a:ext cx="1521000" cy="1657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wassen15"/>
          <p:cNvPicPr/>
          <p:nvPr/>
        </p:nvPicPr>
        <p:blipFill>
          <a:blip r:embed="rId2"/>
          <a:stretch/>
        </p:blipFill>
        <p:spPr>
          <a:xfrm>
            <a:off x="4788000" y="3357720"/>
            <a:ext cx="25509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ijdelijke aanduiding voor dianumm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7CA9-8D31-4A34-89E5-4F71C2C7721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tweede ord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ev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onfabul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zamelzu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chterdo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corumverl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em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arne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nk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ra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Motorische) onru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oonlijkheids-verander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li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C0AC-FE12-4C72-BE82-CB769E05FF7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ever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rhaling van steeds dezelfde vragen en / of opmerking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f de zorgvrager vertelt steeds hetzelfde verha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4" descr="ziekenhuis10"/>
          <p:cNvPicPr/>
          <p:nvPr/>
        </p:nvPicPr>
        <p:blipFill>
          <a:blip r:embed="rId1"/>
          <a:stretch/>
        </p:blipFill>
        <p:spPr>
          <a:xfrm>
            <a:off x="1332000" y="4221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ziekenhuis10"/>
          <p:cNvPicPr/>
          <p:nvPr/>
        </p:nvPicPr>
        <p:blipFill>
          <a:blip r:embed="rId2"/>
          <a:stretch/>
        </p:blipFill>
        <p:spPr>
          <a:xfrm>
            <a:off x="3492360" y="4221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ziekenhuis10"/>
          <p:cNvPicPr/>
          <p:nvPr/>
        </p:nvPicPr>
        <p:blipFill>
          <a:blip r:embed="rId3"/>
          <a:stretch/>
        </p:blipFill>
        <p:spPr>
          <a:xfrm>
            <a:off x="5724360" y="4221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1A21-A040-4878-A1F6-0B0DD082407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7" name="Picture 3" descr="plaquesentangle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B344-8B85-4A12-A397-B781088210E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nfabul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kan zich een bepaald verhaal niet herinneren of is tijdens het vertellen de draad kwijtgeraak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lege plekken in zijn geheugen vult hij op met fantasieë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doet dit volledig ter goeder trou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0C5B-6105-4D5B-986B-B9B5A05F709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zamelzuch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verzamelen van allerlei voorwerpen en bewaart deze op een voor hem veilige pla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wil nog ergens controle over hebb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5" descr="index"/>
          <p:cNvPicPr/>
          <p:nvPr/>
        </p:nvPicPr>
        <p:blipFill>
          <a:blip r:embed="rId1"/>
          <a:stretch/>
        </p:blipFill>
        <p:spPr>
          <a:xfrm>
            <a:off x="4284720" y="4437000"/>
            <a:ext cx="128916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C1C8-A6FC-44EF-9056-03E29E02B82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hterdocht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met dementie is erg achterdochtig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EFD5-0745-469F-8258-6B1234A5DF5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corumverl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raakt zijn waarden en normen kwijt en zijn gevoel over wat wel en niet kan betreffende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le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mgangsvorme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4" descr="kabouters37"/>
          <p:cNvPicPr/>
          <p:nvPr/>
        </p:nvPicPr>
        <p:blipFill>
          <a:blip r:embed="rId1"/>
          <a:stretch/>
        </p:blipFill>
        <p:spPr>
          <a:xfrm>
            <a:off x="5508720" y="4005360"/>
            <a:ext cx="15685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345E-1F10-4A77-B2E7-2354C47B3DD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emmin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path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orgvrager is soezerig en heeft geen aandacht voor hetgeen om hem heen gebeu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press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or lichamelijke of psychische oorza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ufor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egenovergestelde van een depress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5" descr="96_206_depress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4221000"/>
            <a:ext cx="8096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ED5C-BB49-48FB-97A0-DB360752D23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arnemings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arnemingsstoornissen zijn stoornissen van de zintui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ui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o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oe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ev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rrigeren van de waarnemingsstoornis heeft geen zin, omdat de zorgvrager dit als werkelijkheid waarneem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DFBB-E0B6-496C-882F-DDCD14626C5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nk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nkstoornissen kunnen zich uiten in de vorm va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raaghei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uld is een schone za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coherent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inhoud van het denken is niet meer logis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400E-EF5B-498E-963C-6AC677486D9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Gedra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otorische on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4" descr="slapen55"/>
          <p:cNvPicPr/>
          <p:nvPr/>
        </p:nvPicPr>
        <p:blipFill>
          <a:blip r:embed="rId1"/>
          <a:stretch/>
        </p:blipFill>
        <p:spPr>
          <a:xfrm>
            <a:off x="4788000" y="4724280"/>
            <a:ext cx="1171440" cy="13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ruzie10"/>
          <p:cNvPicPr/>
          <p:nvPr/>
        </p:nvPicPr>
        <p:blipFill>
          <a:blip r:embed="rId2"/>
          <a:stretch/>
        </p:blipFill>
        <p:spPr>
          <a:xfrm>
            <a:off x="5867280" y="2349360"/>
            <a:ext cx="1333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6F86-90E3-40E5-8C16-123B9A56D09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oonlijkheidsverandering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persoonlijkheidsverandering houdt i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verandering van karaktereigenschapp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erping van karaktereigenschapp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5" descr="mask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4076640"/>
            <a:ext cx="1343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0FCE-9A17-43F3-A010-2E09E8EC2C0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lier (of delirium)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organisch psychiatrisch syndro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ordt gekenmerkt door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inder helder bewustzijn van de omgeving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centratieproblem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gnitieve functie stoornissen (zoals geheugen-, ori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Arial"/>
              </a:rPr>
              <a:t>ë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tatie- en taalstoornisse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oord waak- slaapritm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5" descr="delier-p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5300640"/>
            <a:ext cx="7146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CAD6-5C31-4501-8FED-83C077D4575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t is dementie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is 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Verdana"/>
              </a:rPr>
              <a:t>geen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normaal ouderdomsverschijn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ndroom dat zich kenmerkt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lende cognitieve functie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oenemende aftakeling van psychische func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189000"/>
            <a:ext cx="19447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92C3-4E0C-4426-9964-646DFB6A313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orzaken delie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dicijngebru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ekten in de hersenen (infectie, tumo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tabole stoorniss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ev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 B 12 tek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9E8B-BFA3-414B-8262-B0EB410D2A1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1: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een lichte verwar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2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verwardheid in tijd en lichte geheugen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3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opvallende geheugenstoornissen, zowel bij de inprenting als bij het 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E4A4-50EA-45F7-901C-438B478A40C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4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desoriëntatie en het afnemen van het gevoelsleven, decorumverlies en persoonlijkheidsveranderi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5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dat de zorgvrager volledig onbereikbaar i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45" name="Picture 8" descr="dementie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4686480"/>
            <a:ext cx="1655640" cy="10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C6B4-658A-4888-888C-4110648FE0C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Kenmerken 'lichte dementie':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als/dan vraag wordt moeilijker te beantwo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hypothetisch denken neemt af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el ziekte-besef. Geen ziekte-inzich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gocentrism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en begrip meer voor formele rege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nige vorm van ontremd gedrag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0B96-8AEE-4ECD-B025-53DC973990A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e jong dementerende zorgvrager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ussen 4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en 5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levensja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orzak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kte van Alzheim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ziekte van Pic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chorea van Huntingt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reutsfeldt-Jaco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aidsdementia-comple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hronisch alcoholmisbru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3584-F854-45EB-9D90-F52FE7C915E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lgemene omgangsadviez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mente mensen onthouden vaak we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zich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it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verzorgende moet rekening houden me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sp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een onderwerp per z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ngzaam en duidelijk pra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en dubbele ontkenn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s duidelijk bij het belo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a conflicten zo veel mogelijk uit de we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act bij corrigeren van de oud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eer schrikken te voor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de zintuigen die goed wer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833C-6D38-466D-9DA3-D7C09EF320D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aliteits Oriëntatie Benad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arme zorg, snoez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miniscen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evingsgerichte z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naderingswijz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CF7D-D221-40BF-842E-720C51015CB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oelstelling van ROB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gemeen doel: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Realiteits Oriëntatie Benadering heeft tot doel een verdere achteruitgang in het contact met en de aanpassing aan de omgeving van de dementerende oudere te voorkom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F617-CD95-4433-B8F8-3BEF0BD0270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ervolg doelstelling van ROB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pgesplitst in 3 specifiekere doel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zo lang mogelijk in stand houden en eventueel verbeteren van lichamelijke, psychische en sociale functies die gestoord zij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bewoners een zodanig leefklimaat bieden dat deze zich vertrouwd voelen met hun omgeving en de mensen om hen h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personeel, familie en bekenden ertoe brengen een zodanige relatie met de bewo­ner op te bouwen dat deze gestimuleerd en geactiveerd wordt tot handelingen en bezigheden waartoe hij nog in staat 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E749-69B7-4DF4-B7B9-A0E110DEABD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ROB in groepsverband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kleine groep bewoners in een speciale ruimte, waarmee activiteiten gedaan worden, die gericht zijn op de realite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.v. kranten lezen, weerbericht doornemen, elkaars namen noemen, enz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attitude van de verzorgende tijdens de ROB is erg belangrij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loof in stimulerende werking van RO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duidigheid in benadering van de bewo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steunende en geen betuttelende hou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maken van iedere gelegenheid om het contact met de werkelijkheid te laten hervind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D601-2118-4E39-8574-AFAD0E80650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gnitieve functie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Cognitieve functiestoornissen zijn problemen m.b.t. het waarnemen, taal, geheugen en denk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Dementie">
            <a:hlinkClick r:id="rId1"/>
          </p:cNvPr>
          <p:cNvPicPr/>
          <p:nvPr/>
        </p:nvPicPr>
        <p:blipFill>
          <a:blip r:embed="rId2"/>
          <a:srcRect l="0" t="21668" r="0" b="25839"/>
          <a:stretch/>
        </p:blipFill>
        <p:spPr>
          <a:xfrm>
            <a:off x="6804000" y="4797360"/>
            <a:ext cx="1646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00E0-26DE-40BB-ABD7-4E00D46C52A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999900"/>
                </a:solidFill>
                <a:uFillTx/>
                <a:latin typeface="Garamond"/>
              </a:rPr>
              <a:t>Wat is Validationtherapie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 is een benaderingswijze van de pg bewoner, die zich richt op het bevestigen van eigen gevoelens, van de eigen beleving van het verled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is een benaderingswijze die de bewoner accepteert daar waar hij is, in zijn realiteit en tij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627A-1003-49B3-8A4C-6A73987E4A4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oelstellingen validationtherapi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voel van eigen waarde herstellen/terugwinn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panning vermind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chtvaardigen van de manier van lev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nverwerkte conflicten oplossen uit het verled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ch gelukkiger kunnen voel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CF68-D1DE-43C8-AFFB-33960CDB0AA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Warme zorg, Snoezele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wereld van dementie schept voortdurend een beleving van dreiging, onveiligheid en ang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vastgelopen geheugen ontneemt de demente zijn vroegere zekerheden. De demente is een vreemdeling geworden in een voor hem vreemde omgev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j zoekt oriëntatiepunten. Hij hoopt bescherming, warmte en veiligheid te krijgen. Hij heeft behoefte aan de veiligheid van de eigen oud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DE7D-22E9-47F0-9B49-D87E28BF664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vol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rme zorg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"   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"Respons Provoting Approach"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men de beleving van de demente bewoner als uitgangspu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doel is een milieu/omgeving te scheppen die tegemoe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omt aan de belangrijkste emotionele behoefte van de demente verwarde bewoner: veilighe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ABF7-CC97-4D95-A529-EAE1916BC0E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noezel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s een therapievorm die aansluit bij warme zor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 is het primair activeren van diep gestoorden (dementen) door middel van zintuiglijke waarnemingen en ervaring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(licht, geluid, tast, reuk en smaak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ep dementen zijn vaak niet te bereiken met ROB of Validationtherapi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geheugen en het denken werkt niet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us een stapje teru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primaire activering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er is het niet belangrijk om b.v. A.D.L. in stand te houden, maar om contact te maken met de bewon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93B9-97BB-44FC-AB60-A852C6B8134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tiviteit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oppen/knuffelbees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leine huisd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uimtelijke aanpassing: licht, geluid, k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noeien/werken met zachte kneedbare materia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xtiel/bal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u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5" descr="orangeGrove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4437000"/>
            <a:ext cx="1181160" cy="8859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snoezelen2_300"/>
          <p:cNvPicPr/>
          <p:nvPr/>
        </p:nvPicPr>
        <p:blipFill>
          <a:blip r:embed="rId3"/>
          <a:stretch/>
        </p:blipFill>
        <p:spPr>
          <a:xfrm>
            <a:off x="6443640" y="1052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31"/>
          <p:cNvPicPr/>
          <p:nvPr/>
        </p:nvPicPr>
        <p:blipFill>
          <a:blip r:embed="rId4"/>
          <a:stretch/>
        </p:blipFill>
        <p:spPr>
          <a:xfrm>
            <a:off x="3851280" y="4653000"/>
            <a:ext cx="12384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672A-F91A-4311-962A-3525BFE38ED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eerstand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inderachtig gedoe: bewoner moet toch als volwassene benaderd w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angrijk is dat je de bewoner accepteert op zijn niveau en ingaat op zijn behoeft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heid is vaak een tabo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Familie (en personeel) vinden het vaak een schokkende erva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sneoz2"/>
          <p:cNvPicPr/>
          <p:nvPr/>
        </p:nvPicPr>
        <p:blipFill>
          <a:blip r:embed="rId1"/>
          <a:stretch/>
        </p:blipFill>
        <p:spPr>
          <a:xfrm>
            <a:off x="5867280" y="5229360"/>
            <a:ext cx="11811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B6FF-CCF6-4EB9-840C-52329B4E764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Reminisc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ij deze benaderingswijze staan de positieve ervaringen centra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nneer je met een bewoner over zijn herinneringen uit het verleden praat, krijg je als verzorgende ook meer inzicht in zijn levensloo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miniscentie is niet alleen het ophalen of opkomen van herinneringen, maar ook erbij stilstaan (reflecti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is dus een terugdenken aan en nadenken over levensgebeurtenissen die men ervaart als behorend tot het leve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649E-4418-41D8-B8BC-DECCD022682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levingsgerichte zorg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belevingsgerichte benadering is een benadering waarbij je rekening houdt met de belevingswereld van de zorgvrag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rie oorzaken voor verschillen in belevingswere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schillende vormen van dementie die elk op een eigen manier tot uiting 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rakter voordat de verschijnselen van dementie er wa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lke dementerende oudere heeft zijn eigen levensgeschieden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4242-13DC-4D25-BB8F-D247BDC63D8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FARIA CLOW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17" name="Afbeelding 3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24656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takeling psychische funct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toenemende aftakeling van psychische functies veranderen ingrijpend het gedrag en het karakter van mens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F2CA-FC1C-4AA3-95A9-C3DE809970F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mentie is een verzamelnaam voor een aantal aandoeningen met gemeenschappelijke symptom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21C8-0408-415F-A518-120BEBA80F4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6182-3A0B-47EB-82BC-7A2D885ED8D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Gemeenschappelijke symptomen van dementie (verzamelnaam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heugenver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lies van ori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ënta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Moeilijkheden met den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Verandering van gedr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weetni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557360"/>
            <a:ext cx="552240" cy="942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show_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2133720"/>
            <a:ext cx="1218960" cy="790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game-pic3"/>
          <p:cNvPicPr/>
          <p:nvPr/>
        </p:nvPicPr>
        <p:blipFill>
          <a:blip r:embed="rId5"/>
          <a:stretch/>
        </p:blipFill>
        <p:spPr>
          <a:xfrm>
            <a:off x="6227640" y="3141720"/>
            <a:ext cx="716040" cy="1111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3" name="Picture 13" descr="1boo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11640" y="4437000"/>
            <a:ext cx="1047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5F0B-96DB-436A-BA49-C1A52A08871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0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eniele dementie van het Alzheimertyp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moedelijk worden de hersencellen verdrongen door aan elkaar geklitte zenuw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orzaak is eiwitstape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gressief verlo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ymptom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lies van interesse in de omgev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soriëntatie in tijd en plaa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eenvoudigd taalgebru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ersoonlijkheidsveranderinge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temmingsstoornissen en denkstoorniss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Doorsnede: hersenen bij Alzheimer zijn gekrompen; spraak en geheugen zijn gestoord"/>
          <p:cNvPicPr/>
          <p:nvPr/>
        </p:nvPicPr>
        <p:blipFill>
          <a:blip r:embed="rId1"/>
          <a:stretch/>
        </p:blipFill>
        <p:spPr>
          <a:xfrm>
            <a:off x="6095880" y="2708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C01E-FACF-4B75-B433-613F3BDCC23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sculaire dement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schadiging van de hersenen door problemen met de bloedvaten, b.v. een C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een trapsgewijs dalend verlo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mptomen zijn afhankelijk van de plaats van de beschadigin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heugenstoorniss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fa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lemen met de coördina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3" name="Picture 6" descr="MRI"/>
          <p:cNvPicPr/>
          <p:nvPr/>
        </p:nvPicPr>
        <p:blipFill>
          <a:blip r:embed="rId1"/>
          <a:stretch/>
        </p:blipFill>
        <p:spPr>
          <a:xfrm>
            <a:off x="6948360" y="4365720"/>
            <a:ext cx="943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20:47:05Z</dcterms:created>
  <dc:creator>Joke Kuyk</dc:creator>
  <dc:description/>
  <dc:language>en-US</dc:language>
  <cp:lastModifiedBy>Koen van Spaandonk</cp:lastModifiedBy>
  <dcterms:modified xsi:type="dcterms:W3CDTF">2012-03-28T11:10:18Z</dcterms:modified>
  <cp:revision>27</cp:revision>
  <dc:subject/>
  <dc:title>Psychogeriatrische zorgvragers:</dc:title>
</cp:coreProperties>
</file>