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FE7-82A7-4F67-82A1-13567F80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E78-43F5-4403-A555-8454671A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A24B-BE45-418B-909F-8FAC15CE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3805-60DD-4AAF-8DA6-456B4418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52F0-BF95-49DE-AF56-5347D61A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74C9-E42C-4F23-8C4B-82BC3C09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9BC8-330C-42D1-9841-315C6B63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328C-E9EA-40F3-A68E-926C50A3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9CFF-BBD0-4C24-8291-9026C7D3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8DAD-1F74-42F5-804B-8636FA15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DF50-B022-416A-B966-44B79CC2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4B9-D012-4C8B-9177-CD924EA2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E2A3-BFF6-4323-8FCF-0AF02E90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5113-EB37-4239-976A-D82A6719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8F82-545A-4FCB-B39C-9E39A5B9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673C-25C4-48CA-B112-B536CD51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F418-26EF-49C1-B8B4-659123BB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AE4-A2FA-4968-8361-F6D0D993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156-53E5-44BF-BE83-CB57DA29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50E-793D-412E-A474-A997EED8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EFBE-98C7-44DA-BAA9-DB082C5F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F05-1740-4574-9DDE-34F34567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DFCB-0AAE-4FED-8699-8562B2A7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976A-360B-486E-B739-5C34FAC9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CF6F-99E6-4BAC-88A3-48E26D7DD054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CB9E-CD56-4FFD-91D2-1DACCE1B347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69A6-060E-4E7B-A0C0-3958510E1538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A14D-F6C2-42B3-8C21-F625353D7EF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ln.be/static/FOTO/pe/14/2/5/art_large_590990.jpg&amp;imgrefurl=http://www.hln.be/hln/nl/33/Fit-Gezond/article/detail/557942/2008/12/17/Sarcasme-helpt-dementie-ontdekken.dhtml&amp;usg=__In8SkNytTqq_9LQlMCfFeXHyYBQ=&amp;h=332&amp;w=249&amp;sz=8&amp;hl=nl&amp;start=24&amp;sig2=I3-CAEXOfWsyBT0_MFfwUw&amp;um=1&amp;itbs=1&amp;tbnid=UVwXn6jRZtCJwM:&amp;tbnh=119&amp;tbnw=89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wo.nl/images.nsf/pages/NWOP_5XCECS/%24file/Cognitie-groot.jpg&amp;imgrefurl=http://aarts3.web-log.nl/aarts3/2007/10/psychiatrie_geh.html&amp;h=350&amp;w=335&amp;sz=6&amp;hl=nl&amp;start=1&amp;tbnid=0E_kjXWvTCMMTM:&amp;tbnh=120&amp;tbnw=115&amp;prev=/images%3Fq%3Ddesori%25C3%25ABntatie%2Bin%2Bpersoon%26gbv%3D2%26svnum%3D10%26hl%3Dn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klarenbeekklokken.nl/pubklok1.JPG&amp;imgrefurl=http://www.klarenbeekklokken.nl/pubklokkenklarenbeek.htm&amp;h=400&amp;w=400&amp;sz=23&amp;hl=nl&amp;start=50&amp;tbnid=ZoDRF8DPsiLEeM:&amp;tbnh=124&amp;tbnw=124&amp;prev=/images%3Fq%3Dwandklok%26start%3D40%26gbv%3D2%26ndsp%3D20%26svnum%3D10%26hl%3Dnl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beindhoven.nl/www/Informatiecentrum/Dossiers/images/dementie.jpg&amp;imgrefurl=http://aarts3.web-log.nl/aarts3/2007/10/psychiatrie_geh.html&amp;h=229&amp;w=227&amp;sz=26&amp;hl=nl&amp;start=16&amp;tbnid=-nT3RE_8PPd_OM:&amp;tbnh=108&amp;tbnw=107&amp;prev=/images%3Fq%3Dgeheugenstoornis%26gbv%3D2%26svnum%3D10%26hl%3Dn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achbloesemadvies.be/cms/cms/grafisch/tekst/96_206_depressie.jpg&amp;imgrefurl=http://www.bachbloesemadvies.be/home.asp%3Fp_id%3D599%26p_naam%3DBachbloesems%26tsectie%3D1%26offset%3D0&amp;h=423&amp;w=284&amp;sz=145&amp;hl=nl&amp;start=8&amp;tbnid=KzXGxhVEf8qGfM:&amp;tbnh=126&amp;tbnw=85&amp;prev=/images%3Fq%3Ddepressie%26gbv%3D2%26svnum%3D10%26hl%3Dn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rometheusfleets.com/spotlight/images/overige/maskers.PNG&amp;imgrefurl=http://www.prometheusfleets.com/spotlight/theater_geschiedenis.html&amp;h=171&amp;w=160&amp;sz=21&amp;hl=nl&amp;start=1&amp;tbnid=Xv1giZUaQQTraM:&amp;tbnh=100&amp;tbnw=94&amp;prev=/images%3Fq%3Dlach%2Ben%2Been%2Btraan%26gbv%3D2%26svnum%3D10%26hl%3Dnl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eamsolid.com/psychiatrie/delier/pic/delier-pa.gif&amp;imgrefurl=http://www.beamsolid.com/psychiatrie/delier/delier-pa.shtml&amp;h=160&amp;w=123&amp;sz=8&amp;hl=nl&amp;start=3&amp;tbnid=bAXa3RWNyntoLM:&amp;tbnh=98&amp;tbnw=75&amp;prev=/images%3Fq%3Ddelier%26gbv%3D2%26svnum%3D10%26hl%3Dn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reewebs.com/doktersassistent/dementie.jpg&amp;imgrefurl=http://www.freewebs.com/doktersassistent/dementie.htm&amp;usg=__wZRm2ekb4OftAhVLwDVUjFHTWSw=&amp;h=259&amp;w=397&amp;sz=6&amp;hl=nl&amp;start=2&amp;sig2=gOwTKy9Z8GtoUYD4ddjTgA&amp;um=1&amp;itbs=1&amp;tbnid=E-dpR8fkfLjA_M:&amp;tbnh=81&amp;tbnw=124&amp;prev=/images%3Fq%3Ddementie%26um%3D1%26hl%3Dnl%26sa%3DN%26tbs%3Disch:1&amp;ei=vUSjS6_OEYqQjAepseXvC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astoralekroes.nl/Dementie/afbeeldingen/Dementie_II_-_Ouderdomsdementie/dementie2.jpg&amp;imgrefurl=http://www.pastoralekroes.nl/Dementie/DementieII-Ouderdomsdemen.html&amp;usg=__RQfQ5NP04QjhIyt6ug_SMfgvP-o=&amp;h=156&amp;w=240&amp;sz=17&amp;hl=nl&amp;start=23&amp;sig2=VOp3ZLePM42dHTZHfbH-Hw&amp;um=1&amp;itbs=1&amp;tbnid=q6rOQPIX_5JpbM:&amp;tbnh=72&amp;tbnw=110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egelderseroos.nl/bestanden/pagina/Dementie.jpg&amp;imgrefurl=http://www.degelderseroos.nl/site/Actueel/Interactie&amp;usg=__SaL7PfJXmNv2A4KGNp08E7AO2Dk=&amp;h=300&amp;w=212&amp;sz=9&amp;hl=nl&amp;start=6&amp;sig2=3FLHd-ceMI_FmhGk9DxZeg&amp;um=1&amp;itbs=1&amp;tbnid=Sjx0YT2PncufGM:&amp;tbnh=116&amp;tbnw=82&amp;prev=/images%3Fq%3Ddementie%26um%3D1%26hl%3Dnl%26sa%3DN%26tbs%3Disch:1&amp;ei=vUSjS6_OEYqQjAepseXvC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laghouse.com/images/orangeGrove4.jpg&amp;imgrefurl=http://www.flaghouse.com/orangeGrove.asp&amp;h=300&amp;w=400&amp;sz=16&amp;hl=nl&amp;start=8&amp;tbnid=K2J6iOKnAvqwtM:&amp;tbnh=93&amp;tbnw=124&amp;prev=/images%3Fq%3Dsnoezelen%26gbv%3D2%26svnum%3D10%26hl%3Dnl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harmaselecta.nl/psonline/images/gijs/weetniet.gif&amp;imgrefurl=http://www.pharmaselecta.nl/site/index.php%3Foption%3Dcom_content%26task%3Dview%26id%3D277%26Itemid%3D53&amp;h=169&amp;w=99&amp;sz=4&amp;hl=nl&amp;start=5&amp;tbnid=ueNawOZnL3grPM:&amp;tbnh=99&amp;tbnw=58&amp;prev=/images%3Fq%3Dgeheugenverlies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s://www2.kuleuven.be/tiki/show_image.php%3Fid%3D138&amp;imgrefurl=https://www2.kuleuven.be/tiki/tiki-index.php%3Fpage%3Dsequencing&amp;h=300&amp;w=464&amp;sz=53&amp;hl=nl&amp;start=5&amp;tbnid=UrVtv6FmJ4644M:&amp;tbnh=83&amp;tbnw=128&amp;prev=/images%3Fq%3Dmoeilijkheden%2Bmet%2Bdenken%26gbv%3D2%26svnum%3D10%26hl%3Dn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images.google.nl/imgres?imgurl=http://www.ikonrtv.nl/uploadedImgs/1boos.jpg&amp;imgrefurl=http://www.ikonrtv.nl/kerknieuws/nieuws.asp%3FoId%3D4265&amp;h=231&amp;w=246&amp;sz=16&amp;hl=nl&amp;start=6&amp;tbnid=uh_w5MYgSBDFyM:&amp;tbnh=103&amp;tbnw=110&amp;prev=/images%3Fq%3Dboos%26gbv%3D2%26svnum%3D10%26hl%3Dn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5A32-C8DD-49BC-9113-5B7C103CFA7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Zorgvragers met dementie: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1260-E7F6-4827-83EB-61EC969CEAC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verige vormen van dementi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oorzaak van dementie hoeft niet altijd in de hersenen te liggen maar kan ook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stoornis in het afweersyste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door zink of alumini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gebre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ng- en nieraandoeni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Picture 6" descr="art_large_590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149720"/>
            <a:ext cx="1170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8B6C-DF08-4222-8E35-049678F12A4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verige vormen van dementi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sakov-synd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oor langdurig alcoholmisbruik en een slechte voedingstoest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hersen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ids dementie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te complicatie bij een klein deel van de niet behandelde HIV patiën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iekte van P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rdt veroorzaakt door een aandoening in het voorste deel van de hersenen, gekenmerkt door ballonvormige zenuw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bij syndroom van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DC80-A57F-4F26-ADC2-93FDEEC5B5C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het dementiesyndroom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eerst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voordoen bij een vorm van dement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tweed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soms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kunnen voordo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92C6-7C04-4F91-BADC-25176BDEA78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mentie:</a:t>
            </a:r>
            <a:br>
              <a:rPr sz="4000"/>
            </a:b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eerste ord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Geheugen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prenting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uwe informatie wordt niet opgesla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ng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herinneringen blijven het langste best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Herken dementie op tijd"/>
          <p:cNvPicPr/>
          <p:nvPr/>
        </p:nvPicPr>
        <p:blipFill>
          <a:blip r:embed="rId1"/>
          <a:stretch/>
        </p:blipFill>
        <p:spPr>
          <a:xfrm>
            <a:off x="6588000" y="4292640"/>
            <a:ext cx="1632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56E0-207B-49D0-92CA-BFF5603BAEA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9900"/>
                </a:solidFill>
                <a:latin typeface="Garamond"/>
              </a:rPr>
              <a:t>Desoriëntatie in: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op welk tijdstip hij zich bevind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waar hij is en raakt de weg kwij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er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amilie en bekenden worden niet meer herk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oms weet men zelfs niet meer wie men zelf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5" descr="Cognitie-g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661000"/>
            <a:ext cx="82080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ubklo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92280"/>
            <a:ext cx="118080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64F9-B873-4C5F-9018-563C10C10FA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a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taalstoor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pressieve afasie (expressie = uitdrukk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eeft moeite met het uiten van woo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t wat hij wil zeggen maar kan het woord niet v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ceptieve afasie (receptie = ontvang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oort de woorden wel, maar begrijpt de betekenis niet m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leesplankje1"/>
          <p:cNvPicPr/>
          <p:nvPr/>
        </p:nvPicPr>
        <p:blipFill>
          <a:blip r:embed="rId1"/>
          <a:stretch/>
        </p:blipFill>
        <p:spPr>
          <a:xfrm>
            <a:off x="6732720" y="549360"/>
            <a:ext cx="19429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C09A-F286-4F54-B0FE-1EAE7D53835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gno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niet meer herkennen van voorwerp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an de zintuigen mankeert niets, maar in het geheugen wordt niet opgeroepen om welk voorwerp het ga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149720"/>
            <a:ext cx="1446480" cy="146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4BAB-DD60-4B7F-97BB-B972B04BEA6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prax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 apraxie is een zorgvrager niet in staat een handeling doelbewust uit te voe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kleding07"/>
          <p:cNvPicPr/>
          <p:nvPr/>
        </p:nvPicPr>
        <p:blipFill>
          <a:blip r:embed="rId1"/>
          <a:stretch/>
        </p:blipFill>
        <p:spPr>
          <a:xfrm>
            <a:off x="1763640" y="3429000"/>
            <a:ext cx="1521000" cy="16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wassen15"/>
          <p:cNvPicPr/>
          <p:nvPr/>
        </p:nvPicPr>
        <p:blipFill>
          <a:blip r:embed="rId2"/>
          <a:stretch/>
        </p:blipFill>
        <p:spPr>
          <a:xfrm>
            <a:off x="4788000" y="3357720"/>
            <a:ext cx="255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ijdelijke aanduiding voor dianumm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2F6F-76BE-40FA-9450-C456DBA653D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tweede ord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ev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onfabul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zamelzu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chterdo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corumver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em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arne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nk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Motorische) on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oonlijkheids-verander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l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87E3-8063-45C7-BE72-BE02703AF0D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ever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rhaling van steeds dezelfde vragen en / of opmerkin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f de zorgvrager vertelt steeds hetzelfde verh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ziekenhuis10"/>
          <p:cNvPicPr/>
          <p:nvPr/>
        </p:nvPicPr>
        <p:blipFill>
          <a:blip r:embed="rId1"/>
          <a:stretch/>
        </p:blipFill>
        <p:spPr>
          <a:xfrm>
            <a:off x="1332000" y="422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ziekenhuis10"/>
          <p:cNvPicPr/>
          <p:nvPr/>
        </p:nvPicPr>
        <p:blipFill>
          <a:blip r:embed="rId2"/>
          <a:stretch/>
        </p:blipFill>
        <p:spPr>
          <a:xfrm>
            <a:off x="3492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ziekenhuis10"/>
          <p:cNvPicPr/>
          <p:nvPr/>
        </p:nvPicPr>
        <p:blipFill>
          <a:blip r:embed="rId3"/>
          <a:stretch/>
        </p:blipFill>
        <p:spPr>
          <a:xfrm>
            <a:off x="5724360" y="422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8CCB-AABE-4CE1-BB75-731D4E61CEF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3" descr="plaquesentangl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43BF-7326-4907-B98F-C345371191E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nfabul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kan zich een bepaald verhaal niet herinneren of is tijdens het vertellen de draad kwijtger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lege plekken in zijn geheugen vult hij op met fantasieë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doet dit volledig ter goeder trou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6A3B-7157-42DF-B66F-FCECA21822C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zamelzuch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zamelen van allerlei voorwerpen en bewaart deze op een voor hem veilige 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wil nog ergens controle over heb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5" descr="index"/>
          <p:cNvPicPr/>
          <p:nvPr/>
        </p:nvPicPr>
        <p:blipFill>
          <a:blip r:embed="rId1"/>
          <a:stretch/>
        </p:blipFill>
        <p:spPr>
          <a:xfrm>
            <a:off x="4284720" y="4437000"/>
            <a:ext cx="12891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D8F8-B333-46E2-80A0-1EFB59FC818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hterdocht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met dementie is erg achterdochtig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1D9D-7A1F-4C23-82A1-80F9184AEBE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corumverl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raakt zijn waarden en normen kwijt en zijn gevoel over wat wel en niet kan betreffende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mgangsvorm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kabouters37"/>
          <p:cNvPicPr/>
          <p:nvPr/>
        </p:nvPicPr>
        <p:blipFill>
          <a:blip r:embed="rId1"/>
          <a:stretch/>
        </p:blipFill>
        <p:spPr>
          <a:xfrm>
            <a:off x="5508720" y="4005360"/>
            <a:ext cx="1568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5146-BC95-45F3-9672-4F65712A406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emmin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path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orgvrager is soezerig en heeft geen aandacht voor hetgeen om hem heen gebeu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press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or lichamelijke of psychische oorza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ufor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genovergestelde van een depres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5" descr="96_206_depress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4221000"/>
            <a:ext cx="809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1DB2-3A06-4358-8ABB-D30F35F4FF3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arnemings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nemingsstoornissen zijn stoornissen van de zintui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ui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e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rrigeren van de waarnemingsstoornis heeft geen zin, omdat de zorgvrager dit als werkelijkheid waarneem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4949-E8C7-4E28-863D-ED24ED7963F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nk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nkstoornissen kunnen zich uiten in de vorm v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aghei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uld is een schone za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coherent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inhoud van het denken is niet meer logi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CCFB-B4FF-4B4F-9E8F-D8E3CFCAC5C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dra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otorische on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slapen55"/>
          <p:cNvPicPr/>
          <p:nvPr/>
        </p:nvPicPr>
        <p:blipFill>
          <a:blip r:embed="rId1"/>
          <a:stretch/>
        </p:blipFill>
        <p:spPr>
          <a:xfrm>
            <a:off x="4788000" y="4724280"/>
            <a:ext cx="1171440" cy="13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ruzie10"/>
          <p:cNvPicPr/>
          <p:nvPr/>
        </p:nvPicPr>
        <p:blipFill>
          <a:blip r:embed="rId2"/>
          <a:stretch/>
        </p:blipFill>
        <p:spPr>
          <a:xfrm>
            <a:off x="5867280" y="2349360"/>
            <a:ext cx="133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152A-31C0-45F7-AE4F-D3C2390FED4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oonlijkheidsverandering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persoonlijkheidsverandering houdt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verandering van karaktereigensc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erping van karaktereigenschapp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mask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4076640"/>
            <a:ext cx="13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D627-700C-443C-AF2D-89F4EB647CE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lier (of delirium)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organisch psychiatrisch synd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ordt gekenmerkt door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inder helder bewustzijn van de omgeving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entratieproblem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gnitieve functie stoornissen (zoals geheugen-, ori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Arial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tatie- en taalstoornisse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oord waak- slaapritm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delier-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5300640"/>
            <a:ext cx="714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A2E2-5834-4E2F-9438-EF72C44A389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t is dementie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is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geen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normaal ouderdomsverschijn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ndroom dat zich kenmerkt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lende cognitieve functie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oenemende aftakeling van psychische func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189000"/>
            <a:ext cx="1944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2F1D-FEE8-4A3E-B4F5-A95FE99A04F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orzaken del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dicijngebru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ekten in de hersenen (infectie, tum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tabole stoorniss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 B 12 tek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EF13-2900-4077-B9D2-12E31BACB83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1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een lichte verwar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2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verwardheid in tijd en lichte geheugen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3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opvallende geheugenstoornissen, zowel bij de inprenting als bij het 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6CC7-73E1-4DB3-A3D7-66B8847C1D6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4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desoriëntatie en het afnemen van het gevoelsleven, decorumverlies en persoonlijkheidsverander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5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dat de zorgvrager volledig onbereikbaar i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5" name="Picture 8" descr="dementi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686480"/>
            <a:ext cx="1655640" cy="10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3DDC-69B1-4727-A47F-667EDD28A1C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Kenmerken 'lichte dementie'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als/dan vraag wordt moeilijker te beantwo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ypothetisch denken neemt af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el ziekte-besef. Geen ziekte-inzich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gocentris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en begrip meer voor formele rege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nige vorm van ontremd gedra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D8BF-736C-447F-9D59-F088CE1F68A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e jong dementerende zorgvrager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ussen 4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en 5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levensja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orzak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kte van Alzhe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ziekte van Pi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chorea van Hunting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reutsfeldt-Jaco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aidsdementia-comple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hronisch alcoholmisbru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DDF9-CFF0-4EEE-BED0-EA04670CB53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lgemene omgangsadviez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mente mensen onthouden vaak w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z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it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rzorgende moet rekening houden m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een onderwerp per z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ngzaam en duidelijk pr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dubbele ontkenn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s duidelijk bij het bel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a conflicten zo veel mogelijk uit de w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act bij corrigeren van de oud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eer schrikken te voor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de zintuigen die goed wer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6CCD-7AE9-4446-AB0F-B22808ADCF1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aliteits Oriëntatie Benad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rme zorg, snoez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miniscen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evingsgerichte z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naderingswijz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9651-C515-4116-A7E4-5ECAB52AB21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stelling van ROB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gemeen doel: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Realiteits Oriëntatie Benadering heeft tot doel een verdere achteruitgang in het contact met en de aanpassing aan de omgeving van de dementerende oudere te voorko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3FD2-54D3-4799-BD0E-1FC9D71374C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ervolg doelstelling van ROB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splitst in 3 specifiekere doel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zo lang mogelijk in stand houden en eventueel verbeteren van lichamelijke, psychische en sociale functies die gestoord zij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bewoners een zodanig leefklimaat bieden dat deze zich vertrouwd voelen met hun omgeving en de mensen om hen h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personeel, familie en bekenden ertoe brengen een zodanige relatie met de bewo­ner op te bouwen dat deze gestimuleerd en geactiveerd wordt tot handelingen en bezigheden waartoe hij nog in staat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5273-4AD0-4F06-87B4-642EDF92DAD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ROB in groepsverban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kleine groep bewoners in een speciale ruimte, waarmee activiteiten gedaan worden, die gericht zijn op de realite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.v. kranten lezen, weerbericht doornemen, elkaars namen noemen, enz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attitude van de verzorgende tijdens de ROB is erg belangrij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loof in stimulerende werking van R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duidigheid in benadering van de bew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en geen betuttelende ho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maken van iedere gelegenheid om het contact met de werkelijkheid te laten hervin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A6CA-ECC6-4405-8229-400D16BBAB4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gnitieve functie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Cognitieve functiestoornissen zijn problemen m.b.t. het waarnemen, taal, geheugen en denk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Dementie">
            <a:hlinkClick r:id="rId1"/>
          </p:cNvPr>
          <p:cNvPicPr/>
          <p:nvPr/>
        </p:nvPicPr>
        <p:blipFill>
          <a:blip r:embed="rId2"/>
          <a:srcRect l="0" t="21668" r="0" b="25839"/>
          <a:stretch/>
        </p:blipFill>
        <p:spPr>
          <a:xfrm>
            <a:off x="6804000" y="4797360"/>
            <a:ext cx="1646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3708-E327-4DF6-8050-EB8958DB52A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999900"/>
                </a:solidFill>
                <a:uFillTx/>
                <a:latin typeface="Garamond"/>
              </a:rPr>
              <a:t>Wat is Validationtherapie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 is een benaderingswijze van de pg bewoner, die zich richt op het bevestigen van eigen gevoelens, van de eigen beleving van het verle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is een benaderingswijze die de bewoner accepteert daar waar hij is, in zijn realiteit en tij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68EB-9E13-46C6-A88B-065E1F85839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oelstellingen validationtherapi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voel van eigen waarde herstellen/terugwin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anning vermind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chtvaardigen van de manier van l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nverwerkte conflicten oplossen uit het verle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ch gelukkiger kunnen voel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56B3-1112-4709-A3B4-AF73BA81BF3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Warme zorg, Snoezele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wereld van dementie schept voortdurend een beleving van dreiging, onveiligheid en ang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vastgelopen geheugen ontneemt de demente zijn vroegere zekerheden. De demente is een vreemdeling geworden in een voor hem vreemde omge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j zoekt oriëntatiepunten. Hij hoopt bescherming, warmte en veiligheid te krijgen. Hij heeft behoefte aan de veiligheid van de eigen ou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D6BE-D27D-4044-B7A2-9B98592C06B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vol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e zorg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"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"Respons Provoting Approach"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men de beleving van de demente bewoner als uitgangsp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doel is een milieu/omgeving te scheppen die tegemo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omt aan de belangrijkste emotionele behoefte van de demente verwarde bewoner: veil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00F3-0BF3-4C92-87E5-E7A6713F6D5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noezel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 een therapievorm die aansluit bij warme zor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 is het primair activeren van diep gestoorden (dementen) door middel van zintuiglijke waarnemingen en ervar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licht, geluid, tast, reuk en sma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p dementen zijn vaak niet te bereiken met ROB of Validationtherapi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geheugen en het denken werkt niet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us een stapje teru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primaire activer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er is het niet belangrijk om b.v. A.D.L. in stand te houden, maar om contact te maken met de bewo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9B73-E095-4181-A80F-B11EE8A954A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tivitei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oppen/knuffelbee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leine huisd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uimtelijke aanpassing: licht, geluid, k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noeien/werken met zachte kneedbare materia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xtiel/ba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orangeGrov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snoezelen2_300"/>
          <p:cNvPicPr/>
          <p:nvPr/>
        </p:nvPicPr>
        <p:blipFill>
          <a:blip r:embed="rId3"/>
          <a:stretch/>
        </p:blipFill>
        <p:spPr>
          <a:xfrm>
            <a:off x="644364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1"/>
          <p:cNvPicPr/>
          <p:nvPr/>
        </p:nvPicPr>
        <p:blipFill>
          <a:blip r:embed="rId4"/>
          <a:stretch/>
        </p:blipFill>
        <p:spPr>
          <a:xfrm>
            <a:off x="3851280" y="4653000"/>
            <a:ext cx="1238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5DB6-7049-406E-9BEC-B545ABA9F1F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eerstand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inderachtig gedoe: bewoner moet toch als volwassene benaderd w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angrijk is dat je de bewoner accepteert op zijn niveau en ingaat op zijn behoeft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heid is vaak een tab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amilie (en personeel) vinden het vaak een schokkende erv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sneoz2"/>
          <p:cNvPicPr/>
          <p:nvPr/>
        </p:nvPicPr>
        <p:blipFill>
          <a:blip r:embed="rId1"/>
          <a:stretch/>
        </p:blipFill>
        <p:spPr>
          <a:xfrm>
            <a:off x="5867280" y="5229360"/>
            <a:ext cx="1181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BFD0-EEDB-4389-A250-AB4A8BB9E82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Reminisc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ij deze benaderingswijze staan de positieve ervaringen centra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nneer je met een bewoner over zijn herinneringen uit het verleden praat, krijg je als verzorgende ook meer inzicht in zijn levenslo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miniscentie is niet alleen het ophalen of opkomen van herinneringen, maar ook erbij stilstaan (reflecti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is dus een terugdenken aan en nadenken over levensgebeurtenissen die men ervaart als behorend tot het lev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724A-6830-4255-BF55-CB2499AA69A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levingsgerichte zorg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belevingsgerichte benadering is een benadering waarbij je rekening houdt met de belevingswereld van de zorgvr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rie oorzaken voor verschillen in belevingswere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schillende vormen van dementie die elk op een eigen manier tot uiting 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rakter voordat de verschijnselen van dementie er w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lke dementerende oudere heeft zijn eigen levensgeschiede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04FF-5AF4-4344-81ED-CDCCA3FE942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FARIA CLOW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7" name="Afbeelding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465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takeling psychische funct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toenemende aftakeling van psychische functies veranderen ingrijpend het gedrag en het karakter van mens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FBA8-198E-4E6E-BB1E-B7A7195E69D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mentie is een verzamelnaam voor een aantal aandoeningen met gemeenschappelijke sympt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AFC5-60D0-4EF5-B54E-A78FB620AE9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00A5-6C5F-4231-8054-9B75D08BC5B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Gemeenschappelijke symptomen van dementie (verzamelnaam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heugenver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lies van ori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ënt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Moeilijkheden met den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Verandering v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weetni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557360"/>
            <a:ext cx="55224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ow_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133720"/>
            <a:ext cx="1218960" cy="7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game-pic3"/>
          <p:cNvPicPr/>
          <p:nvPr/>
        </p:nvPicPr>
        <p:blipFill>
          <a:blip r:embed="rId5"/>
          <a:stretch/>
        </p:blipFill>
        <p:spPr>
          <a:xfrm>
            <a:off x="6227640" y="3141720"/>
            <a:ext cx="716040" cy="1111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3" descr="1boo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4437000"/>
            <a:ext cx="1047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48B1-FDE0-4AE0-B6D7-1CB7BA33E34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0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eniele dementie van het Alzheimer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moedelijk worden de hersencellen verdrongen door aan elkaar geklitte zenuw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orzaak is eiwitstap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gressief verlo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ymptom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lies van interesse in de omge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soriëntatie in tijd en pla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eenvoudigd taalgebru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oonlijkheidsverandering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emmingsstoornissen en denkstoorni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Doorsnede: hersenen bij Alzheimer zijn gekrompen; spraak en geheugen zijn gestoord"/>
          <p:cNvPicPr/>
          <p:nvPr/>
        </p:nvPicPr>
        <p:blipFill>
          <a:blip r:embed="rId1"/>
          <a:stretch/>
        </p:blipFill>
        <p:spPr>
          <a:xfrm>
            <a:off x="6095880" y="2708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19E0-4216-41F1-9914-00E8BD89B39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sculaire dement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adiging van de hersenen door problemen met de bloedvaten, b.v. een C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een trapsgewijs dalend ver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mptomen zijn afhankelijk van de plaats van de beschadigin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heugenstoorniss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fa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lemen met de coördin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3" name="Picture 6" descr="MRI"/>
          <p:cNvPicPr/>
          <p:nvPr/>
        </p:nvPicPr>
        <p:blipFill>
          <a:blip r:embed="rId1"/>
          <a:stretch/>
        </p:blipFill>
        <p:spPr>
          <a:xfrm>
            <a:off x="6948360" y="4365720"/>
            <a:ext cx="94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47:05Z</dcterms:created>
  <dc:creator>Joke Kuyk</dc:creator>
  <dc:description/>
  <dc:language>en-US</dc:language>
  <cp:lastModifiedBy>Koen van Spaandonk</cp:lastModifiedBy>
  <dcterms:modified xsi:type="dcterms:W3CDTF">2012-03-28T11:10:18Z</dcterms:modified>
  <cp:revision>27</cp:revision>
  <dc:subject/>
  <dc:title>Psychogeriatrische zorgvragers:</dc:title>
</cp:coreProperties>
</file>