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F41AA-16FE-4F83-83A2-C83F56EB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2AA2-811B-416C-81C2-8A13D3FD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8EEAB-26BA-412E-B678-51BDE288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F27AD-DEE0-4442-A1FD-5687B38C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B4085-AEA5-492A-8076-9E48A47D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C1598-131A-4C6A-A4B0-57622820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9F1E6-5D57-45CA-917E-4AB4E814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6AAE3-3D03-48DD-B6E4-C3B5DE44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97A02-D864-4CF8-8495-BF1009F2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03021-FEE6-4121-9F06-0FF4339D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F9D80-0ED8-42B1-B983-7780EC4D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AAFC3-5CFF-4637-970F-6880E6BD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7705-A53D-43D1-96C1-5F11424E8550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leuven.be/ftp/thuiszorg%2520senioren.jpg&amp;imgrefurl=http://www.leuven.be/rss.asp%3FiPageID%3D980&amp;h=324&amp;w=283&amp;sz=20&amp;hl=nl&amp;start=1&amp;tbnid=ON6Vo_RqUPoK7M:&amp;tbnh=118&amp;tbnw=103&amp;prev=/images%3Fq%3Dthuiszorg%26gbv%3D2%26svnum%3D10%26hl%3Dn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stagira.nl/files/Image/Thuiszorg_6296.jpg&amp;imgrefurl=http://www.stagira.nl/37_actueel.html&amp;h=242&amp;w=200&amp;sz=93&amp;hl=nl&amp;start=13&amp;tbnid=uwCM2ICAEG-kNM:&amp;tbnh=110&amp;tbnw=91&amp;prev=/images%3Fq%3Dthuiszorg%26gbv%3D2%26svnum%3D10%26hl%3Dn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kalorama.nl/img/blobs/75/10461663600.767218983340175C__1_STUDIO_VAN_DALEN_PROJECTEN_KALORAMA_fotorama_foto_klein_000002.jpg&amp;imgrefurl=http://www.kalorama.nl/index.asp%3FshowMenu%3D4&amp;h=150&amp;w=300&amp;sz=16&amp;hl=nl&amp;start=8&amp;tbnid=-WdvKS-S_HlGpM:&amp;tbnh=58&amp;tbnw=116&amp;prev=/images%3Fq%3Dzorgverlening%26gbv%3D2%26svnum%3D10%26hl%3Dn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koster.nl/kpp/images/stel2.jpg&amp;imgrefurl=http://www.koster.nl/kpp/9812-01.htm&amp;h=131&amp;w=200&amp;sz=10&amp;hl=nl&amp;start=9&amp;tbnid=XFNFFeV4douJtM:&amp;tbnh=68&amp;tbnw=104&amp;prev=/images%3Fq%3Ddubbele%2Bvergrijzing%26gbv%3D2%26svnum%3D10%26hl%3Dn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nederweert.nl/FilesPage/1001368/tdj-logo.jpg&amp;imgrefurl=http://www.nederweert.nl/1001368.asp&amp;h=120&amp;w=120&amp;sz=13&amp;hl=nl&amp;start=2&amp;tbnid=Rv0SfIQdblS9yM:&amp;tbnh=88&amp;tbnw=88&amp;prev=/images%3Fq%3Dtafeltje%2Bdek%2Bje%26gbv%3D2%26svnum%3D10%26hl%3Dnl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nl/imgres?imgurl=http://www.e-spots.nl/images/3452.jpg&amp;imgrefurl=http://076.e-spots.nl/%3Fid%3D3452&amp;h=340&amp;w=313&amp;sz=12&amp;hl=nl&amp;start=19&amp;tbnid=2mNj6Cv6abT4xM:&amp;tbnh=119&amp;tbnw=110&amp;prev=/images%3Fq%3Dgeld%26gbv%3D2%26svnum%3D10%26hl%3Dnl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veendam.nl/md/39/ouderen%2520gym.jpg&amp;imgrefurl=http://www.veendam.nl/nl/pagina/1808/Bewegen_voor%2520ouderen.html%3FPHPSESSID%3Dc7e703adf308c8ad00789875b1f540d8&amp;h=241&amp;w=359&amp;sz=63&amp;hl=nl&amp;start=7&amp;tbnid=_-jweEG7lATZLM:&amp;tbnh=94&amp;tbnw=140&amp;prev=/images%3Fq%3Douderen%26gbv%3D2%26svnum%3D10%26hl%3Dnl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nl/imgres?imgurl=http://www.veilig.nl/images/logo%27s/jurist.gif&amp;imgrefurl=http://www.veilig.nl/producten/cameras_kl.htm&amp;h=160&amp;w=150&amp;sz=9&amp;hl=nl&amp;start=4&amp;tbnid=Bww2kiuAdg9vEM:&amp;tbnh=98&amp;tbnw=92&amp;prev=/images%3Fq%3Djurist%26gbv%3D2%26svnum%3D10%26hl%3Dnl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swonijverdal.nl/Homeplaatjes/internetcafe.jpg&amp;imgrefurl=http://www.swonijverdal.nl/internet-internetcirkel.html&amp;h=420&amp;w=560&amp;sz=89&amp;hl=nl&amp;start=3&amp;tbnid=ZWxF1hNYXXttmM:&amp;tbnh=112&amp;tbnw=150&amp;prev=/images%3Fq%3Dinternetcafe%26gbv%3D2%26svnum%3D10%26hl%3Dnl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nl/imgres?imgurl=http://www.caboamsterdam.nl/Turk%2520Vr1.jpg&amp;imgrefurl=http://www.caboamsterdam.nl/over%2520oudere%2520migranten/Over%2520oudere%2520migranten.htm&amp;h=300&amp;w=400&amp;sz=120&amp;hl=nl&amp;start=4&amp;tbnid=PpKIQGxWhs1fSM:&amp;tbnh=93&amp;tbnw=124&amp;prev=/images%3Fq%3Dmigranten%26gbv%3D2%26svnum%3D10%26hl%3Dnl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Maatschappelijke ontwikkelingen van de oudere zorgvrager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Geriatrische zorgvrag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Zor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vraag om zorg op maat wordt ingevuld via de commerciële thuiszorg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oordeel: minder lange wachtlijs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Nadeel: hogere kosten, niet altijd volledig vergo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en aantal instellingen springt hier ook al op i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zorg is precies afgemeten op de individuele wens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4" name="Picture 5" descr="thuiszorg%2520senior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5229360"/>
            <a:ext cx="981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on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willen zo lang mogelijk zelfstandig blijv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nsen vinden hier op creatieve manieren oplossingen voo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Woongroep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leinschalige woonvorm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7" name="Picture 5" descr="Thuiszorg_62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450864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675e47"/>
                </a:solidFill>
                <a:latin typeface="Cambria"/>
              </a:rPr>
              <a:t>De oudere in de multiculturele samenleving</a:t>
            </a:r>
            <a:endParaRPr b="0" lang="en-US" sz="3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Nederland is multiculturee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e Nederlandse cultuur wordt hierdoor beïnvloe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lke cultuur heeft specifieke kenmerken en vraag zijn eigen aanpak in de zor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Aandacht voor de normen en waarden is heel belangrijk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eef duidelijk aan wie je bent en wat je komt do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a respectvol om met andere gewoont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Famili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Familie is voor iedereen belangrijk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Familiebanden zijn in veel culturen veel hechter dan de Nederlandse, men draagt ook bij in de zorg voor elkaa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Respecteer de aanwezigheid van famili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Raadpleeg de familie bij het nemen van beslissing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Informeer de familie over de stand van zak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ou je buiten familieaangelegenhed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Betrek de familie bij de zor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2" name="Picture 5" descr="familie01"/>
          <p:cNvPicPr/>
          <p:nvPr/>
        </p:nvPicPr>
        <p:blipFill>
          <a:blip r:embed="rId1"/>
          <a:stretch/>
        </p:blipFill>
        <p:spPr>
          <a:xfrm>
            <a:off x="7164360" y="5013360"/>
            <a:ext cx="11811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verlij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eder geloof kent zijn eigen rituel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Raadpleeg de familie over mogelijke wens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oe de nodige handelingen in overleg met de famili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Bewaar een professionele afstan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Laat de familie vrij om te beslissen om zaken met jou te besprek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Interculturele communicati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Anderstalig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Familieleden tolk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Tolken telefo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eperkt Nederlands sprek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preek duidelijk in korte zinn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eg belangrijke dingen eers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oud oogcontac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Controleer of de zorgvragen alles begrijp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Taalbetekenis verschillend gebruik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ommige woorden hebben andere betekenissen in andere cultu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7" name="Picture 5" descr="bruegel_babel2_grt"/>
          <p:cNvPicPr/>
          <p:nvPr/>
        </p:nvPicPr>
        <p:blipFill>
          <a:blip r:embed="rId1"/>
          <a:stretch/>
        </p:blipFill>
        <p:spPr>
          <a:xfrm>
            <a:off x="7164360" y="2637000"/>
            <a:ext cx="1314360" cy="10857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6"/>
          <p:cNvSpPr/>
          <p:nvPr/>
        </p:nvSpPr>
        <p:spPr>
          <a:xfrm rot="10800000">
            <a:off x="8532360" y="6453000"/>
            <a:ext cx="360360" cy="215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9a57c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675e47"/>
                </a:solidFill>
                <a:latin typeface="Cambria"/>
              </a:rPr>
              <a:t>Maatschappelijke ontwikkelingen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Recess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et economische klimaat is aan het verander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Terroristische aanslagen hebben zaken negatief beïnvloed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Prijsstijgingen zorgen voor een verminderde koopkrach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werkeloosheid is toegenom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r wordt bezuinig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r is minder geld beschikbaar in de zor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Picture 7" descr="werkloosheid"/>
          <p:cNvPicPr/>
          <p:nvPr/>
        </p:nvPicPr>
        <p:blipFill>
          <a:blip r:embed="rId1"/>
          <a:stretch/>
        </p:blipFill>
        <p:spPr>
          <a:xfrm>
            <a:off x="7812000" y="1484280"/>
            <a:ext cx="1112760" cy="1695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De politie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r zijn meer ouderen en zij zijn mondiger dan vroeg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Het kabinet wil mensen zelf de verantwoording alten dragen voor hun eigen leven en de mensen om hen he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Keuzevrijheid en zelfredzaamheid staan voorop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Maatregelen gericht op de ouderen in de maatschappij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orgen voor een toereikend inkom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orgen voor geschikte huisvest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orgen voor adequate zorgverlen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5" descr="Nico Visscher - Peter R. de Vries stort zich in de politiek"/>
          <p:cNvPicPr/>
          <p:nvPr/>
        </p:nvPicPr>
        <p:blipFill>
          <a:blip r:embed="rId1"/>
          <a:stretch/>
        </p:blipFill>
        <p:spPr>
          <a:xfrm>
            <a:off x="6804000" y="5157720"/>
            <a:ext cx="20509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ociale aspec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groep ouderen wordt steeds grote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is niet meer vanzelfsprekend dat ouderen in het gezin van hun kinderen worden opgenom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die iets gaan mankeren doen eerder een beroep op professionele zorgverleners en sociale voorzienin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3" name="Picture 5" descr="104616636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5661000"/>
            <a:ext cx="16556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Demografische ontwikkeling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Het beleid van de overheid is gericht op een goed leefklimaat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eld voor onderwijs, werkgelegenheid enz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emografie is de wetenschap die zich bezig houdt met de opbouw, samenstelling en ontwikkeling van de bevolk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Momenteel hebben we te maken met de z.g.n. dubbele vergrijzing, met alle gevolgen van dien voor de maatschappij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Meer mensen leven lang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Er worden minder kinderen gebo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6" name="Picture 5" descr="stel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5373720"/>
            <a:ext cx="9903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Emancipatie process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waren vroeger afhankelijk van de ontwikkelingen zoals die werden gebod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Tegenwoordig wordt meer rekening gehouden met individuele wens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willen gelijkwaardig behandeld worden en emancip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it komt op een aantal vlakken tot uiting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9" name="Picture 7" descr="TSOBII-ouderen"/>
          <p:cNvPicPr/>
          <p:nvPr/>
        </p:nvPicPr>
        <p:blipFill>
          <a:blip r:embed="rId1"/>
          <a:srcRect l="0" t="29358" r="16684" b="4404"/>
          <a:stretch/>
        </p:blipFill>
        <p:spPr>
          <a:xfrm>
            <a:off x="6877080" y="5589720"/>
            <a:ext cx="17272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elzij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Ouderen worden een aantal diensten geboden die hen ondersteunen in hun zelfstandigheid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 ouderenadviseu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ier kan men terecht voor praktische zaken.                                        De adviseur is op de hoogte van alle voorzieningen voor ouderen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Welzijnsorganisaties voor oud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Info over voorzieningen m.b.t. huisvesting, financiën, vrijetijdsbesteding, zor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ctiviteiten en cursuss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ortdurende individuele hulpverl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anvragen van thuisbezorgde maaltijd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2" name="Picture 5" descr="tdj-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5445000"/>
            <a:ext cx="838080" cy="838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3" name="Picture 7" descr="345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12000" y="3500280"/>
            <a:ext cx="1047960" cy="1133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elzij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Sociale netwerk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Bemiddeling tussen ouderen die activiteiten willen ondernem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Ondersteunen en activeren van ouderen ter voorkoming van eenzaamhei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Cursussen organis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Begeleiding bij verliesverwerk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Wijk winkel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ulp en informatie op juridisch en sociaal vla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ulp bij invullen van belastingpapi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aak hebben ze een maatschappelijk werker en een sociaal raadsma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6" name="Picture 6" descr="ouderen%2520gy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3213000"/>
            <a:ext cx="1333440" cy="895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juris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5661000"/>
            <a:ext cx="8762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elzij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aatschappelijk werk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en onafhankelijk luisterend oor die zijn eg kent door de bureaucratische werel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aak ook specialisten voor anderstalig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 migrante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ennen vaak een eigen netwerk van welzijnsinstanti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dia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et internet!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0" name="Picture 6" descr="internetcaf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537372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Turk%2520Vr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3573360"/>
            <a:ext cx="11808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9:39:04Z</dcterms:created>
  <dc:creator>nef</dc:creator>
  <dc:description/>
  <dc:language>en-US</dc:language>
  <cp:lastModifiedBy>Koen van Spaandonk</cp:lastModifiedBy>
  <dcterms:modified xsi:type="dcterms:W3CDTF">2012-03-28T10:48:58Z</dcterms:modified>
  <cp:revision>14</cp:revision>
  <dc:subject/>
  <dc:title>Verpleegkunde 309</dc:title>
</cp:coreProperties>
</file>