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041D-0964-42D2-9EAA-66E7DCBE1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4841-A7A4-4212-8F41-1863BA564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1012-AD8E-47BB-8440-9EA4B0270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1D4F-E1AC-461A-92D0-4E86A7953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7533-B744-4589-B63B-272F94DA8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DC6A-5E65-4D88-829E-2C9F36B59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E66F-20F8-44FD-965B-1D467B0CE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2F3F-ABD1-47E0-8240-87BC61E09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60B9-9ECA-4A67-87D3-0A239C815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AEB2-11BD-4DAE-AA8F-C75F341D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B615-3E0D-4D45-8562-AB49C22E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E46D-E389-41F0-967F-72C55362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6E6C7-F6C3-4EF5-91F7-302FB06571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ante snel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71280" y="3886200"/>
            <a:ext cx="6800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las 2 m en herhaling voor klas 3 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ante snelhe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195800" y="2206800"/>
          <a:ext cx="4195800" cy="33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5800" y="2206800"/>
                    <a:ext cx="419580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13360" y="1746360"/>
            <a:ext cx="3753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e ziet hier een diagram waar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en constante snelheid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fgebeel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t voorwerp beweegt de eer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s met een snelheid van 2,5 m/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ierna staat het 1 s st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 t=3s begint het voorw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chteruit te gaan met 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nelheid van 5 m/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- is hier achteru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003640" y="2997360"/>
            <a:ext cx="1584360" cy="144360"/>
          </a:xfrm>
          <a:prstGeom prst="rightArrow">
            <a:avLst>
              <a:gd name="adj1" fmla="val 50000"/>
              <a:gd name="adj2" fmla="val 2743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497640" y="3078000"/>
            <a:ext cx="142920" cy="648000"/>
          </a:xfrm>
          <a:prstGeom prst="downArrow">
            <a:avLst>
              <a:gd name="adj1" fmla="val 50000"/>
              <a:gd name="adj2" fmla="val 11335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88000" y="3645000"/>
            <a:ext cx="792360" cy="144360"/>
          </a:xfrm>
          <a:prstGeom prst="rightArrow">
            <a:avLst>
              <a:gd name="adj1" fmla="val 50000"/>
              <a:gd name="adj2" fmla="val 13721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08720" y="3726000"/>
            <a:ext cx="144720" cy="1368360"/>
          </a:xfrm>
          <a:prstGeom prst="downArrow">
            <a:avLst>
              <a:gd name="adj1" fmla="val 50000"/>
              <a:gd name="adj2" fmla="val 23638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80360" y="4989600"/>
            <a:ext cx="792000" cy="144360"/>
          </a:xfrm>
          <a:prstGeom prst="rightArrow">
            <a:avLst>
              <a:gd name="adj1" fmla="val 50000"/>
              <a:gd name="adj2" fmla="val 1371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bereken je de afgelegde we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940200" y="2009880"/>
          <a:ext cx="4195800" cy="33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40200" y="2009880"/>
                    <a:ext cx="419580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427640" y="3500280"/>
            <a:ext cx="1117440" cy="2071800"/>
          </a:xfrm>
          <a:custGeom>
            <a:avLst/>
            <a:gdLst>
              <a:gd name="textAreaLeft" fmla="*/ 320760 w 1117440"/>
              <a:gd name="textAreaRight" fmla="*/ 957240 w 1117440"/>
              <a:gd name="textAreaTop" fmla="*/ 1497960 h 2071800"/>
              <a:gd name="textAreaBottom" fmla="*/ 1774440 h 2071800"/>
            </a:gdLst>
            <a:ahLst/>
            <a:rect l="textAreaLeft" t="textAreaTop" r="textAreaRight" b="textAreaBottom"/>
            <a:pathLst>
              <a:path w="21600" h="21600">
                <a:moveTo>
                  <a:pt x="0" y="17059"/>
                </a:moveTo>
                <a:lnTo>
                  <a:pt x="6200" y="12517"/>
                </a:lnTo>
                <a:lnTo>
                  <a:pt x="6200" y="15617"/>
                </a:lnTo>
                <a:lnTo>
                  <a:pt x="15617" y="15617"/>
                </a:lnTo>
                <a:lnTo>
                  <a:pt x="15617" y="6200"/>
                </a:lnTo>
                <a:lnTo>
                  <a:pt x="12517" y="6200"/>
                </a:lnTo>
                <a:lnTo>
                  <a:pt x="17059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oppervlak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1125360"/>
            <a:ext cx="3232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 afgelegde weg kun 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 twee manieren u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ken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 Bereken het oppervl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Met de formule s=v x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raag: Hoeveel legt h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oorwerp af in de eer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 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pervlak is 2 x 2,5= 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=2,5 m/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=v x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=2 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=2,5 x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= 5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45160" y="2852640"/>
            <a:ext cx="1584360" cy="68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ante snel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 rot="232800">
            <a:off x="539280" y="1628640"/>
            <a:ext cx="2633760" cy="2254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203640" y="1557360"/>
            <a:ext cx="55450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 konijntje dat je hier ziet lopen heef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n proble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t konijn is incontin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 laat om de 0,02 s een druppel urine vall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dat het konijn met dezelfde snelheid huppelt, vallen de druppels ook om zelfde afst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thoud: zijn de stippen op dezelfde afstand van elkaar dan is de snelheid constant (hetzelfd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e bereken je een constante snelhei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 rot="232800">
            <a:off x="539280" y="1557360"/>
            <a:ext cx="2633760" cy="22543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765960" y="1865160"/>
            <a:ext cx="480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it de afbeelding kun je lezen dat de drupp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m de 0.02 s vall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zegt dus: t=0,02 s tussen twee drupp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 moet je nog de afstand tussen de tw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uppels we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3645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3573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87280" y="357336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19280" y="3573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87280" y="4437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73080" y="4653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6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59080" y="4097160"/>
            <a:ext cx="2349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 wil je wet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(de snelheid in m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 is gegev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=1,6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=0,02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eken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4716360" y="5734080"/>
                <a:ext cx="304812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,6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eken de snelheid van een pu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924360" y="1700280"/>
            <a:ext cx="4524480" cy="15746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24000" y="1557360"/>
            <a:ext cx="345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n puck glijdt over superglad ijs. Van de puck maakt men in het donker een stroboscoopfoto. De stroboscoop geeft om de 0,5 s een lichtfli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76720" y="249228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27640" y="2492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76720" y="3716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73640" y="37368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2880" y="3592440"/>
            <a:ext cx="3856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eken de snelheid van deze pu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vraagd: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geve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=0,5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=3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reken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050920" y="5516640"/>
                <a:ext cx="208944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0,5</m:t>
                        </m:r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cm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4573800" y="5516640"/>
            <a:ext cx="17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 is 0,06 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dMC- open method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4T15:25:23Z</dcterms:created>
  <dc:creator>J.G. Hensen</dc:creator>
  <dc:description/>
  <dc:language>en-US</dc:language>
  <cp:lastModifiedBy>rslvhm</cp:lastModifiedBy>
  <dcterms:modified xsi:type="dcterms:W3CDTF">2008-11-13T11:09:48Z</dcterms:modified>
  <cp:revision>13</cp:revision>
  <dc:subject/>
  <dc:title>Constante snelheid</dc:title>
</cp:coreProperties>
</file>