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4C78-8CCB-407E-A37E-BA1ABC3F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4A5C-81F8-4E0C-B097-706E2AE0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956C-6EED-433B-9ADA-03578E88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DF2B-AC04-45B9-AA1D-ADA8A359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5309-CA9A-4AF9-9462-16D620D8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1F7C-A257-4059-80C6-45C1640C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25DA-6385-4724-A04F-9D81D014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0ED1-ED71-4356-BEA8-08AA8E01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187F-AC16-41E3-A077-B22BFA9C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1849-BC22-4E8D-B0E3-B131FD15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FD3A-8B91-4573-9EDD-D87C6759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02F9-ACA1-4EB5-BB1B-903E3343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482E-EF71-4468-A18A-78A41CF3A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6800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s 2 m en herhaling voor klas 3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195800" y="220680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5800" y="220680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13360" y="1746360"/>
            <a:ext cx="375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e ziet hier een diagram waa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n constante snelheid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gebee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t voorwerp beweegt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 met een snelheid van 2,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erna staat het 1 s st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=3s begint het voorw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hteruit te gaan met 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nelheid van 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- is hier achter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299736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97640" y="3078000"/>
            <a:ext cx="142920" cy="648000"/>
          </a:xfrm>
          <a:prstGeom prst="downArrow">
            <a:avLst>
              <a:gd name="adj1" fmla="val 50000"/>
              <a:gd name="adj2" fmla="val 1133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364500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3726000"/>
            <a:ext cx="144720" cy="1368360"/>
          </a:xfrm>
          <a:prstGeom prst="downArrow">
            <a:avLst>
              <a:gd name="adj1" fmla="val 50000"/>
              <a:gd name="adj2" fmla="val 2363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360" y="498960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bereken je de afgelegde we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40200" y="200988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40200" y="200988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427640" y="3500280"/>
            <a:ext cx="1117440" cy="2071800"/>
          </a:xfrm>
          <a:custGeom>
            <a:avLst/>
            <a:gdLst>
              <a:gd name="textAreaLeft" fmla="*/ 320760 w 1117440"/>
              <a:gd name="textAreaRight" fmla="*/ 957240 w 1117440"/>
              <a:gd name="textAreaTop" fmla="*/ 1497960 h 2071800"/>
              <a:gd name="textAreaBottom" fmla="*/ 177444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17059"/>
                </a:moveTo>
                <a:lnTo>
                  <a:pt x="6200" y="12517"/>
                </a:lnTo>
                <a:lnTo>
                  <a:pt x="6200" y="15617"/>
                </a:lnTo>
                <a:lnTo>
                  <a:pt x="15617" y="15617"/>
                </a:lnTo>
                <a:lnTo>
                  <a:pt x="15617" y="6200"/>
                </a:lnTo>
                <a:lnTo>
                  <a:pt x="12517" y="6200"/>
                </a:lnTo>
                <a:lnTo>
                  <a:pt x="17059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oppervlak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3232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afgelegde weg kun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wee manieren 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ke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Bereken het 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Met de formule 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raag: Hoeveel legt h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orwerp af in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pervlak is 2 x 2,5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=2,5 m/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=2 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2,5 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45160" y="2852640"/>
            <a:ext cx="1584360" cy="68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232800">
            <a:off x="539280" y="162864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03640" y="1557360"/>
            <a:ext cx="554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konijntje dat je hier ziet lopen he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roble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t konijn is incontin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laat om de 0,02 s een druppel urine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dat het konijn met dezelfde snelheid huppelt, vallen de druppels ook om zelfde afst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houd: zijn de stippen op dezelfde afstand van elkaar dan is de snelheid constant (hetzelf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bereken je een constante snelhe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32800">
            <a:off x="539280" y="155736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65960" y="1865160"/>
            <a:ext cx="480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t de afbeelding kun je lezen dat de drupp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 de 0.02 s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zegt dus: t=0,02 s tussen twee drupp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 moet je nog de afstand tussen de tw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ppels we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357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35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44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3080" y="465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59080" y="4097160"/>
            <a:ext cx="234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wil je we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(de snelheid in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is gegev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02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716360" y="5734080"/>
                <a:ext cx="30481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,6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snelheid van een p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24360" y="1700280"/>
            <a:ext cx="4524480" cy="1574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155736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uck glijdt over superglad ijs. Van de puck maakt men in het donker een stroboscoopfoto. De stroboscoop geeft om de 0,5 s een lichtfl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2492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720" y="37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73640" y="37368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2880" y="3592440"/>
            <a:ext cx="385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 de snelheid van deze pu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raagd: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gev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5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050920" y="5516640"/>
                <a:ext cx="20894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,5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573800" y="551664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 is 0,06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15:25:23Z</dcterms:created>
  <dc:creator>J.G. Hensen</dc:creator>
  <dc:description/>
  <dc:language>en-US</dc:language>
  <cp:lastModifiedBy>rslvhm</cp:lastModifiedBy>
  <dcterms:modified xsi:type="dcterms:W3CDTF">2008-11-13T11:09:48Z</dcterms:modified>
  <cp:revision>13</cp:revision>
  <dc:subject/>
  <dc:title>Constante snelheid</dc:title>
</cp:coreProperties>
</file>