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96F16-160A-4C94-8E8B-E04BBAB64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143BC-16AA-45E2-AE75-EA2288921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79264-CBE8-468A-B753-1DC5ECDBE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E62EC-14C6-4934-8215-4BE906CF0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4E864-1253-487F-8DE8-8D038048A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6D464-7091-481C-B220-05613F3F0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2BED3-F617-494B-8917-7153A9F09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97361-C2D9-405E-8341-A9BBD9CC4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27CD4-E360-4187-9F2B-29E8E3E49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C37B4-EBB9-4E35-9E4D-607146EE6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16C44-1411-40C4-AD5A-FCEDCD77A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E6D59-9812-4DE3-9A8F-A8D3A711B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D1603-DDD9-4E6E-8298-29CE3EA460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stante snelhe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71280" y="3886200"/>
            <a:ext cx="6800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las 2 m en herhaling voor klas 3 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ante snelhei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4195800" y="2206800"/>
          <a:ext cx="4195800" cy="331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5800" y="2206800"/>
                    <a:ext cx="4195800" cy="331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13360" y="1746360"/>
            <a:ext cx="3753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Je ziet hier een diagram waar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en constante snelheid i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fgebeel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t voorwerp beweegt de eers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 s met een snelheid van 2,5 m/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ierna staat het 1 s sti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p t=3s begint het voorw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chteruit te gaan met e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nelheid van 5 m/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- is hier achterui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003640" y="2997360"/>
            <a:ext cx="1584360" cy="144360"/>
          </a:xfrm>
          <a:prstGeom prst="rightArrow">
            <a:avLst>
              <a:gd name="adj1" fmla="val 50000"/>
              <a:gd name="adj2" fmla="val 27437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497640" y="3078000"/>
            <a:ext cx="142920" cy="648000"/>
          </a:xfrm>
          <a:prstGeom prst="downArrow">
            <a:avLst>
              <a:gd name="adj1" fmla="val 50000"/>
              <a:gd name="adj2" fmla="val 11335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588000" y="3645000"/>
            <a:ext cx="792360" cy="144360"/>
          </a:xfrm>
          <a:prstGeom prst="rightArrow">
            <a:avLst>
              <a:gd name="adj1" fmla="val 50000"/>
              <a:gd name="adj2" fmla="val 13721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308720" y="3726000"/>
            <a:ext cx="144720" cy="1368360"/>
          </a:xfrm>
          <a:prstGeom prst="downArrow">
            <a:avLst>
              <a:gd name="adj1" fmla="val 50000"/>
              <a:gd name="adj2" fmla="val 23638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380360" y="4989600"/>
            <a:ext cx="792000" cy="144360"/>
          </a:xfrm>
          <a:prstGeom prst="rightArrow">
            <a:avLst>
              <a:gd name="adj1" fmla="val 50000"/>
              <a:gd name="adj2" fmla="val 13715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dMC- open method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e bereken je de afgelegde we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3940200" y="2009880"/>
          <a:ext cx="4195800" cy="331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40200" y="2009880"/>
                    <a:ext cx="4195800" cy="331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427640" y="3500280"/>
            <a:ext cx="1117440" cy="2071800"/>
          </a:xfrm>
          <a:custGeom>
            <a:avLst/>
            <a:gdLst>
              <a:gd name="textAreaLeft" fmla="*/ 320760 w 1117440"/>
              <a:gd name="textAreaRight" fmla="*/ 957240 w 1117440"/>
              <a:gd name="textAreaTop" fmla="*/ 1497960 h 2071800"/>
              <a:gd name="textAreaBottom" fmla="*/ 1774440 h 2071800"/>
            </a:gdLst>
            <a:ahLst/>
            <a:rect l="textAreaLeft" t="textAreaTop" r="textAreaRight" b="textAreaBottom"/>
            <a:pathLst>
              <a:path w="21600" h="21600">
                <a:moveTo>
                  <a:pt x="0" y="17059"/>
                </a:moveTo>
                <a:lnTo>
                  <a:pt x="6200" y="12517"/>
                </a:lnTo>
                <a:lnTo>
                  <a:pt x="6200" y="15617"/>
                </a:lnTo>
                <a:lnTo>
                  <a:pt x="15617" y="15617"/>
                </a:lnTo>
                <a:lnTo>
                  <a:pt x="15617" y="6200"/>
                </a:lnTo>
                <a:lnTo>
                  <a:pt x="12517" y="6200"/>
                </a:lnTo>
                <a:lnTo>
                  <a:pt x="17059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Verdana"/>
              </a:rPr>
              <a:t>oppervlak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50920" y="1125360"/>
            <a:ext cx="323208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e afgelegde weg kun 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p twee manieren ui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ken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 Bereken het oppervl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 Met de formule s=v x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Vraag: Hoeveel legt h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Voorwerp af in de eers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 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ppervlak is 2 x 2,5= 5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F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v=2,5 m/s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=v x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=2 s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=2,5 x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= 5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45160" y="2852640"/>
            <a:ext cx="1584360" cy="681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dMC- open method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5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5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5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5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5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5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5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5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5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5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5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5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5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5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5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stante snelhe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 rot="232800">
            <a:off x="539280" y="1628640"/>
            <a:ext cx="2633760" cy="22543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3203640" y="1557360"/>
            <a:ext cx="55450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t konijntje dat je hier ziet lopen heef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en proble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t konijn is incontin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t laat om de 0,02 s een druppel urine vall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mdat het konijn met dezelfde snelheid huppelt, vallen de druppels ook om zelfde afsta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thoud: zijn de stippen op dezelfde afstand van elkaar dan is de snelheid constant (hetzelfd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dMC- open method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e bereken je een constante snelhei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 rot="232800">
            <a:off x="539280" y="1557360"/>
            <a:ext cx="2633760" cy="22543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3765960" y="1865160"/>
            <a:ext cx="4806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it de afbeelding kun je lezen dat de drupp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m de 0.02 s vall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 zegt dus: t=0,02 s tussen twee druppe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 moet je nog de afstand tussen de twe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uppels wet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16000" y="3645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35733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187280" y="3573360"/>
            <a:ext cx="0" cy="107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619280" y="357336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187280" y="4437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973080" y="465300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,6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59080" y="4097160"/>
            <a:ext cx="2349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t wil je wete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 (de snelheid in m/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t is gegeve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=1,6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=0,02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rekenin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4716360" y="5734080"/>
                <a:ext cx="3048120" cy="85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,6</m:t>
                        </m:r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num>
                      <m:den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2</m:t>
                        </m:r>
                        <m:r>
                          <m:t xml:space="preserve">s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80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dMC- open method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10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1000"/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reken de snelheid van een pu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3924360" y="1700280"/>
            <a:ext cx="4524480" cy="157464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324000" y="1557360"/>
            <a:ext cx="3456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en puck glijdt over superglad ijs. Van de puck maakt men in het donker een stroboscoopfoto. De stroboscoop geeft om de 0,5 s een lichtfli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076720" y="2492280"/>
            <a:ext cx="0" cy="151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227640" y="2492280"/>
            <a:ext cx="0" cy="144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076720" y="371628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273640" y="37368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52880" y="3592440"/>
            <a:ext cx="3856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reken de snelheid van deze puc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vraagd: 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geve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=0,5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=3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rekenin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2050920" y="5516640"/>
                <a:ext cx="2089440" cy="65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num>
                      <m:den>
                        <m:r>
                          <m:t xml:space="preserve">0,5</m:t>
                        </m:r>
                        <m:r>
                          <m:t xml:space="preserve">s</m:t>
                        </m:r>
                      </m:den>
                    </m:f>
                    <m:r>
                      <m:t xml:space="preserve">=</m:t>
                    </m:r>
                    <m:r>
                      <m:t xml:space="preserve">6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1" name=""/>
          <p:cNvSpPr/>
          <p:nvPr/>
        </p:nvSpPr>
        <p:spPr>
          <a:xfrm>
            <a:off x="4573800" y="5516640"/>
            <a:ext cx="170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 is 0,06 m/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dMC- open method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1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10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1000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1000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2" dur="1000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1000"/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24T15:25:23Z</dcterms:created>
  <dc:creator>J.G. Hensen</dc:creator>
  <dc:description/>
  <dc:language>en-US</dc:language>
  <cp:lastModifiedBy>rslvhm</cp:lastModifiedBy>
  <dcterms:modified xsi:type="dcterms:W3CDTF">2008-11-13T11:09:48Z</dcterms:modified>
  <cp:revision>13</cp:revision>
  <dc:subject/>
  <dc:title>Constante snelheid</dc:title>
</cp:coreProperties>
</file>