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F3C-837D-45C6-BFD7-D546B854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985-9452-4782-B095-09A620E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CC0-22D9-4737-B6CC-B7B1B4A7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1FF-769C-423C-82DC-269D46BA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A6F-CA65-4C65-A163-CF017199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193-828C-4873-ABB7-388E3697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154-1962-4841-A4FC-CACB9CBB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43E-DBD1-4CFC-A4E9-05F7CA3B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2C2F-995A-4FE5-B5B4-CFE16BCF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06C-51F5-4AE5-93FF-D068FD2F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EE16-A12E-4A96-B615-2863D981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F57-16D2-488A-A72F-900CAF34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02A9-599C-448B-BB2F-12A6BD49C2D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53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ar is mijn Bulldozer naar to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443664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iehier wat er kan gebeuren als je even niet op je tellen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BPUZZLD"/>
          <p:cNvPicPr/>
          <p:nvPr/>
        </p:nvPicPr>
        <p:blipFill>
          <a:blip r:embed="rId1"/>
          <a:stretch/>
        </p:blipFill>
        <p:spPr>
          <a:xfrm>
            <a:off x="3995640" y="1773360"/>
            <a:ext cx="1042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UZZLD2"/>
          <p:cNvPicPr/>
          <p:nvPr/>
        </p:nvPicPr>
        <p:blipFill>
          <a:blip r:embed="rId1"/>
          <a:stretch/>
        </p:blipFill>
        <p:spPr>
          <a:xfrm>
            <a:off x="4140360" y="3500280"/>
            <a:ext cx="1038240" cy="229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05120" y="1125360"/>
            <a:ext cx="556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ar waar is mijn bulldozer gebleven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ven uit het oog verlo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k zie hem a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URPZD"/>
          <p:cNvPicPr/>
          <p:nvPr/>
        </p:nvPicPr>
        <p:blipFill>
          <a:blip r:embed="rId1"/>
          <a:stretch/>
        </p:blipFill>
        <p:spPr>
          <a:xfrm>
            <a:off x="3851280" y="1844640"/>
            <a:ext cx="268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52280" y="3860640"/>
            <a:ext cx="89917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aar boven, op dat grote rad 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BPOINT4"/>
          <p:cNvPicPr/>
          <p:nvPr/>
        </p:nvPicPr>
        <p:blipFill>
          <a:blip r:embed="rId1"/>
          <a:stretch/>
        </p:blipFill>
        <p:spPr>
          <a:xfrm>
            <a:off x="5003640" y="981000"/>
            <a:ext cx="1020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0878"/>
          <p:cNvPicPr/>
          <p:nvPr/>
        </p:nvPicPr>
        <p:blipFill>
          <a:blip r:embed="rId1"/>
          <a:stretch/>
        </p:blipFill>
        <p:spPr>
          <a:xfrm>
            <a:off x="468360" y="784080"/>
            <a:ext cx="7775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0885"/>
          <p:cNvPicPr/>
          <p:nvPr/>
        </p:nvPicPr>
        <p:blipFill>
          <a:blip r:embed="rId1"/>
          <a:stretch/>
        </p:blipFill>
        <p:spPr>
          <a:xfrm>
            <a:off x="324000" y="33336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0880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67280" y="40464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terpillar D8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cht: 32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0882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TC_0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TF_0905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B_090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_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0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_0912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ar er is nog een ander speelgoedje in de buu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e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0000"/>
                </a:solidFill>
                <a:latin typeface="Arial"/>
              </a:rPr>
              <a:t>The Ultimate Earth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109404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ltimate Earth Mover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De Ultimate Earth Mover is de grootste machine ter wereld. Ze werd gebouwd door de Duitse machinebouwer KRU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m de machine te verplaatsen moet ze volledig worden afgebroken, getransporteerd en opnieuw gemonteerd worden op de w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llegra[1]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600" y="140400"/>
            <a:ext cx="93675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aties: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95m hoog, 215m lang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45 ton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ostprijs 100 miljoen $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studiewerk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assemblage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machinebedieners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Het scheprad heeft een diameter van 21m en 20 sch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met elk een inhoud van 15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Iemand van 1m82 kan rechtop staan in zo’n schoep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12 rupsbanden brengen het gevaarte in bewe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(ieder heeft een breedte van 3.6m, 2.4m hoogte en 14m lengte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Er zijn 8 rupsbanden vooraan en 4 achteraan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Maximale snelheid : 0.5km per uur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an 76500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 grond scheppen per dag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7:43:37Z</dcterms:created>
  <dc:creator>Bewerking: ROCKY 11</dc:creator>
  <dc:description/>
  <dc:language>en-US</dc:language>
  <cp:lastModifiedBy>Dick van der Neut</cp:lastModifiedBy>
  <dcterms:modified xsi:type="dcterms:W3CDTF">2012-02-13T21:16:24Z</dcterms:modified>
  <cp:revision>15</cp:revision>
  <dc:subject>The Ultimate Earth Mover</dc:subject>
  <dc:title>De verdwenen bulldozer</dc:title>
</cp:coreProperties>
</file>