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8210-F388-4E7A-B3D8-41B64AEB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4999-E377-4F46-A7FD-2692AB5A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18B7-2496-4CFF-AEE9-B04784A8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CDFA-7350-44B2-8057-E131FB340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EA1A-4E09-4936-8899-70FD1CC0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94ED-341C-4254-BD62-4F68DB27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8207-B062-4773-867E-7692D65A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008D-2E65-43F7-A079-1D000D82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EC74-5AB7-46D2-A36E-FEF8142C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5939-16BF-4890-AC92-D0782E62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0E1D-5D6C-4610-B903-561947E2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E757-F633-4C7C-8E99-8CD5B495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1E61-4912-499D-8437-AE9B7C515B17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5345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aar is mijn Bulldozer naar to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2640" y="443664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Ziehier wat er kan gebeuren als je even niet op je tellen p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SBPUZZLD"/>
          <p:cNvPicPr/>
          <p:nvPr/>
        </p:nvPicPr>
        <p:blipFill>
          <a:blip r:embed="rId1"/>
          <a:stretch/>
        </p:blipFill>
        <p:spPr>
          <a:xfrm>
            <a:off x="3995640" y="1773360"/>
            <a:ext cx="104292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PUZZLD2"/>
          <p:cNvPicPr/>
          <p:nvPr/>
        </p:nvPicPr>
        <p:blipFill>
          <a:blip r:embed="rId1"/>
          <a:stretch/>
        </p:blipFill>
        <p:spPr>
          <a:xfrm>
            <a:off x="4140360" y="3500280"/>
            <a:ext cx="1038240" cy="2295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1905120" y="1125360"/>
            <a:ext cx="55623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aar waar is mijn bulldozer gebleven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ven uit het oog verlor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Ik zie hem al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SURPZD"/>
          <p:cNvPicPr/>
          <p:nvPr/>
        </p:nvPicPr>
        <p:blipFill>
          <a:blip r:embed="rId1"/>
          <a:stretch/>
        </p:blipFill>
        <p:spPr>
          <a:xfrm>
            <a:off x="3851280" y="1844640"/>
            <a:ext cx="26845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152280" y="3860640"/>
            <a:ext cx="8991720" cy="13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Daar boven, op dat grote rad  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SBPOINT4"/>
          <p:cNvPicPr/>
          <p:nvPr/>
        </p:nvPicPr>
        <p:blipFill>
          <a:blip r:embed="rId1"/>
          <a:stretch/>
        </p:blipFill>
        <p:spPr>
          <a:xfrm>
            <a:off x="5003640" y="981000"/>
            <a:ext cx="10209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IMG_0878"/>
          <p:cNvPicPr/>
          <p:nvPr/>
        </p:nvPicPr>
        <p:blipFill>
          <a:blip r:embed="rId1"/>
          <a:stretch/>
        </p:blipFill>
        <p:spPr>
          <a:xfrm>
            <a:off x="468360" y="784080"/>
            <a:ext cx="77756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IMG_0885"/>
          <p:cNvPicPr/>
          <p:nvPr/>
        </p:nvPicPr>
        <p:blipFill>
          <a:blip r:embed="rId1"/>
          <a:stretch/>
        </p:blipFill>
        <p:spPr>
          <a:xfrm>
            <a:off x="324000" y="333360"/>
            <a:ext cx="838836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IMG_0880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8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4067280" y="404640"/>
            <a:ext cx="45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terpillar D8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wicht: 32 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IMG_0882"/>
          <p:cNvPicPr/>
          <p:nvPr/>
        </p:nvPicPr>
        <p:blipFill>
          <a:blip r:embed="rId1"/>
          <a:stretch/>
        </p:blipFill>
        <p:spPr>
          <a:xfrm>
            <a:off x="539640" y="47628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IMG_08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STC_09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STF_0905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5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STB_0902"/>
          <p:cNvPicPr/>
          <p:nvPr/>
        </p:nvPicPr>
        <p:blipFill>
          <a:blip r:embed="rId1"/>
          <a:stretch/>
        </p:blipFill>
        <p:spPr>
          <a:xfrm>
            <a:off x="0" y="16200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IMG_09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IMG_09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IMG_0912"/>
          <p:cNvPicPr/>
          <p:nvPr/>
        </p:nvPicPr>
        <p:blipFill>
          <a:blip r:embed="rId1"/>
          <a:stretch/>
        </p:blipFill>
        <p:spPr>
          <a:xfrm>
            <a:off x="0" y="109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314172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ar er is nog een ander speelgoedje in de buu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amelij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ff0000"/>
                </a:solidFill>
                <a:latin typeface="Arial"/>
              </a:rPr>
              <a:t>The Ultimate Earth M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109404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Ultimate Earth Mover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De Ultimate Earth Mover is de grootste machine ter wereld. Ze werd gebouwd door de Duitse machinebouwer KRUP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Om de machine te verplaatsen moet ze volledig worden afgebroken, getransporteerd en opnieuw gemonteerd worden op de wer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llegra[1].mid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28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28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-3600" y="140400"/>
            <a:ext cx="9367560" cy="66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pecificaties: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95m hoog, 215m lang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45 ton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kostprijs 100 miljoen $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5 jaar studiewerk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5 jaar assemblage 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5 machinebedieners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Het scheprad heeft een diameter van 21m en 20 schoe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met elk een inhoud van 15m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  <a:ea typeface="Arial"/>
              </a:rPr>
              <a:t>³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 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Iemand van 1m82 kan rechtop staan in zo’n schoep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12 rupsbanden brengen het gevaarte in beweg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(ieder heeft een breedte van 3.6m, 2.4m hoogte en 14m lengte)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Er zijn 8 rupsbanden vooraan en 4 achteraan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Maximale snelheid : 0.5km per uur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Kan 76500m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  <a:ea typeface="Arial"/>
              </a:rPr>
              <a:t>³ grond scheppen per dag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7:43:37Z</dcterms:created>
  <dc:creator>Bewerking: ROCKY 11</dc:creator>
  <dc:description/>
  <dc:language>en-US</dc:language>
  <cp:lastModifiedBy>Dick van der Neut</cp:lastModifiedBy>
  <dcterms:modified xsi:type="dcterms:W3CDTF">2012-02-13T21:16:24Z</dcterms:modified>
  <cp:revision>15</cp:revision>
  <dc:subject>The Ultimate Earth Mover</dc:subject>
  <dc:title>De verdwenen bulldozer</dc:title>
</cp:coreProperties>
</file>