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A36-AB1C-49F1-9B0C-690B8777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2AD-D024-4B05-A05F-9BBAC612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A6C-F13A-4731-82FE-609B4933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C30B-FC7D-447F-8BEE-8C8B73C8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58CF-F365-4C20-BB01-AB186689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7231-BA5D-40E3-B9D0-E24B2FFF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8F5-0E59-4330-AB43-A3E3AD4D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01D-B1EF-4A36-B1AC-A6750211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CDA-A6BD-439E-A312-503BFD50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0F1-E3CC-4075-9C40-BD9F788C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F0E-0B24-4B81-BB9E-38D2EEE0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8BA6-E662-4212-9295-51FC61D3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FD80-4A06-40C5-B71B-0011F8C7AFB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53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ar is mijn Bulldozer naar to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443664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iehier wat er kan gebeuren als je even niet op je tellen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UZZLD2"/>
          <p:cNvPicPr/>
          <p:nvPr/>
        </p:nvPicPr>
        <p:blipFill>
          <a:blip r:embed="rId1"/>
          <a:stretch/>
        </p:blipFill>
        <p:spPr>
          <a:xfrm>
            <a:off x="4140360" y="3500280"/>
            <a:ext cx="1038240" cy="229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5120" y="1125360"/>
            <a:ext cx="556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ar waar is mijn bulldozer gebleven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ven uit het oog verlo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k zie hem a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52280" y="3860640"/>
            <a:ext cx="89917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aar boven, op dat grote rad 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BPOINT4"/>
          <p:cNvPicPr/>
          <p:nvPr/>
        </p:nvPicPr>
        <p:blipFill>
          <a:blip r:embed="rId1"/>
          <a:stretch/>
        </p:blipFill>
        <p:spPr>
          <a:xfrm>
            <a:off x="5003640" y="981000"/>
            <a:ext cx="10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0878"/>
          <p:cNvPicPr/>
          <p:nvPr/>
        </p:nvPicPr>
        <p:blipFill>
          <a:blip r:embed="rId1"/>
          <a:stretch/>
        </p:blipFill>
        <p:spPr>
          <a:xfrm>
            <a:off x="468360" y="784080"/>
            <a:ext cx="7775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0885"/>
          <p:cNvPicPr/>
          <p:nvPr/>
        </p:nvPicPr>
        <p:blipFill>
          <a:blip r:embed="rId1"/>
          <a:stretch/>
        </p:blipFill>
        <p:spPr>
          <a:xfrm>
            <a:off x="32400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088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280" y="40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erpillar D8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cht: 32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0882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TC_0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TF_09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B_090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_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_0912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ar er is nog een ander speelgoedje in de buu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e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109404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De Ultimate Earth Mover is de grootste machine ter wereld. Ze werd gebouwd door de Duitse machinebouwer KRU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m de machine te verplaatsen moet ze volledig worden afgebroken, getransporteerd en opnieuw gemonteerd worden op de w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600" y="140400"/>
            <a:ext cx="93675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aties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95m hoog, 215m lang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45 ton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ostprijs 100 miljoen $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studiewerk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assemblage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machinebedieners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Het scheprad heeft een diameter van 21m en 20 sch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met elk een inhoud van 15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Iemand van 1m82 kan rechtop staan in zo’n schoep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12 rupsbanden brengen het gevaarte in bewe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(ieder heeft een breedte van 3.6m, 2.4m hoogte en 14m lengte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Er zijn 8 rupsbanden vooraan en 4 achteraan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Maximale snelheid : 0.5km per uur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an 76500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 grond scheppen per dag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7:43:37Z</dcterms:created>
  <dc:creator>Bewerking: ROCKY 11</dc:creator>
  <dc:description/>
  <dc:language>en-US</dc:language>
  <cp:lastModifiedBy>Dick van der Neut</cp:lastModifiedBy>
  <dcterms:modified xsi:type="dcterms:W3CDTF">2012-02-13T21:16:24Z</dcterms:modified>
  <cp:revision>15</cp:revision>
  <dc:subject>The Ultimate Earth Mover</dc:subject>
  <dc:title>De verdwenen bulldozer</dc:title>
</cp:coreProperties>
</file>