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D39-36F5-4F40-AAC4-4428E3A69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60D-5770-4758-B188-702AEBEA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858-CEC5-4F5C-8FF7-D06D0244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B32-10DA-452C-826A-826A22AD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3E61-716A-4010-B0CE-9D861171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DA5-3DF5-48DA-A12E-A5D57E79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2EA-1D28-4741-AE0B-744DDE04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B6E-D277-48E5-86B1-DDB490B4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9FD6-03B6-4C0E-B0A4-5FBFE8F8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723-1412-4F44-B854-9E730FA8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BCF3-FBA7-45CC-BFE5-D3AECDF6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5A7-1B0C-458E-A1A1-9BA62AA2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BBC6-1E5E-43B4-A626-CD29EE69C8C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5345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ar is mijn Bulldozer naar toe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2640" y="443664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Ziehier wat er kan gebeuren als je even niet op je tellen p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UZZLD2"/>
          <p:cNvPicPr/>
          <p:nvPr/>
        </p:nvPicPr>
        <p:blipFill>
          <a:blip r:embed="rId1"/>
          <a:stretch/>
        </p:blipFill>
        <p:spPr>
          <a:xfrm>
            <a:off x="4140360" y="3500280"/>
            <a:ext cx="1038240" cy="2295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905120" y="1125360"/>
            <a:ext cx="556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ar waar is mijn bulldozer gebleven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ven uit het oog verlore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Ik zie hem a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52280" y="3860640"/>
            <a:ext cx="899172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Daar boven, op dat grote rad 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SBPOINT4"/>
          <p:cNvPicPr/>
          <p:nvPr/>
        </p:nvPicPr>
        <p:blipFill>
          <a:blip r:embed="rId1"/>
          <a:stretch/>
        </p:blipFill>
        <p:spPr>
          <a:xfrm>
            <a:off x="5003640" y="981000"/>
            <a:ext cx="10209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IMG_0878"/>
          <p:cNvPicPr/>
          <p:nvPr/>
        </p:nvPicPr>
        <p:blipFill>
          <a:blip r:embed="rId1"/>
          <a:stretch/>
        </p:blipFill>
        <p:spPr>
          <a:xfrm>
            <a:off x="468360" y="784080"/>
            <a:ext cx="777564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_0885"/>
          <p:cNvPicPr/>
          <p:nvPr/>
        </p:nvPicPr>
        <p:blipFill>
          <a:blip r:embed="rId1"/>
          <a:stretch/>
        </p:blipFill>
        <p:spPr>
          <a:xfrm>
            <a:off x="324000" y="333360"/>
            <a:ext cx="83883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MG_0880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8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215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4067280" y="40464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aterpillar D8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wicht: 32 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IMG_0882"/>
          <p:cNvPicPr/>
          <p:nvPr/>
        </p:nvPicPr>
        <p:blipFill>
          <a:blip r:embed="rId1"/>
          <a:stretch/>
        </p:blipFill>
        <p:spPr>
          <a:xfrm>
            <a:off x="539640" y="47628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_08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STC_09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STF_0905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STB_0902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IMG_09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_09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0" y="1440"/>
            <a:ext cx="9144000" cy="685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IMG_0912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141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ar er is nog een ander speelgoedje in de buu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amelij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109404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De Ultimate Earth Mover is de grootste machine ter wereld. Ze werd gebouwd door de Duitse machinebouwer KRUP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m de machine te verplaatsen moet ze volledig worden afgebroken, getransporteerd en opnieuw gemonteerd worden op de wer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28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28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-3600" y="140400"/>
            <a:ext cx="9367560" cy="66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pecificaties: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95m hoog, 215m lang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45 ton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ostprijs 100 miljoen $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studiewerk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jaar assemblage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5 machinebedieners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Het scheprad heeft een diameter van 21m en 20 sch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met elk een inhoud van 15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 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Iemand van 1m82 kan rechtop staan in zo’n schoep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12 rupsbanden brengen het gevaarte in beweg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(ieder heeft een breedte van 3.6m, 2.4m hoogte en 14m lengte)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Er zijn 8 rupsbanden vooraan en 4 achteraan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Maximale snelheid : 0.5km per uur </a:t>
            </a:r>
            <a:br>
              <a:rPr sz="2400"/>
            </a:b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~ Kan 76500m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  <a:ea typeface="Arial"/>
              </a:rPr>
              <a:t>³ grond scheppen per dag</a:t>
            </a:r>
            <a:r>
              <a:rPr b="1" lang="en-US" sz="2400" spc="-1" strike="noStrike">
                <a:solidFill>
                  <a:srgbClr val="b404e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7:43:37Z</dcterms:created>
  <dc:creator>Bewerking: ROCKY 11</dc:creator>
  <dc:description/>
  <dc:language>en-US</dc:language>
  <cp:lastModifiedBy>Dick van der Neut</cp:lastModifiedBy>
  <dcterms:modified xsi:type="dcterms:W3CDTF">2012-02-13T21:16:24Z</dcterms:modified>
  <cp:revision>15</cp:revision>
  <dc:subject>The Ultimate Earth Mover</dc:subject>
  <dc:title>De verdwenen bulldozer</dc:title>
</cp:coreProperties>
</file>