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1AE3-AD45-448F-B0EC-27F84734AF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F8E2-2AD6-4930-9EB0-07750631EB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C334-D2CA-4CAE-A026-078755B583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2857-22E3-405C-8797-DE698299F0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6A15-CCD6-4068-9CAD-E2A45E9AAA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36E3-DF13-45CF-98E2-156D10752E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E51B-3E69-4F7B-96C7-D7C1619A1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D4BE-39EC-4215-BA0A-13D5127139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F533-0E2E-4ACB-A292-FE33585EC1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6FC8-B290-4F6A-8A2B-B6BC0FFDE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C193-9F72-44F7-BF87-959BEA9FDF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AF64-9F99-4160-8B35-B65EE01C31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CF1E1-5D66-4F09-9334-845A7702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3D7EE-91B4-4234-958F-EFF5AE8E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AAFA9-8BF8-4609-BC62-B7B98BFD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6CC0B-7AB8-4E00-8EAB-693276FB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EA9AB-5C14-4430-9BB6-C248DFD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61F75-7370-4393-B8EB-C3CB02E9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41EDD-287E-4E06-AA96-3A585BA5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274B4-A128-4678-83EA-1A18236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B4AE3-87F8-4A59-9D99-8AC9A55C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DCA8C-705B-4787-8221-731EF6D4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E3AEC-BC7C-4C1E-8776-912BEC6B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68D8E-2790-47F8-8D2B-7DD3ED94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E6A60-30A7-426C-B50F-CF4641EE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20C1A-4581-49A5-85A2-5E9418D3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BE264-5B63-44A0-AEBF-1AB6375A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B2B68-D753-4AC7-A316-E0341312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C0415-F302-4C00-B38E-6E19203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ED9F8-B354-485E-8488-6E45A237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14FEB-E7CE-4815-82B4-5B5319FC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2F662-71B9-4B26-B5CC-323434B6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E737B-773F-4FE8-8293-6FDA292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8AA78-8749-44E3-95EF-638CE37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01421A-D5A3-4F81-9840-D21593FB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3EA480-FCD8-4AC9-B0AE-6254B95F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FA3-B2AE-4C13-9B0A-EB6F35E407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80D8-BCDA-4672-BEB3-FDFF466F0E9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008A-5891-4B57-932E-06C317414A66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Didactische WEB 2.0 toepassing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9" descr="web20"/>
          <p:cNvPicPr/>
          <p:nvPr/>
        </p:nvPicPr>
        <p:blipFill>
          <a:blip r:embed="rId1"/>
          <a:stretch/>
        </p:blipFill>
        <p:spPr>
          <a:xfrm>
            <a:off x="2666880" y="1547640"/>
            <a:ext cx="3810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toepassingen maken met WEB 2.0 programma’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 eerst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met WEB 2.0 programma’s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2:11:18Z</dcterms:modified>
  <cp:revision>140</cp:revision>
  <dc:subject/>
  <dc:title>C. van de Graaf &amp; Partners</dc:title>
</cp:coreProperties>
</file>