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4BECC-5497-46CE-B72B-DA78BEABEDA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B397C-4569-4D92-8EDE-20788D7FE37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FAC60-ABD4-4D9D-85C6-6A2CE09A147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757B4-50ED-4BBE-B3F6-528D7243EF2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D011D-5EE5-4C41-BBF2-3639615A231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D23FF-23EC-4E97-B423-DB507FEFCBD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F876F-D952-430D-81D5-D8CC993920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C2139-AEF2-43F4-A92C-531FD0FD049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AD344-63A1-42AB-B458-F68FFDE4CB6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8B6A8-8B69-4D39-BDBB-151B34C2CA3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F937D-FF6B-42B9-B4F2-733533ED66A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5151F-5320-43AF-A1E4-E55E8B287F7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6C7E23-4CFC-4EA7-AED9-1216AD924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1A8C62-5F67-43A8-B260-E06A09F48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8E718A-2D3C-4220-A75A-CAA055A8C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1A1767-FC24-42D6-9050-5F4147C38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6294F8-D0BB-4C6F-ABCA-857D790D4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E4ADD6-52DA-4EAC-B825-695CB301B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FFFED6-2057-46F0-822E-2F330582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2E564B-1B80-4F1A-AB1E-B6E5A3E9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991E28-28D4-45D7-88B6-22971D4D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BCDF6E-5609-4423-AF28-1DA4F365F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C6FB2D-77C0-4731-ACF3-2FE3194AA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D7A0D2-75D9-4E6F-8C02-8C60B14F7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CF7DC0-4F5F-470E-B5C2-41AA352C0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21A970-9123-421A-9B30-763C11607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E36776-E1F3-4956-AC87-9B73A2A4A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78D869-216A-4D3D-8221-221B52F58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CAEF9B-3181-4246-ABEF-DFFAA618B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420F6F-94B9-49FE-B98B-5AC8EA292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12FFC5-9A2C-41F1-92AB-21EA4932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53C073-7E90-4F3A-B4EA-1F78D38C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A2EDA4-38DF-43F7-A350-6D5B73DD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828242-B5A8-4D87-8B88-FD2C60ABD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631764-4107-4553-8F91-D71259651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7E771F-D7CF-4077-AB05-C23D2F66A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mauve"/>
          <p:cNvPicPr/>
          <p:nvPr/>
        </p:nvPicPr>
        <p:blipFill>
          <a:blip r:embed="rId2"/>
          <a:stretch/>
        </p:blipFill>
        <p:spPr>
          <a:xfrm>
            <a:off x="2987640" y="5692680"/>
            <a:ext cx="2376360" cy="863640"/>
          </a:xfrm>
          <a:prstGeom prst="rect">
            <a:avLst/>
          </a:prstGeom>
          <a:ln w="0">
            <a:noFill/>
          </a:ln>
        </p:spPr>
      </p:pic>
      <p:sp>
        <p:nvSpPr>
          <p:cNvPr id="1" name="Line 13"/>
          <p:cNvSpPr/>
          <p:nvPr/>
        </p:nvSpPr>
        <p:spPr>
          <a:xfrm>
            <a:off x="5508720" y="5589720"/>
            <a:ext cx="0" cy="1039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2" name="Text Box 19"/>
          <p:cNvSpPr/>
          <p:nvPr/>
        </p:nvSpPr>
        <p:spPr>
          <a:xfrm>
            <a:off x="5581800" y="5667480"/>
            <a:ext cx="21589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Bankrashof 3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1183 NP Amstelveen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 +31 (0)20 3455550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F +31 (0)20 3455551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3" name="Text Box 32"/>
          <p:cNvSpPr/>
          <p:nvPr/>
        </p:nvSpPr>
        <p:spPr>
          <a:xfrm>
            <a:off x="7165800" y="5667480"/>
            <a:ext cx="2159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E info@cvdgraaf.nl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I www.cvdgraaf.nl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KvK Amsterdam 34116245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7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Num" idx="1"/>
          </p:nvPr>
        </p:nvSpPr>
        <p:spPr>
          <a:xfrm>
            <a:off x="46800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A3EC0-FDA6-4B19-B8FA-927841A50C4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7574040" y="5805360"/>
            <a:ext cx="17985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Ontwikkeling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Advies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Projectmanagement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Training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pic>
        <p:nvPicPr>
          <p:cNvPr id="50" name="Picture 14" descr="Logo_mauve"/>
          <p:cNvPicPr/>
          <p:nvPr/>
        </p:nvPicPr>
        <p:blipFill>
          <a:blip r:embed="rId2"/>
          <a:stretch/>
        </p:blipFill>
        <p:spPr>
          <a:xfrm>
            <a:off x="5437080" y="5952960"/>
            <a:ext cx="1943280" cy="706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5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grpSp>
        <p:nvGrpSpPr>
          <p:cNvPr id="52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53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Line 21"/>
          <p:cNvSpPr/>
          <p:nvPr/>
        </p:nvSpPr>
        <p:spPr>
          <a:xfrm>
            <a:off x="7524720" y="5845320"/>
            <a:ext cx="0" cy="825480"/>
          </a:xfrm>
          <a:prstGeom prst="line">
            <a:avLst/>
          </a:prstGeom>
          <a:ln w="13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2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3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EAD78-1E07-452C-B6C1-AB3B4B57F98E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66A41-50F3-4C3E-BCAA-3CAC14B9D92A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145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sp>
        <p:nvSpPr>
          <p:cNvPr id="150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440160" y="1197000"/>
            <a:ext cx="5668920" cy="42512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4457880" cy="29718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572000" y="40464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292929"/>
                </a:solidFill>
                <a:latin typeface="Arial"/>
              </a:rPr>
              <a:t>Training digitale didactiek</a:t>
            </a: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246560" y="4724280"/>
            <a:ext cx="48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ecilia Roman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9120" y="5553000"/>
            <a:ext cx="837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292929"/>
                </a:solidFill>
                <a:latin typeface="Arial"/>
              </a:rPr>
              <a:t>Inleiding laptopdidactiek</a:t>
            </a:r>
            <a:endParaRPr b="0" lang="en-US" sz="54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93760" y="264960"/>
            <a:ext cx="601992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95280" y="2204640"/>
            <a:ext cx="763272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‘</a:t>
            </a: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Kennismaken met de drie pijlers van de laptopdidactiek’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508720" y="3789360"/>
            <a:ext cx="331128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42840" y="237960"/>
            <a:ext cx="6019920" cy="11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Program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0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leiding en programm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Opdracht 1: stelling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houd: drie pijlers, Tpackmod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Best practic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fsluit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5508720" y="4653000"/>
            <a:ext cx="255276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42840" y="264960"/>
            <a:ext cx="601992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dracht 1 Stellin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57240" y="2268360"/>
            <a:ext cx="6770880" cy="36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8360" y="2205000"/>
            <a:ext cx="8675640" cy="29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Reageer op de stellingen.</a:t>
            </a:r>
            <a:endParaRPr b="0" lang="en-US" sz="32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Op ieder scherm staat een andere stelling.</a:t>
            </a:r>
            <a:endParaRPr b="0" lang="en-US" sz="32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Begin iedere reactie met je initialen.</a:t>
            </a:r>
            <a:endParaRPr b="0" lang="en-US" sz="32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Tijd: 20 minuten</a:t>
            </a:r>
            <a:endParaRPr b="0" lang="en-US" sz="32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9280" y="691920"/>
            <a:ext cx="692316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ijler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000" y="2797200"/>
            <a:ext cx="72723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901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Maak afspraken en stel regels.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901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Integreer ict in de werkvormen (T-Pack).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901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Bij eigen laptop: zet laptop veel en effectief in.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084720" y="765000"/>
            <a:ext cx="2448000" cy="18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31680" y="549000"/>
            <a:ext cx="71578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T-PACK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560" y="2708280"/>
            <a:ext cx="42498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24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92929"/>
                </a:solidFill>
                <a:latin typeface="Arial"/>
              </a:rPr>
              <a:t>Didactische kennis</a:t>
            </a: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24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92929"/>
                </a:solidFill>
                <a:latin typeface="Arial"/>
              </a:rPr>
              <a:t>Vakinhoudelijke kennis</a:t>
            </a: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24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92929"/>
                </a:solidFill>
                <a:latin typeface="Arial"/>
              </a:rPr>
              <a:t>Technologische kennis</a:t>
            </a: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572000" y="1628640"/>
            <a:ext cx="420696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42840" y="264960"/>
            <a:ext cx="601992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Eigen best pract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57240" y="2268360"/>
            <a:ext cx="6770880" cy="36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5280" y="220500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292929"/>
                </a:solidFill>
                <a:latin typeface="Calibri"/>
              </a:rPr>
              <a:t>Een voorbeeld</a:t>
            </a:r>
            <a:endParaRPr b="0" lang="en-US" sz="3600" spc="-1" strike="noStrike">
              <a:solidFill>
                <a:srgbClr val="000000"/>
              </a:solidFill>
              <a:latin typeface="Caecilia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211640" y="4005360"/>
            <a:ext cx="28954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Catherine van de Graaf</dc:creator>
  <dc:description/>
  <dc:language>en-US</dc:language>
  <cp:lastModifiedBy>Josien</cp:lastModifiedBy>
  <cp:lastPrinted>1999-12-08T22:23:44Z</cp:lastPrinted>
  <dcterms:modified xsi:type="dcterms:W3CDTF">2011-09-14T14:38:46Z</dcterms:modified>
  <cp:revision>139</cp:revision>
  <dc:subject/>
  <dc:title>C. van de Graaf &amp; Partners</dc:title>
</cp:coreProperties>
</file>