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9FCA-9DC4-48CC-A86E-C5ECEA10A5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C8EA-70D8-4678-8D87-FDF55630C6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2159-D94B-4911-89F1-748F28C3BD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205A-C8B2-4DCE-9DD0-87C130AA21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5821-6718-4AED-97E9-E6C768B948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F936-E845-43CE-8423-E4B128C016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AF511-0209-4B75-832E-06009FB4C7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6759-B349-47AE-8FE7-FF9D7FD215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C418-F5FA-422F-80C4-946E537776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101B-CBBD-4756-A176-F141E55CC4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693E-02C3-46BC-88AD-0F49CB2B9F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CFB8-C70C-457F-B875-7C49C2FAD2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21BF2-4826-4CC3-A999-61C35CA5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06483-01EF-4ACA-BA04-292F5FAD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0521B-B600-43C6-B99D-1DD08BA7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0D8BB-02FB-4185-AEC1-00B1D59D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1B5D3-F4A9-4055-A3A6-B8AB566C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80C6A-EF25-4884-85DA-E7500960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DB866-06FD-4593-9DEA-E2F2D6A6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D0632-6069-4424-B179-4EEA9F61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7026B-C9D7-4E3C-A2AF-60DB50AE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7EB83-4E6B-41EE-B15A-165E44DD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151AD-F062-43A8-AD08-397AE588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3FC87-C2CC-4346-9A00-2FA5D246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81B365-CE08-41DC-B175-D372303F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FB28EB-A0BD-4248-8299-7C98EECD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279A57-2EA9-4EAE-B88B-A503DC7A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39C8C4-DEED-4AF7-9EF1-EECBC367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DC1426-3587-4BC1-B410-46B1E3C4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488546-66BB-4A42-A701-49D5917B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516382-856A-4C80-A1AA-0B56C75B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8F7835-2F66-49E4-8464-014B54E8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7BAFE4-963F-49E3-9AC5-116AC60E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3FFB5C-CB5C-419A-A624-083D3AD9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B26CAE-7692-431B-9B5E-71B45AEE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0F1AF4-C89C-441A-AA97-0D1D5379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6404-C330-4F11-BEA4-80D4122881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A52D-75DE-422B-A922-681F4A02C3DB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A5A3-7E02-4B34-AF86-4A84BB2450BC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Effectieve inzet laptop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22" descr="gezamelijkevisie"/>
          <p:cNvPicPr/>
          <p:nvPr/>
        </p:nvPicPr>
        <p:blipFill>
          <a:blip r:embed="rId1"/>
          <a:stretch/>
        </p:blipFill>
        <p:spPr>
          <a:xfrm>
            <a:off x="3381480" y="2286000"/>
            <a:ext cx="2381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at is er nodig om laptop effectief in te kunnen zetten in de kla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rainstorm over mogelijke inz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Persoonsbeschrijvingen bespre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ctieplan’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5560" y="26496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bruiksmogelijkh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Voor welk soort gebruik kun je ict of laptops inzett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Noteer concrete toepassingen voor de verschillende gebruiksmogelijkheden.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  Wie ben jij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kijk de verschillende persoonbeschrijvingen. Welke persoon zou je, qua ict-gebruik, graag willen zij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15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3  Actie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heb je nodig om in de toekomst ict goed in te kunnen zett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5-16T11:41:37Z</dcterms:modified>
  <cp:revision>143</cp:revision>
  <dc:subject/>
  <dc:title>C. van de Graaf &amp; Partners</dc:title>
</cp:coreProperties>
</file>