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D06F-85B7-4A07-A882-F26BE7F57F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3359-CDE6-4507-A631-E49D23ED5C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95B8-7F04-4EA3-A867-E9A5DC2E8C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AED8-A3FD-4F7E-A6F4-9EF87E6477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5A4B-E2E6-4B5F-9D03-DA3DAC4105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08B0-D561-43C3-BEFE-8FFAEA5241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7FF5-4A3B-490A-A3F1-BBF5898A8C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7097-368D-4A70-BA3D-970C82CE4A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AA8B-E8D7-4B84-A472-AB5CB01488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4080-0920-494F-AE8E-024BAA6D9F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4845-7186-4863-9DB0-08AC5B6A62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53BB-DC61-45B7-B45E-A869EC1FAB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B0E2B-1635-48B7-A5F2-99378F21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7199E-D03F-45BC-BE9C-527C5E9B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11CF1-77AC-4528-BAB6-4D6DEEC2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012A2-1285-471D-BF03-4C030879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3A406-283E-416A-83B2-16C4B869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3D45A-D1E2-478F-A525-CCE0FA7F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B4AF9-729D-4F52-A8A5-2DAFE254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14AFA-A782-4442-A32A-58DA05BA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47F84-2663-4410-8040-A410C205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622B1-70C8-48CF-9B8F-B3BF96D8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E8A01-80A9-4233-A9DC-AD9EF608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8FE9D-C667-4BE9-9731-0926A273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8A8D69-C97D-4E94-A485-0D429314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725E76-3D47-46AA-BA0E-E2D507C7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9A4EF7-CCE2-411A-A95D-60E759E2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6B8B0F-51E8-4DC8-8D89-1BFDD458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CAF6A8-1189-4123-B67F-05731719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56A2D-F77B-48C3-934C-C99FA99E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47D605-BA01-4D94-8465-C51B3E0F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25791A-4C0C-42E9-9024-E507D66C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B7C480-4AD4-4692-BE82-ACCFFE3F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57F556-C85F-42B2-BFE5-FAE7453E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153862-480E-4017-89B1-81C2CE17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C1C1E9-376F-4679-9913-352AA8FA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C23D-112B-4353-9ACD-C21D24D318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257B-E6A9-44E4-8842-6DA4DA51ED44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B635-FDD7-4A02-8D16-A6A9E72215A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611280" y="5425920"/>
            <a:ext cx="78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92929"/>
                </a:solidFill>
                <a:latin typeface="Arial"/>
              </a:rPr>
              <a:t>Didactiek laptops in de klas</a:t>
            </a:r>
            <a:endParaRPr b="0" lang="en-US" sz="4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chooljaar 2011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8" descr="laptop-in-de-klas"/>
          <p:cNvPicPr/>
          <p:nvPr/>
        </p:nvPicPr>
        <p:blipFill>
          <a:blip r:embed="rId1"/>
          <a:stretch/>
        </p:blipFill>
        <p:spPr>
          <a:xfrm>
            <a:off x="3708360" y="170028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praken en regels maken wat betreft laptopgebruik in de kla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480" y="237960"/>
            <a:ext cx="686916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402120" indent="-4021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trodu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ventarisatie: wat gaat goed en wat gaat minder go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wisselen ervar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asebespr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oncrete afsprakenlijst samenstel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15788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at gaat goed, wat kan be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68360" y="2205000"/>
            <a:ext cx="86756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chrijf op de geeltjes in Edistorm: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dingen die goed gaa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dingen die minder goed gaan e/o beter kunn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Zo concreet mogelijk!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9" name="Picture 6" descr="Edistorm"/>
          <p:cNvPicPr/>
          <p:nvPr/>
        </p:nvPicPr>
        <p:blipFill>
          <a:blip r:embed="rId1"/>
          <a:stretch/>
        </p:blipFill>
        <p:spPr>
          <a:xfrm>
            <a:off x="3851280" y="5543640"/>
            <a:ext cx="1905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6156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nzet van laptops/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50920" y="1716120"/>
            <a:ext cx="867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Maak afspraken en stel regels……’ (pijler 1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Bekijk de cases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eerst in duo’s: hoe zouden jullie dit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oploss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Plenaire bespreking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156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pdracht 3 Top vij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50920" y="1716120"/>
            <a:ext cx="86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Maak afspraken en stel regels……’ (pijler 1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tel een top 5 samen van de beste oplossingen, die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ruikbaar zijn in je eigen onderwijssituatie.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Tijd: 15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4:44:43Z</dcterms:modified>
  <cp:revision>142</cp:revision>
  <dc:subject/>
  <dc:title>C. van de Graaf &amp; Partners</dc:title>
</cp:coreProperties>
</file>