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841B-D985-447A-9164-265E43F2BD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8DE8-3C38-42AE-B3BA-F268884803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0206-CAD2-4B86-8D2A-074E0340BD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CF69-298A-4485-A4E2-9C816852C5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DB03-E7FF-4640-AF74-A66507CBBA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CDBB-9106-48E9-B7E2-A8591EA763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8820-293A-4104-BD49-78C4F7CBB4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0773-6E94-4FAB-8FBB-F24C687427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0F22-898D-48BE-9219-456DB3B729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AC2C-F7B1-4B10-9DC9-D5B74AF746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3958-B131-40B5-8ADA-C48F1AC426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2B03-0992-4CD2-88F9-61E4E7C2AA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E88BD-D906-48E8-A31D-2EE66821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5552C-083C-47A8-A848-A3426B0E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B91D9-6271-4664-8514-7A05D4AA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FE49E-65C1-4C49-95C3-F35C58B9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511FD-2243-4384-9ED8-86E7A8B3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2D694-8A9B-4907-8024-C8E3EB84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CB55C-5DE9-4242-B36C-8C070D51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E886C-580F-4F6A-A04D-67530074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8FA5C-412B-426F-B80D-D01494CF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A1299-B142-413E-B01F-341DA682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D3120-0B7C-4C15-8CE9-DAD89154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7653A-3DF1-4C0E-9885-89D62531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E3F8B5-441A-42CB-A79D-4450E00D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447D3-CAA4-4AD6-9B53-4AED6727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1D4E48-9568-4792-BD7B-49911376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FD69A8-9B9C-48C4-AD4A-CCCEB4B0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78F222-236C-4486-961A-E8585B78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E8D900-CCB6-4421-AFF6-4340AE59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232E31-5017-49BD-97D9-3BE1B5CC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E55758-0D0B-449C-8B8E-0934C62C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5A0CEA-D792-4EB9-8D9E-1E0700C3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A1EFD4-D71B-43F8-A3A7-73C5A3BF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D0396D-F32C-40D1-B8DE-2AE16AB1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9A90B6-75E5-4A77-9175-AD120C0D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1CD1-3138-4CCC-B8AF-DCEBFC4083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C5A2-1DAE-4862-B1C3-0C20A77DFFEC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71B9-1EF5-4FD2-9FAB-590A87518CD8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ct in werkvorm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20" descr="networkteacher"/>
          <p:cNvPicPr/>
          <p:nvPr/>
        </p:nvPicPr>
        <p:blipFill>
          <a:blip r:embed="rId1"/>
          <a:stretch/>
        </p:blipFill>
        <p:spPr>
          <a:xfrm>
            <a:off x="2700360" y="1989000"/>
            <a:ext cx="3840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ct toepassingen integreren in delen van een eigen l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ogelijkheden met ict inventaris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werkvormen integr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pdracht 1 Ict toepass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(minimaal drie) ict toepassingen voor een van de volgende doelen: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Kennismaken van studenten met elkaar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Kennis/inzicht verwerv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Beroepshouding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Vaardigheden (sociaal of technisch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Toetsing en/of evaluatie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836280"/>
            <a:ext cx="727416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ct werkvormen integr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(minimaal drie) ICT toepassingen voor de eigen les(sen) en werk ze voor zover mogelijk uit.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5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5-16T09:58:53Z</dcterms:modified>
  <cp:revision>142</cp:revision>
  <dc:subject/>
  <dc:title>C. van de Graaf &amp; Partners</dc:title>
</cp:coreProperties>
</file>