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5.jpeg" ContentType="image/jpeg"/>
  <Override PartName="/ppt/media/image4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5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wmf" ContentType="image/x-wmf"/>
  <Override PartName="/ppt/media/image2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8"/>
          </p:nvPr>
        </p:nvSpPr>
        <p:spPr>
          <a:xfrm>
            <a:off x="3851280" y="-14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925200" y="750600"/>
            <a:ext cx="4946760" cy="37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0"/>
          </p:nvPr>
        </p:nvSpPr>
        <p:spPr>
          <a:xfrm>
            <a:off x="385128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E549-A793-4E0D-B976-EFE75319CEC3}" type="slidenum">
              <a:rPr b="0" i="1" lang="nl-NL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3598-D685-4CB4-A28C-1014218E95F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80960" y="69372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131480" y="3541680"/>
            <a:ext cx="453060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0000"/>
                </a:solidFill>
                <a:latin typeface="Arial"/>
              </a:rPr>
              <a:t>Toelichting dia: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0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gelijk nu de blikken met leerobjecten, allebei zijn het objecten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ermateriaal opgedeeld in kleine onderdelen noemen we leerobjecten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1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t zoals een soepblik is voorzien van labels, kan een leerobject ook worden voorzien van labels: bijvoorbeeld het trefwoord, soort leermateriaal, taal en bijvoorbeeld een inhoudelijke classificatie. Bijvoorbeeld bruikbaar in het opleiding van middenkaderfunctionaris Bouw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2)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ze labels gekoppeld aan de leerobjecten worden in de leertechnologie metadata genoemd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3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tadata zijn dus de labels van de leerobjecten die een beschrijving geven van het object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ook Antiqua"/>
              </a:rPr>
              <a:t>Stimuleer ontwikkeling en gebruik van open leermiddel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ook Antiqua"/>
              </a:rPr>
              <a:t>Verbeter de vindbaarheid en de toegang tot zowel open als “gesloten” leermiddel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ook Antiqua"/>
              </a:rPr>
              <a:t>Verhoog de kwaliteit van het onderwijs door flexibeler en up-to-date leermiddel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Ervaringen met open cont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Gratis schoolboeken” we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ept. 2008: advies Onderwijsraad: ‘Maak meer gebruik van open leermiddelen om onderwijs te innoveren’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FAD2-93FB-4E17-822B-1D887B59FF69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07DA-4D52-421D-A71B-CAC91F7F21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CE7D-5F0D-413A-BB6C-8F62AC1CAC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3E10-A4DD-4197-982D-373102935B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D0C7-CBE1-488F-944E-F6262F6B66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713B-FA24-4FB8-869B-5AF1AFFDE9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53016-5128-4DE6-9388-857E013795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25A9-5ED2-4FEB-8274-C049B8AF6E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CD3A-55CA-445C-8813-CA17EFFF98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B732-559C-46E4-8C87-AA346AA77A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415FD-A92B-4E8E-88D0-360CFB32DA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B77A-042A-4D35-9675-EBCF3F3F5B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D29BB-BBA4-4A4F-B2AC-E6DDC95B53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C877-38E4-45EC-B0B6-DAEDB7738C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BB19E-50C2-4801-A125-16F27187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5526D-B562-4100-99FC-3AE16BE4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49C9A-8144-4CD7-9B99-EF94245D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27C44-B342-4ADE-8BEB-6C6F557E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86FB1-7003-4A1E-A86E-8D40804E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DA138-0CDD-4E94-A195-6A24CEBA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6DAB9-E115-4DEA-859C-3F131663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ABB79-2FCD-46EF-B931-6CD8C344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E5E4F-98D6-4E73-B05B-787A139A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3A6B0-988D-4327-B2DB-E6CC2680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EFB90-53D0-4B0E-A70E-08A9D2D1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42F85-8940-45E5-8A15-0F0F71D9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141474-ACFF-4119-9B12-A06BBDD3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F21646-81CF-4D49-BB8A-8AE44DCB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00CD1F-29E4-42AB-9F59-A0AEFC7E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6F791A-5EA5-4AAD-AC08-356C06F1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5CA5DB-7A5C-4F1F-842F-5175EA82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9E250D-B58E-444A-B6BA-063131B1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B4D205-6A2A-4977-959D-E18D2DD1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F47BD3-B36B-4429-868F-B568EA74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4537EF-17A2-4DA9-9853-0436F1A8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75DD64-DCDE-480F-8AB0-A81BE5EA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58945A-DD6B-4881-A006-2955B08F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1B6FDA-03E8-45A1-BB06-9F3D8929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162A-8FD9-4BC8-900A-3F8947D164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EF24-1BE2-4B8D-9EC7-716F843F7E1E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9967-0A1D-42F0-80CB-4537DB93963E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rangeren.wikiwijs.nl/25111#sub639" TargetMode="External"/><Relationship Id="rId2" Type="http://schemas.openxmlformats.org/officeDocument/2006/relationships/hyperlink" Target="http://redactie.kennisnet.nl/attachments/2239362/snelstart-maken_1.0.pdf" TargetMode="External"/><Relationship Id="rId3" Type="http://schemas.openxmlformats.org/officeDocument/2006/relationships/hyperlink" Target="http://redactie.kennisnet.nl/attachments/2239362/snelstart-maken_1.0.pdf" TargetMode="External"/><Relationship Id="rId4" Type="http://schemas.openxmlformats.org/officeDocument/2006/relationships/hyperlink" Target="http://redactie.kennisnet.nl/attachments/2239362/snelstart-maken_1.0.pdf" TargetMode="External"/><Relationship Id="rId5" Type="http://schemas.openxmlformats.org/officeDocument/2006/relationships/hyperlink" Target="http://redactie.kennisnet.nl/attachments/2239362/snelstart-maken_1.0.pdf" TargetMode="External"/><Relationship Id="rId6" Type="http://schemas.openxmlformats.org/officeDocument/2006/relationships/hyperlink" Target="http://redactie.kennisnet.nl/attachments/2239362/snelstart-maken_1.0.pdf" TargetMode="External"/><Relationship Id="rId7" Type="http://schemas.openxmlformats.org/officeDocument/2006/relationships/hyperlink" Target="http://redactie.kennisnet.nl/attachments/2239362/snelstart-maken_1.0.pdf" TargetMode="External"/><Relationship Id="rId8" Type="http://schemas.openxmlformats.org/officeDocument/2006/relationships/hyperlink" Target="http://redactie.kennisnet.nl/attachments/2239362/snelstart-maken_1.0.pdf" TargetMode="External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Arial"/>
              </a:rPr>
              <a:t>Arrangeren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28684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03640" y="-360"/>
            <a:ext cx="433080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els = meta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5778360" y="1143000"/>
            <a:ext cx="2609640" cy="2133720"/>
            <a:chOff x="5778360" y="1143000"/>
            <a:chExt cx="2609640" cy="2133720"/>
          </a:xfrm>
        </p:grpSpPr>
        <p:sp>
          <p:nvSpPr>
            <p:cNvPr id="263" name="Rectangle 4"/>
            <p:cNvSpPr/>
            <p:nvPr/>
          </p:nvSpPr>
          <p:spPr>
            <a:xfrm>
              <a:off x="5778360" y="1143000"/>
              <a:ext cx="2609640" cy="2133720"/>
            </a:xfrm>
            <a:prstGeom prst="rect">
              <a:avLst/>
            </a:prstGeom>
            <a:solidFill>
              <a:srgbClr val="90d4f6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4" name="Text Box 5"/>
            <p:cNvSpPr/>
            <p:nvPr/>
          </p:nvSpPr>
          <p:spPr>
            <a:xfrm>
              <a:off x="5859360" y="1244880"/>
              <a:ext cx="2368440" cy="45900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Sleutelwoord</a:t>
              </a:r>
              <a:r>
                <a:rPr b="0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: staalconstructies</a:t>
              </a:r>
              <a:endParaRPr b="0" lang="en-US" sz="12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5" name="Text Box 6"/>
            <p:cNvSpPr/>
            <p:nvPr/>
          </p:nvSpPr>
          <p:spPr>
            <a:xfrm>
              <a:off x="5859360" y="1803600"/>
              <a:ext cx="2368440" cy="45900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Soort leermateriaal:</a:t>
              </a:r>
              <a:br>
                <a:rPr sz="1200"/>
              </a:br>
              <a:r>
                <a:rPr b="0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informatiebron</a:t>
              </a:r>
              <a:endParaRPr b="0" lang="en-US" sz="12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6" name="Text Box 7"/>
            <p:cNvSpPr/>
            <p:nvPr/>
          </p:nvSpPr>
          <p:spPr>
            <a:xfrm>
              <a:off x="5868720" y="2324160"/>
              <a:ext cx="1981080" cy="27648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Taal</a:t>
              </a:r>
              <a:r>
                <a:rPr b="0" lang="nl-NL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: nl</a:t>
              </a:r>
              <a:endParaRPr b="0" lang="en-US" sz="12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7" name="Text Box 8"/>
            <p:cNvSpPr/>
            <p:nvPr/>
          </p:nvSpPr>
          <p:spPr>
            <a:xfrm>
              <a:off x="5868720" y="2660760"/>
              <a:ext cx="2313000" cy="42876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Classificatie</a:t>
              </a:r>
              <a:r>
                <a:rPr b="0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:</a:t>
              </a:r>
              <a:r>
                <a:rPr b="0" lang="en-US" sz="10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90261 Middenkaderfunctionaris Bouw</a:t>
              </a:r>
              <a:endParaRPr b="0" lang="en-US" sz="10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68" name="Group 9"/>
          <p:cNvGrpSpPr/>
          <p:nvPr/>
        </p:nvGrpSpPr>
        <p:grpSpPr>
          <a:xfrm>
            <a:off x="5778360" y="3282840"/>
            <a:ext cx="2609640" cy="2210040"/>
            <a:chOff x="5778360" y="3282840"/>
            <a:chExt cx="2609640" cy="2210040"/>
          </a:xfrm>
        </p:grpSpPr>
        <p:sp>
          <p:nvSpPr>
            <p:cNvPr id="269" name="Rectangle 10"/>
            <p:cNvSpPr/>
            <p:nvPr/>
          </p:nvSpPr>
          <p:spPr>
            <a:xfrm>
              <a:off x="5778360" y="3282840"/>
              <a:ext cx="2609640" cy="2210040"/>
            </a:xfrm>
            <a:prstGeom prst="rect">
              <a:avLst/>
            </a:prstGeom>
            <a:solidFill>
              <a:srgbClr val="00a5d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pic>
          <p:nvPicPr>
            <p:cNvPr id="270" name="Picture 11" descr="Informatie-object"/>
            <p:cNvPicPr/>
            <p:nvPr/>
          </p:nvPicPr>
          <p:blipFill>
            <a:blip r:embed="rId1"/>
            <a:stretch/>
          </p:blipFill>
          <p:spPr>
            <a:xfrm>
              <a:off x="6156000" y="3381480"/>
              <a:ext cx="1901880" cy="2016000"/>
            </a:xfrm>
            <a:prstGeom prst="rect">
              <a:avLst/>
            </a:prstGeom>
            <a:ln w="3240">
              <a:solidFill>
                <a:srgbClr val="292929"/>
              </a:solidFill>
              <a:miter/>
            </a:ln>
          </p:spPr>
        </p:pic>
      </p:grpSp>
      <p:grpSp>
        <p:nvGrpSpPr>
          <p:cNvPr id="271" name="Group 12"/>
          <p:cNvGrpSpPr/>
          <p:nvPr/>
        </p:nvGrpSpPr>
        <p:grpSpPr>
          <a:xfrm>
            <a:off x="3126960" y="3282840"/>
            <a:ext cx="2580120" cy="2210040"/>
            <a:chOff x="3126960" y="3282840"/>
            <a:chExt cx="2580120" cy="2210040"/>
          </a:xfrm>
        </p:grpSpPr>
        <p:sp>
          <p:nvSpPr>
            <p:cNvPr id="272" name="AutoShape 13"/>
            <p:cNvSpPr/>
            <p:nvPr/>
          </p:nvSpPr>
          <p:spPr>
            <a:xfrm>
              <a:off x="5113440" y="3282840"/>
              <a:ext cx="593640" cy="2210040"/>
            </a:xfrm>
            <a:custGeom>
              <a:avLst/>
              <a:gdLst>
                <a:gd name="textAreaLeft" fmla="*/ 379440 w 593640"/>
                <a:gd name="textAreaRight" fmla="*/ 594000 w 59364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3" name="Text Box 14"/>
            <p:cNvSpPr/>
            <p:nvPr/>
          </p:nvSpPr>
          <p:spPr>
            <a:xfrm>
              <a:off x="3559320" y="419724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 </a:t>
              </a:r>
              <a:r>
                <a:rPr b="0" lang="en-US" sz="16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(Leer)object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4" name="AutoShape 15"/>
            <p:cNvSpPr/>
            <p:nvPr/>
          </p:nvSpPr>
          <p:spPr>
            <a:xfrm flipH="1">
              <a:off x="3126600" y="3287880"/>
              <a:ext cx="574920" cy="2131920"/>
            </a:xfrm>
            <a:custGeom>
              <a:avLst/>
              <a:gdLst>
                <a:gd name="textAreaLeft" fmla="*/ 366840 w 574920"/>
                <a:gd name="textAreaRight" fmla="*/ 574920 w 574920"/>
                <a:gd name="textAreaTop" fmla="*/ 55440 h 2131920"/>
                <a:gd name="textAreaBottom" fmla="*/ 2076480 h 213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75" name="Group 16"/>
          <p:cNvGrpSpPr/>
          <p:nvPr/>
        </p:nvGrpSpPr>
        <p:grpSpPr>
          <a:xfrm>
            <a:off x="3158640" y="1149480"/>
            <a:ext cx="2548440" cy="2133360"/>
            <a:chOff x="3158640" y="1149480"/>
            <a:chExt cx="2548440" cy="2133360"/>
          </a:xfrm>
        </p:grpSpPr>
        <p:sp>
          <p:nvSpPr>
            <p:cNvPr id="276" name="AutoShape 17"/>
            <p:cNvSpPr/>
            <p:nvPr/>
          </p:nvSpPr>
          <p:spPr>
            <a:xfrm>
              <a:off x="5173560" y="1149480"/>
              <a:ext cx="533520" cy="213336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3801960" y="198756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Metadata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8" name="AutoShape 19"/>
            <p:cNvSpPr/>
            <p:nvPr/>
          </p:nvSpPr>
          <p:spPr>
            <a:xfrm flipH="1">
              <a:off x="3158280" y="1166760"/>
              <a:ext cx="574920" cy="2109960"/>
            </a:xfrm>
            <a:custGeom>
              <a:avLst/>
              <a:gdLst>
                <a:gd name="textAreaLeft" fmla="*/ 366840 w 574920"/>
                <a:gd name="textAreaRight" fmla="*/ 574920 w 574920"/>
                <a:gd name="textAreaTop" fmla="*/ 54720 h 2109960"/>
                <a:gd name="textAreaBottom" fmla="*/ 2055240 h 210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522360" y="1103400"/>
            <a:ext cx="2609640" cy="2133360"/>
            <a:chOff x="522360" y="1103400"/>
            <a:chExt cx="2609640" cy="2133360"/>
          </a:xfrm>
        </p:grpSpPr>
        <p:sp>
          <p:nvSpPr>
            <p:cNvPr id="280" name="Rectangle 21"/>
            <p:cNvSpPr/>
            <p:nvPr/>
          </p:nvSpPr>
          <p:spPr>
            <a:xfrm>
              <a:off x="522360" y="1103400"/>
              <a:ext cx="2609640" cy="2133360"/>
            </a:xfrm>
            <a:prstGeom prst="rect">
              <a:avLst/>
            </a:prstGeom>
            <a:solidFill>
              <a:srgbClr val="90d4f6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pic>
          <p:nvPicPr>
            <p:cNvPr id="281" name="Picture 22" descr=""/>
            <p:cNvPicPr/>
            <p:nvPr/>
          </p:nvPicPr>
          <p:blipFill>
            <a:blip r:embed="rId2"/>
            <a:stretch/>
          </p:blipFill>
          <p:spPr>
            <a:xfrm>
              <a:off x="755280" y="1384200"/>
              <a:ext cx="2160360" cy="151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Group 23"/>
          <p:cNvGrpSpPr/>
          <p:nvPr/>
        </p:nvGrpSpPr>
        <p:grpSpPr>
          <a:xfrm>
            <a:off x="522360" y="3236760"/>
            <a:ext cx="2609640" cy="2210040"/>
            <a:chOff x="522360" y="3236760"/>
            <a:chExt cx="2609640" cy="2210040"/>
          </a:xfrm>
        </p:grpSpPr>
        <p:sp>
          <p:nvSpPr>
            <p:cNvPr id="283" name="Rectangle 24"/>
            <p:cNvSpPr/>
            <p:nvPr/>
          </p:nvSpPr>
          <p:spPr>
            <a:xfrm>
              <a:off x="522360" y="3236760"/>
              <a:ext cx="2609640" cy="2210040"/>
            </a:xfrm>
            <a:prstGeom prst="rect">
              <a:avLst/>
            </a:prstGeom>
            <a:solidFill>
              <a:srgbClr val="00a5d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pic>
          <p:nvPicPr>
            <p:cNvPr id="284" name="Picture 25" descr="&lt;i&gt;Campbell's Soup Can&lt;/i&gt; A. Warhol"/>
            <p:cNvPicPr/>
            <p:nvPr/>
          </p:nvPicPr>
          <p:blipFill>
            <a:blip r:embed="rId3"/>
            <a:stretch/>
          </p:blipFill>
          <p:spPr>
            <a:xfrm>
              <a:off x="1177560" y="3452760"/>
              <a:ext cx="1161720" cy="18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Rectangle 26"/>
          <p:cNvSpPr/>
          <p:nvPr/>
        </p:nvSpPr>
        <p:spPr>
          <a:xfrm>
            <a:off x="595440" y="5788080"/>
            <a:ext cx="71276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1c86"/>
                </a:solidFill>
                <a:latin typeface="Verdana"/>
                <a:ea typeface="Arial"/>
              </a:rPr>
              <a:t>Metadata: </a:t>
            </a:r>
            <a:r>
              <a:rPr b="0" lang="en-US" sz="1600" spc="-1" strike="noStrike">
                <a:solidFill>
                  <a:srgbClr val="2d1c86"/>
                </a:solidFill>
                <a:latin typeface="Verdana"/>
                <a:ea typeface="Arial"/>
              </a:rPr>
              <a:t>informatie over leerobjecten (bijvoorbeeld titel, soort leermateriaal, onderwijsniveau, bestandsformaat enz.).</a:t>
            </a:r>
            <a:endParaRPr b="0" lang="en-US" sz="16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86" name="Tijdelijke aanduiding voor dianummer 27"/>
          <p:cNvSpPr/>
          <p:nvPr/>
        </p:nvSpPr>
        <p:spPr>
          <a:xfrm>
            <a:off x="7885080" y="6356520"/>
            <a:ext cx="80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238D-EE97-406F-A227-4B80EB91EF82}" type="slidenum">
              <a:rPr b="0" lang="en-US" sz="1200" spc="-1" strike="noStrike">
                <a:solidFill>
                  <a:srgbClr val="8a89a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lf een arrangement ma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Alle stappen zijn terug te vinden op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arrangeren.wikiwijs.nl/25111#sub639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Zie voor de snelgids maken met Wikiwijs onderstaande link: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 http://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redactie.kennisnet.nl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/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attachments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/2239362/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snelstart-maken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_1.0.pdf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Tijdelijke aanduiding voor voettekst 3"/>
          <p:cNvSpPr/>
          <p:nvPr/>
        </p:nvSpPr>
        <p:spPr>
          <a:xfrm>
            <a:off x="1908000" y="6356520"/>
            <a:ext cx="525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15560" y="189000"/>
            <a:ext cx="787716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 Oefenen in Wikiwij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826920" y="1708200"/>
            <a:ext cx="809964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Oefen met de arrangeertool in Wikiwijs door de opdrachten uit de PowerPoint te maken.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4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2  Zelf arrang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826920" y="17161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ak van de meegenomen les een digitaal arrangement.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9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Leerarrangementen maken in de arrangeertool van Wikiwij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Oefen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Arrang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kstvak 1"/>
          <p:cNvSpPr/>
          <p:nvPr/>
        </p:nvSpPr>
        <p:spPr>
          <a:xfrm>
            <a:off x="324000" y="112536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  <a:ea typeface="Arial"/>
              </a:rPr>
              <a:t> </a:t>
            </a:r>
            <a:r>
              <a:rPr b="0" lang="en-US" sz="2400" spc="-1" strike="noStrike">
                <a:solidFill>
                  <a:srgbClr val="292929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03" name="Tijdelijke aanduiding voor inhoud 5" descr="ww_blok_kleurgrijs_rgb.jpg"/>
          <p:cNvPicPr/>
          <p:nvPr/>
        </p:nvPicPr>
        <p:blipFill>
          <a:blip r:embed="rId1"/>
          <a:stretch/>
        </p:blipFill>
        <p:spPr>
          <a:xfrm>
            <a:off x="1403280" y="1557360"/>
            <a:ext cx="5329440" cy="3995640"/>
          </a:xfrm>
          <a:prstGeom prst="rect">
            <a:avLst/>
          </a:prstGeom>
          <a:ln w="0">
            <a:noFill/>
          </a:ln>
        </p:spPr>
      </p:pic>
      <p:pic>
        <p:nvPicPr>
          <p:cNvPr id="204" name="Afbeelding 1" descr=""/>
          <p:cNvPicPr/>
          <p:nvPr/>
        </p:nvPicPr>
        <p:blipFill>
          <a:blip r:embed="rId2"/>
          <a:stretch/>
        </p:blipFill>
        <p:spPr>
          <a:xfrm>
            <a:off x="324000" y="5950080"/>
            <a:ext cx="381636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817272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is het doel van Wikiwij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ep 6"/>
          <p:cNvGrpSpPr/>
          <p:nvPr/>
        </p:nvGrpSpPr>
        <p:grpSpPr>
          <a:xfrm>
            <a:off x="390600" y="2050920"/>
            <a:ext cx="4443480" cy="3348360"/>
            <a:chOff x="390600" y="2050920"/>
            <a:chExt cx="4443480" cy="3348360"/>
          </a:xfrm>
        </p:grpSpPr>
        <p:pic>
          <p:nvPicPr>
            <p:cNvPr id="207" name="Picture 2" descr="http://farm3.static.flickr.com/2359/2152048926_d60b8ea093_z.jpg?zz=1"/>
            <p:cNvPicPr/>
            <p:nvPr/>
          </p:nvPicPr>
          <p:blipFill>
            <a:blip r:embed="rId1"/>
            <a:stretch/>
          </p:blipFill>
          <p:spPr>
            <a:xfrm>
              <a:off x="390600" y="2050920"/>
              <a:ext cx="4443480" cy="32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hthoek 5"/>
            <p:cNvSpPr/>
            <p:nvPr/>
          </p:nvSpPr>
          <p:spPr>
            <a:xfrm>
              <a:off x="392400" y="5229360"/>
              <a:ext cx="1282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292929"/>
                  </a:solidFill>
                  <a:latin typeface="Calibri"/>
                  <a:ea typeface="Arial"/>
                </a:rPr>
                <a:t>http://www.flickr.com/photos/bostworld/</a:t>
              </a:r>
              <a:endParaRPr b="0" lang="en-US" sz="5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09" name="Rechthoek 7"/>
          <p:cNvGrpSpPr/>
          <p:nvPr/>
        </p:nvGrpSpPr>
        <p:grpSpPr>
          <a:xfrm>
            <a:off x="4243320" y="4968720"/>
            <a:ext cx="4522680" cy="925560"/>
            <a:chOff x="4243320" y="4968720"/>
            <a:chExt cx="4522680" cy="925560"/>
          </a:xfrm>
        </p:grpSpPr>
        <p:pic>
          <p:nvPicPr>
            <p:cNvPr id="210" name="Rechthoek 7" descr=""/>
            <p:cNvPicPr/>
            <p:nvPr/>
          </p:nvPicPr>
          <p:blipFill>
            <a:blip r:embed="rId2"/>
            <a:stretch/>
          </p:blipFill>
          <p:spPr>
            <a:xfrm>
              <a:off x="4243320" y="4968720"/>
              <a:ext cx="45226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284720" y="5013360"/>
              <a:ext cx="43909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Versterk  &amp; benut de positie van docent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12" name="Rechthoek 8"/>
          <p:cNvGrpSpPr/>
          <p:nvPr/>
        </p:nvGrpSpPr>
        <p:grpSpPr>
          <a:xfrm>
            <a:off x="4243320" y="3097080"/>
            <a:ext cx="4522680" cy="925560"/>
            <a:chOff x="4243320" y="3097080"/>
            <a:chExt cx="4522680" cy="925560"/>
          </a:xfrm>
        </p:grpSpPr>
        <p:pic>
          <p:nvPicPr>
            <p:cNvPr id="213" name="Rechthoek 8" descr=""/>
            <p:cNvPicPr/>
            <p:nvPr/>
          </p:nvPicPr>
          <p:blipFill>
            <a:blip r:embed="rId3"/>
            <a:stretch/>
          </p:blipFill>
          <p:spPr>
            <a:xfrm>
              <a:off x="4243320" y="3097080"/>
              <a:ext cx="45226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284720" y="3141720"/>
              <a:ext cx="43909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Stimuleer ontwikkeling en gebruik van open, digitale leermiddel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15" name="Rechthoek 9"/>
          <p:cNvGrpSpPr/>
          <p:nvPr/>
        </p:nvGrpSpPr>
        <p:grpSpPr>
          <a:xfrm>
            <a:off x="4243320" y="3943440"/>
            <a:ext cx="4522680" cy="1030320"/>
            <a:chOff x="4243320" y="3943440"/>
            <a:chExt cx="4522680" cy="1030320"/>
          </a:xfrm>
        </p:grpSpPr>
        <p:pic>
          <p:nvPicPr>
            <p:cNvPr id="216" name="Rechthoek 9" descr=""/>
            <p:cNvPicPr/>
            <p:nvPr/>
          </p:nvPicPr>
          <p:blipFill>
            <a:blip r:embed="rId4"/>
            <a:stretch/>
          </p:blipFill>
          <p:spPr>
            <a:xfrm>
              <a:off x="4243320" y="3943440"/>
              <a:ext cx="45226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284720" y="4076640"/>
              <a:ext cx="43909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Verhoog de kwaliteit van het onderwijs door flexibeler en up-to-date leermiddel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ep 15"/>
          <p:cNvGrpSpPr/>
          <p:nvPr/>
        </p:nvGrpSpPr>
        <p:grpSpPr>
          <a:xfrm>
            <a:off x="2987640" y="1260360"/>
            <a:ext cx="3247920" cy="5125680"/>
            <a:chOff x="2987640" y="1260360"/>
            <a:chExt cx="3247920" cy="5125680"/>
          </a:xfrm>
        </p:grpSpPr>
        <p:pic>
          <p:nvPicPr>
            <p:cNvPr id="219" name="Picture 3" descr="http://farm5.static.flickr.com/4062/4688281070_5360d12e12_b.jpg"/>
            <p:cNvPicPr/>
            <p:nvPr/>
          </p:nvPicPr>
          <p:blipFill>
            <a:blip r:embed="rId1"/>
            <a:stretch/>
          </p:blipFill>
          <p:spPr>
            <a:xfrm>
              <a:off x="2987640" y="1260360"/>
              <a:ext cx="324792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hthoek 14"/>
            <p:cNvSpPr/>
            <p:nvPr/>
          </p:nvSpPr>
          <p:spPr>
            <a:xfrm>
              <a:off x="3434400" y="6139800"/>
              <a:ext cx="27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292929"/>
                  </a:solidFill>
                  <a:latin typeface="Calibri"/>
                  <a:ea typeface="Arial"/>
                </a:rPr>
                <a:t>http://www.flickr.com/photos/neufneufneuf/</a:t>
              </a:r>
              <a:endParaRPr b="0" lang="en-US" sz="10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 kun je er als docent m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Ovaal 4"/>
          <p:cNvGrpSpPr/>
          <p:nvPr/>
        </p:nvGrpSpPr>
        <p:grpSpPr>
          <a:xfrm>
            <a:off x="768240" y="1450800"/>
            <a:ext cx="2779920" cy="901800"/>
            <a:chOff x="768240" y="1450800"/>
            <a:chExt cx="2779920" cy="901800"/>
          </a:xfrm>
        </p:grpSpPr>
        <p:pic>
          <p:nvPicPr>
            <p:cNvPr id="223" name="Ovaal 4" descr=""/>
            <p:cNvPicPr/>
            <p:nvPr/>
          </p:nvPicPr>
          <p:blipFill>
            <a:blip r:embed="rId2"/>
            <a:stretch/>
          </p:blipFill>
          <p:spPr>
            <a:xfrm>
              <a:off x="768240" y="1450800"/>
              <a:ext cx="27799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217520" y="1600200"/>
              <a:ext cx="1884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Zoeken &amp; Vind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25" name="Ovaal 5"/>
          <p:cNvGrpSpPr/>
          <p:nvPr/>
        </p:nvGrpSpPr>
        <p:grpSpPr>
          <a:xfrm>
            <a:off x="115920" y="2670120"/>
            <a:ext cx="2786040" cy="901800"/>
            <a:chOff x="115920" y="2670120"/>
            <a:chExt cx="2786040" cy="901800"/>
          </a:xfrm>
        </p:grpSpPr>
        <p:pic>
          <p:nvPicPr>
            <p:cNvPr id="226" name="Ovaal 5" descr=""/>
            <p:cNvPicPr/>
            <p:nvPr/>
          </p:nvPicPr>
          <p:blipFill>
            <a:blip r:embed="rId3"/>
            <a:stretch/>
          </p:blipFill>
          <p:spPr>
            <a:xfrm>
              <a:off x="115920" y="2670120"/>
              <a:ext cx="2786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69880" y="2824200"/>
              <a:ext cx="1884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ak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28" name="Ovaal 7"/>
          <p:cNvGrpSpPr/>
          <p:nvPr/>
        </p:nvGrpSpPr>
        <p:grpSpPr>
          <a:xfrm>
            <a:off x="334800" y="3754440"/>
            <a:ext cx="2779920" cy="896760"/>
            <a:chOff x="334800" y="3754440"/>
            <a:chExt cx="2779920" cy="896760"/>
          </a:xfrm>
        </p:grpSpPr>
        <p:pic>
          <p:nvPicPr>
            <p:cNvPr id="229" name="Ovaal 7" descr=""/>
            <p:cNvPicPr/>
            <p:nvPr/>
          </p:nvPicPr>
          <p:blipFill>
            <a:blip r:embed="rId4"/>
            <a:stretch/>
          </p:blipFill>
          <p:spPr>
            <a:xfrm>
              <a:off x="334800" y="3754440"/>
              <a:ext cx="277992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3905280"/>
              <a:ext cx="1884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Del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31" name="Ovaal 8"/>
          <p:cNvGrpSpPr/>
          <p:nvPr/>
        </p:nvGrpSpPr>
        <p:grpSpPr>
          <a:xfrm>
            <a:off x="1341360" y="4973760"/>
            <a:ext cx="2779920" cy="903240"/>
            <a:chOff x="1341360" y="4973760"/>
            <a:chExt cx="2779920" cy="903240"/>
          </a:xfrm>
        </p:grpSpPr>
        <p:pic>
          <p:nvPicPr>
            <p:cNvPr id="232" name="Ovaal 8" descr=""/>
            <p:cNvPicPr/>
            <p:nvPr/>
          </p:nvPicPr>
          <p:blipFill>
            <a:blip r:embed="rId5"/>
            <a:stretch/>
          </p:blipFill>
          <p:spPr>
            <a:xfrm>
              <a:off x="1341360" y="4973760"/>
              <a:ext cx="2779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793880" y="5129280"/>
              <a:ext cx="18842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Review, rating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34" name="Ovaal 9"/>
          <p:cNvGrpSpPr/>
          <p:nvPr/>
        </p:nvGrpSpPr>
        <p:grpSpPr>
          <a:xfrm>
            <a:off x="5084640" y="1378080"/>
            <a:ext cx="2784600" cy="901440"/>
            <a:chOff x="5084640" y="1378080"/>
            <a:chExt cx="2784600" cy="901440"/>
          </a:xfrm>
        </p:grpSpPr>
        <p:pic>
          <p:nvPicPr>
            <p:cNvPr id="235" name="Ovaal 9" descr=""/>
            <p:cNvPicPr/>
            <p:nvPr/>
          </p:nvPicPr>
          <p:blipFill>
            <a:blip r:embed="rId6"/>
            <a:stretch/>
          </p:blipFill>
          <p:spPr>
            <a:xfrm>
              <a:off x="5084640" y="1378080"/>
              <a:ext cx="278460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38960" y="1528920"/>
              <a:ext cx="1882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 Wikiwijs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37" name="Ovaal 10"/>
          <p:cNvGrpSpPr/>
          <p:nvPr/>
        </p:nvGrpSpPr>
        <p:grpSpPr>
          <a:xfrm>
            <a:off x="6168960" y="2382840"/>
            <a:ext cx="2779920" cy="903240"/>
            <a:chOff x="6168960" y="2382840"/>
            <a:chExt cx="2779920" cy="903240"/>
          </a:xfrm>
        </p:grpSpPr>
        <p:pic>
          <p:nvPicPr>
            <p:cNvPr id="238" name="Ovaal 10" descr=""/>
            <p:cNvPicPr/>
            <p:nvPr/>
          </p:nvPicPr>
          <p:blipFill>
            <a:blip r:embed="rId7"/>
            <a:stretch/>
          </p:blipFill>
          <p:spPr>
            <a:xfrm>
              <a:off x="6168960" y="2382840"/>
              <a:ext cx="2779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618240" y="2536920"/>
              <a:ext cx="18842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 Favoriet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40" name="Ovaal 11"/>
          <p:cNvGrpSpPr/>
          <p:nvPr/>
        </p:nvGrpSpPr>
        <p:grpSpPr>
          <a:xfrm>
            <a:off x="6308640" y="3608280"/>
            <a:ext cx="2779920" cy="903240"/>
            <a:chOff x="6308640" y="3608280"/>
            <a:chExt cx="2779920" cy="903240"/>
          </a:xfrm>
        </p:grpSpPr>
        <p:pic>
          <p:nvPicPr>
            <p:cNvPr id="241" name="Ovaal 11" descr=""/>
            <p:cNvPicPr/>
            <p:nvPr/>
          </p:nvPicPr>
          <p:blipFill>
            <a:blip r:embed="rId8"/>
            <a:stretch/>
          </p:blipFill>
          <p:spPr>
            <a:xfrm>
              <a:off x="6308640" y="3608280"/>
              <a:ext cx="2779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762600" y="3760920"/>
              <a:ext cx="18846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 Zoekopdrachten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43" name="Ovaal 12"/>
          <p:cNvGrpSpPr/>
          <p:nvPr/>
        </p:nvGrpSpPr>
        <p:grpSpPr>
          <a:xfrm>
            <a:off x="4797360" y="4840200"/>
            <a:ext cx="2779920" cy="938160"/>
            <a:chOff x="4797360" y="4840200"/>
            <a:chExt cx="2779920" cy="938160"/>
          </a:xfrm>
        </p:grpSpPr>
        <p:pic>
          <p:nvPicPr>
            <p:cNvPr id="244" name="Ovaal 12" descr=""/>
            <p:cNvPicPr/>
            <p:nvPr/>
          </p:nvPicPr>
          <p:blipFill>
            <a:blip r:embed="rId9"/>
            <a:stretch/>
          </p:blipFill>
          <p:spPr>
            <a:xfrm>
              <a:off x="4797360" y="4840200"/>
              <a:ext cx="277992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249880" y="4997520"/>
              <a:ext cx="18842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Arrangementen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oe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ijdelijke aanduiding voor voettekst 3"/>
          <p:cNvSpPr/>
          <p:nvPr/>
        </p:nvSpPr>
        <p:spPr>
          <a:xfrm>
            <a:off x="1908000" y="6356520"/>
            <a:ext cx="525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rcRect l="21372" t="14544" r="22378" b="3190"/>
          <a:stretch/>
        </p:blipFill>
        <p:spPr>
          <a:xfrm>
            <a:off x="611280" y="765000"/>
            <a:ext cx="676908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755640" y="1810800"/>
            <a:ext cx="273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Ann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ContentCorner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avindi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lessenV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school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fenc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FreudenthalInstituut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GroenKennisnet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KlasCementklikbase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Leermiddelen_Educathee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LesbankNL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NationaalArchief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Naturalis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ntwikkelcentrumSmaaklessen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VC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RepLab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amendelen_TLL_rw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amendelen_TLL_w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amenmaken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L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maaklessen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eleblikLessenban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elebli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Tijdelijke aanduiding voor inhoud 2"/>
          <p:cNvSpPr/>
          <p:nvPr/>
        </p:nvSpPr>
        <p:spPr>
          <a:xfrm>
            <a:off x="3276720" y="1628640"/>
            <a:ext cx="3614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atereducati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ella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SS_European_Repository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SS_Mobile_Repository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Museumkennis_Volkenkund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Museumkennis_Oudhed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KennisLink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ntwikkelcentrumDigitop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iskunde_Open_Leermiddelenbank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chooltv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ebmaker_webques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bordOpSchoo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pmaa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CodenameFutur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acadi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tudioVO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ikiwijs_Repository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ikiwijs_Arranger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ETV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Leside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CQ2_tempCQ2_temp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Biodesk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51" name="Tijdelijke aanduiding voor inhoud 2"/>
          <p:cNvSpPr/>
          <p:nvPr/>
        </p:nvSpPr>
        <p:spPr>
          <a:xfrm>
            <a:off x="6013440" y="1571760"/>
            <a:ext cx="33116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ana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dac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master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top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Eigenwijzer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KrantIndeKla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Math4Al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Podium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umul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ebKwesti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50760" y="69228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ke collecti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3564000" cy="242388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4" name="Picture 4" descr="https://www.surfgroepen.nl/sites/surflorenet/backup/Lorenet_Logo_244x143.jpg"/>
          <p:cNvPicPr/>
          <p:nvPr/>
        </p:nvPicPr>
        <p:blipFill>
          <a:blip r:embed="rId2"/>
          <a:stretch/>
        </p:blipFill>
        <p:spPr>
          <a:xfrm>
            <a:off x="8308800" y="3573360"/>
            <a:ext cx="83520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schikbaar stelle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dater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ijdelijke aanduiding voor dianummer 4"/>
          <p:cNvSpPr/>
          <p:nvPr/>
        </p:nvSpPr>
        <p:spPr>
          <a:xfrm>
            <a:off x="1908000" y="6356520"/>
            <a:ext cx="525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3F34-54DF-432C-B842-F934E2CFAD22}" type="slidenum">
              <a:rPr b="0" lang="en-US" sz="1200" spc="-1" strike="noStrike">
                <a:solidFill>
                  <a:srgbClr val="8a89a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663480" y="1714680"/>
            <a:ext cx="1976400" cy="23986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3394080" y="2868480"/>
            <a:ext cx="3992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13007c"/>
                </a:solidFill>
                <a:latin typeface="AdobeCorpID MyriadPkg"/>
                <a:ea typeface="Arial"/>
              </a:rPr>
              <a:t>Is het hondenvoer, verf of soep?</a:t>
            </a:r>
            <a:endParaRPr b="0" lang="en-US" sz="18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4452840" y="3740040"/>
            <a:ext cx="2629080" cy="24606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2081160" y="481824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007c"/>
                </a:solidFill>
                <a:latin typeface="Calibri"/>
                <a:ea typeface="Arial"/>
              </a:rPr>
              <a:t>Labels plakken</a:t>
            </a:r>
            <a:endParaRPr b="0" lang="en-US" sz="1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Preferred Customer</cp:lastModifiedBy>
  <cp:lastPrinted>1999-12-08T22:23:44Z</cp:lastPrinted>
  <dcterms:modified xsi:type="dcterms:W3CDTF">2011-10-25T10:01:39Z</dcterms:modified>
  <cp:revision>154</cp:revision>
  <dc:subject/>
  <dc:title>C. van de Graaf &amp; Partners</dc:title>
</cp:coreProperties>
</file>