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C13ED-8777-4B48-8B11-3AAE75F1A19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8273D-5594-4B00-8D36-399089D8491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26BBD-3609-48EC-BEFF-5AE8F141741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D526E-6CF4-47E4-A92E-24A561CC364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35E87-E8C2-4718-ADAA-9F50124E852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FCEBA-50D9-45CE-AC78-2027C80276A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2295D-5A8A-44E0-B961-65858EE46B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3D847-BBE5-4E11-A1E3-00D7E365A3F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C70EA-A21A-4778-9077-49D8E046583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8EF64-9BC4-49AC-9FF9-BCB5257B935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3C1FF-B8B7-4217-A7A5-8A2B6BAF3E8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F2DA1-B0BB-499F-A98C-E8E9D587DA6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F589DB-F4CC-4AF4-A926-125219B6F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673DDA-74F1-46FB-BF4E-8A1C51D6E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26FD69-AAAD-4105-BA03-376917D11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094318-FD72-4F25-8489-4D3B8F846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44A2A7-C397-4C39-86A9-9FC2E3A60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25FC85-E994-4B2C-BB71-4391DB489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6DCE99-4463-419A-8470-B667AD7F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12B87A-DE09-49EB-8C78-49EC1F56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36CE01-CB3E-484B-B63F-CBE005DB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AFC96D-1FBB-49F6-B761-AB8570418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747557-AF19-4641-93AF-D6F536161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41C1E6-74AB-4DA6-90BF-B85F339ED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D2D226-0C4F-43DF-85A5-08AB11F5A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28431A-3FD1-4809-858B-EFD07D462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06B105-B5A0-4212-80AB-7D4848722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09A3D4-AA73-4F23-8EF3-85BF33EB0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ED8C8B-6734-4139-A294-6D0DD99AB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F64EE4-D2C6-4F69-923F-F9A0A9F07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DD17B4-59F6-4AE9-8FF9-71386DC6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EC748D-0711-458B-9688-0E9E9E37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4FB197-57CB-4A84-A6C6-94B81CD2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E9B4D3-D11E-4428-B458-F46A75C95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823444-DFDD-4DE0-928E-0EC2B77B0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9711D6-6B96-4AED-8463-2C1D1A65C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_mauve"/>
          <p:cNvPicPr/>
          <p:nvPr/>
        </p:nvPicPr>
        <p:blipFill>
          <a:blip r:embed="rId2"/>
          <a:stretch/>
        </p:blipFill>
        <p:spPr>
          <a:xfrm>
            <a:off x="2987640" y="5692680"/>
            <a:ext cx="2376360" cy="863640"/>
          </a:xfrm>
          <a:prstGeom prst="rect">
            <a:avLst/>
          </a:prstGeom>
          <a:ln w="0">
            <a:noFill/>
          </a:ln>
        </p:spPr>
      </p:pic>
      <p:sp>
        <p:nvSpPr>
          <p:cNvPr id="1" name="Line 13"/>
          <p:cNvSpPr/>
          <p:nvPr/>
        </p:nvSpPr>
        <p:spPr>
          <a:xfrm>
            <a:off x="5508720" y="5589720"/>
            <a:ext cx="0" cy="1039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2" name="Text Box 19"/>
          <p:cNvSpPr/>
          <p:nvPr/>
        </p:nvSpPr>
        <p:spPr>
          <a:xfrm>
            <a:off x="5581800" y="5667480"/>
            <a:ext cx="21589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Bankrashof 3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1183 NP Amstelveen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T +31 (0)20 3455550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F +31 (0)20 3455551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3" name="Text Box 32"/>
          <p:cNvSpPr/>
          <p:nvPr/>
        </p:nvSpPr>
        <p:spPr>
          <a:xfrm>
            <a:off x="7165800" y="5667480"/>
            <a:ext cx="21592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E info@cvdgraaf.nl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I www.cvdgraaf.nl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KvK Amsterdam 34116245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7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Num" idx="1"/>
          </p:nvPr>
        </p:nvSpPr>
        <p:spPr>
          <a:xfrm>
            <a:off x="46800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10486-41C2-48B5-9FC1-33BF14D78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7574040" y="5805360"/>
            <a:ext cx="17985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Ontwikkeling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Advies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Projectmanagement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Training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pic>
        <p:nvPicPr>
          <p:cNvPr id="50" name="Picture 14" descr="Logo_mauve"/>
          <p:cNvPicPr/>
          <p:nvPr/>
        </p:nvPicPr>
        <p:blipFill>
          <a:blip r:embed="rId2"/>
          <a:stretch/>
        </p:blipFill>
        <p:spPr>
          <a:xfrm>
            <a:off x="5437080" y="5952960"/>
            <a:ext cx="1943280" cy="7066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5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grpSp>
        <p:nvGrpSpPr>
          <p:cNvPr id="52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53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Line 21"/>
          <p:cNvSpPr/>
          <p:nvPr/>
        </p:nvSpPr>
        <p:spPr>
          <a:xfrm>
            <a:off x="7524720" y="5845320"/>
            <a:ext cx="0" cy="825480"/>
          </a:xfrm>
          <a:prstGeom prst="line">
            <a:avLst/>
          </a:prstGeom>
          <a:ln w="13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2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3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4EC5F-B706-4A50-9D2F-EC994FADCC52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FFAA9-C25A-4FE9-A3FE-D340E06B7132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145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sp>
        <p:nvSpPr>
          <p:cNvPr id="150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572000" y="40464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Training digitale didactiek</a:t>
            </a: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46560" y="4724280"/>
            <a:ext cx="48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ecilia Roman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8360" y="5121360"/>
            <a:ext cx="837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92929"/>
                </a:solidFill>
                <a:latin typeface="Arial"/>
              </a:rPr>
              <a:t>Beoordelen leermiddelen</a:t>
            </a:r>
            <a:endParaRPr b="0" lang="en-US" sz="5400" spc="-1" strike="noStrike">
              <a:solidFill>
                <a:srgbClr val="000000"/>
              </a:solidFill>
              <a:latin typeface="Caecilia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067280" y="1700280"/>
            <a:ext cx="3311280" cy="33112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395280" y="1916280"/>
            <a:ext cx="3095640" cy="30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93760" y="264960"/>
            <a:ext cx="601992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201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Leermiddelen kunnen beoordelen op kwaliteit en geschiktheid voor inzet in eigen lessen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42840" y="237960"/>
            <a:ext cx="6019920" cy="11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gram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-50580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leiding en programm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-50580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Beoordelen bestaand materiaa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-50580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Gebruik checklist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-50580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Checklist aanvull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-50580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Eigen materiaal beoordel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-50580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fsluit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15560" y="264960"/>
            <a:ext cx="787716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dracht 1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oordelen bestaand materia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57240" y="2268360"/>
            <a:ext cx="6770880" cy="36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826920" y="1708200"/>
            <a:ext cx="8099640" cy="36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Bekijk de digitale leermiddelen globaal en…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 marL="457200" indent="-457200">
              <a:lnSpc>
                <a:spcPct val="100000"/>
              </a:lnSpc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benoem het type leermiddel, 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 marL="457200" indent="-457200">
              <a:lnSpc>
                <a:spcPct val="100000"/>
              </a:lnSpc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geef je mening over de kwaliteit met onderbouwing.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jd: 25 minuten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42920" y="765000"/>
            <a:ext cx="727416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dracht 2  Checkl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826920" y="1716120"/>
            <a:ext cx="7632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Beoordeel de leermiddelen op geschiktheid en 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kwaliteit met de checklijst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jd: 40 minuten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42920" y="765000"/>
            <a:ext cx="727416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dracht 3  Checklist aanvul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826920" y="1716120"/>
            <a:ext cx="7632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Vul de checklist aan, zodat het een bruikbare checklist wordt;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Wat mist er nog?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Wat kan er weg?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jd: 30 minuten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42920" y="765000"/>
            <a:ext cx="727416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dracht 4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igen materiaal beoorde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826920" y="1716120"/>
            <a:ext cx="7632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Beoordeel met de checklist een eigen gemaakt of ontworpen leermiddel.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&gt; Waar ligt de kwaliteit van jouw leermiddel?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&gt; Op welke gebieden kun je je eigen leermiddel verbeteren?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jd: 40 minuten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Catherine van de Graaf</dc:creator>
  <dc:description/>
  <dc:language>en-US</dc:language>
  <cp:lastModifiedBy>Preferred Customer</cp:lastModifiedBy>
  <cp:lastPrinted>1999-12-08T22:23:44Z</cp:lastPrinted>
  <dcterms:modified xsi:type="dcterms:W3CDTF">2011-09-20T11:58:36Z</dcterms:modified>
  <cp:revision>150</cp:revision>
  <dc:subject/>
  <dc:title>C. van de Graaf &amp; Partners</dc:title>
</cp:coreProperties>
</file>