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B33B-5A98-4203-8C47-872A72B16F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B15B-6F52-4718-954A-6896925B0A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F858-B7A1-4B5D-8A4D-42236DDF9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0C92-1DF8-452C-BA2D-77A4969F5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A438-2C60-40FC-A387-D3E3C5A66A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B6CA-661C-49DE-9DD3-54E190DA74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7EF4-7DCF-4525-B706-1D3D1F2CA4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A934-36D4-4D6C-AEC1-459E1AFEDE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C0ED-5349-41E8-BC79-3FEDEEF63B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B085-36FE-4F55-8007-4947F5A61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6BA9-3170-4DE2-A4F7-A4FE3DD704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92DD-3EAA-45D8-A0C6-E93F1A9594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F25CA-87B1-4FB6-A2DB-01AEE0B8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F49D1-57F2-47FA-A5D2-E0844AEB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53791-5E41-4E89-8710-BB91256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5FFD3-E367-493E-91AD-2661DAF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AA30E-6A89-4661-944F-495C1F6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BADA9-DA98-44AA-87BC-ABA377B7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C1831-84BA-40EC-9C78-E78BE21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49059-0EEF-4905-B9C5-8D84849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5E40F-D159-48C8-8774-2F73692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9C6EC-9C4A-41C0-B229-D6AD3EDD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F1030-D64C-4AD0-B95B-51223285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FD335-D876-4C05-82AA-F201D9D1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076D5-3127-4E3E-A6D6-1E1669FE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FF495-41E8-4D72-A25D-9B94BC3F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03C5A-D6C1-4C80-A91A-4BA4CC16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4D814-C452-45EF-B619-8A261237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E9746-1FFF-4515-984D-AF421C8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A8A9E-7FE7-46A6-BA88-0CD170CB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53DAC-5313-4D3F-96C8-1D0706C7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4FF20-0A3A-4283-BB92-3F28615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90646-8BA4-492A-9913-BE4EE08B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98DC3-E22D-4074-9374-9DB52A58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16010-7331-430F-9FEF-169BD44A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17328-000D-4B8C-BFD3-D1811844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360E-9695-4B50-BA9B-7F3637663E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2EBF-0795-49CE-ABF4-25F239CD87B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253D-2ACC-42C5-A0EB-30345BCC97D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Mediawijsh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ediawijs worden en overbrengen aan leerlingen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16360" y="3054240"/>
            <a:ext cx="581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Discuss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ct-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12000" y="3762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10-05T09:14:16Z</dcterms:modified>
  <cp:revision>141</cp:revision>
  <dc:subject/>
  <dc:title>C. van de Graaf &amp; Partners</dc:title>
</cp:coreProperties>
</file>