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8D85-C405-411F-9CFC-AB8634278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2CD5-F6CF-4C38-A741-6D0B34E8CE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E179-DBCF-40EC-8298-FBE6DF6C8E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2DC3-2928-432D-BD02-391B92738B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E25C-78F6-493F-A428-237B710B0F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C7CE-A118-4D69-81AC-F9FD3462C5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3C7E-08D1-46DF-8F17-FBB7C5DE4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CDA8-0D30-40A1-9C0F-20573754FE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85D3-F6BC-4BC3-A870-846100833C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8153-3B91-41F5-A432-C10A768230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070B-7FFB-4828-B2A0-435B8616A1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FEF7-40CC-460E-9E65-5007613B5A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E6247-6321-4ADF-9123-3D30930B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A038C-263E-4808-991D-AE26AF3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2A0CD-C83E-41B3-9B2C-197D0356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C06F8-1F50-4DF1-8005-F704739E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D3B53-AB26-47DF-91C8-1EE3D597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706DE-DA3F-4163-8F34-4B0144F2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713F2-45BF-4AE0-B987-CE7473D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B73E7-7977-446F-BC34-6DB81D8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82016-0608-4197-98B6-99CE871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AC592-06C7-468D-AFBE-FB5300DF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F3966-96B2-4D61-AB64-33ABBAD3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AB25F-DBA2-4039-9C5F-0AECFBBB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96CAC-A342-49F5-BD78-995A4683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37152-0498-4AB0-A3E5-2DB0CE7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4EA9C-A4D0-428B-A98D-23A52FF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84A21-EAE3-42D2-966A-EF34DC46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7D20F-A53C-4469-BDC3-E2FC06FD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E626B-89D0-4A73-914E-6DE7995F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891DD-69CA-45F4-94DA-9AF415D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1199D-474D-4E6E-A90D-5118A5DA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8BE1E-F963-4792-8738-3502F541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22986-4444-4FBB-A221-6D92A9E5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D800F-7B60-4996-9536-0E4E81E9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6C6D5-36A5-4ECA-BBB1-EB68B2C9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59B4-09D9-42F5-AF05-4B75AF4C96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2CFF-AF9D-4BB7-8F48-3E616FC4611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AF9D-EA28-413B-8048-9244EBC47040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Leermiddelenbel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zicht krijgen in de rol van ict in het leermiddelenbeleid van de schoo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603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Rol van ict in het leermiddelenbel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sscenario´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les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3925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07T11:56:50Z</dcterms:modified>
  <cp:revision>143</cp:revision>
  <dc:subject/>
  <dc:title>C. van de Graaf &amp; Partners</dc:title>
</cp:coreProperties>
</file>