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B0F8-19B9-4B34-84A4-9538548993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623C-5BB0-434E-A8AD-AF3C8E69F4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449D-219B-4A93-B4E4-863B15E8F3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6054-4E72-4B05-82CE-FB28D212CA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B7CC-C280-4C0A-BEF0-05122532AD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E52B-58C2-441B-9C6B-D816F0DB3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3C5B-413B-4942-BE33-10D2086B8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BC4D-8F0F-4629-986C-C8B0070970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0897-C957-42FA-83C4-E62A9D4871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BA1E-E0D1-4471-93CE-06054C5DF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93B7-A2E1-4D34-AABA-F9F29BFDC4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CF85-CC52-47AE-8644-0B8CE22DE3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A90F1-3A54-477F-ACFB-12B1424C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A0499-F25A-49B5-92AF-4EF1035B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93D97-2545-48A1-8223-1754CCAA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D9263-CD57-4FD1-9B06-7C13279D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ECB6E-CFAD-42AD-A03F-20D03A8F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6AF1A-8DB7-4ED4-93E5-7807E8EC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B464B-B5F6-4A18-A2A4-D58B433F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44B86-5C28-426C-8CDA-6A669F4F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7E26F-3A6E-4538-AD5D-4F95B2E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619EE-4954-4D0B-B03B-8D46E761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95928-1827-4578-A9D8-9F48116B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F5F7E-EE20-438B-A932-B861E247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7C0BC-AED8-4CDF-A270-3F9561F1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66DF6-8935-4870-86B7-BB4D8421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57D90-BE53-4150-8A88-944ECCB4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708ED9-FAC7-468C-95A0-36D4A59C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74445-29FF-4CDC-89D5-F3C3A358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AE94F-2703-478F-8CF9-F95D91A7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97192-27C7-462E-9C49-05AA88B1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6CDB7-D952-43CD-8CE1-A85936FE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495F87-EE3E-4738-8BEE-18CBC2C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9962A-A199-46C8-A95E-ED44560D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DDC28-1D43-46FC-8BC9-57336C96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3B8C9-2DA3-43CE-A611-5F692274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8F28-303A-47E9-9811-27438FA93A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E97D-98B3-4D89-BCB9-877613944F01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C80C-919C-463B-908C-A57BDAF862E3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238480" cy="223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PowerPoint"/>
          <p:cNvPicPr/>
          <p:nvPr/>
        </p:nvPicPr>
        <p:blipFill>
          <a:blip r:embed="rId2"/>
          <a:stretch/>
        </p:blipFill>
        <p:spPr>
          <a:xfrm>
            <a:off x="1332000" y="2708280"/>
            <a:ext cx="1155600" cy="115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Word2007"/>
          <p:cNvPicPr/>
          <p:nvPr/>
        </p:nvPicPr>
        <p:blipFill>
          <a:blip r:embed="rId3"/>
          <a:stretch/>
        </p:blipFill>
        <p:spPr>
          <a:xfrm>
            <a:off x="2916360" y="2781360"/>
            <a:ext cx="107316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Excel2007Logo"/>
          <p:cNvPicPr/>
          <p:nvPr/>
        </p:nvPicPr>
        <p:blipFill>
          <a:blip r:embed="rId4"/>
          <a:stretch/>
        </p:blipFill>
        <p:spPr>
          <a:xfrm>
            <a:off x="4211640" y="27082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ict-toepassingen maken met Word, PowerPoint en Exce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in Word, PP of Excel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in Word, PowerPoint en Excel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0:39:41Z</dcterms:modified>
  <cp:revision>140</cp:revision>
  <dc:subject/>
  <dc:title>C. van de Graaf &amp; Partners</dc:title>
</cp:coreProperties>
</file>