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7F68-F166-416C-AF01-9BC3186CD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C98A-9270-46BC-9825-212703EA5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E7C8-3796-4184-A9E7-1EEE7E22F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FA7D-A3FA-4092-A8D0-C613EC88C2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184C-AD35-4DE1-97D4-83EA5DEBCA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824A-D580-42E3-B0AE-C2502B3828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6FDF-20AB-4597-BD4A-52C356572D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ACB7-3C50-451E-9255-90383424EC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19CA-EA32-4162-815F-8179599CF9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BB88-1DC4-4F8A-9C62-130C149FF6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3BD0-278C-4DC5-8D56-A90D22E531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E20D-F24F-4210-9DE9-77DEE676ED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DD116-9FE8-4EF8-92F2-BC734B5A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4AAA9-3096-4E71-B94C-642AD93B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A34CE-3E24-432D-A7D4-3E23647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8674-20C5-4A5F-80CF-EF74F689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9FCAF-E7AF-46C0-A991-122A41E3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E1E3F-0030-427E-BB41-EE7D9C4C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1A28D-6B88-4121-9B84-2491B8A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1C9A3-75EC-4A3E-8E52-0131D00F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A693F-EA00-4B87-ACF4-9DE2D07E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F4FFC-0DE1-46A6-AA99-3BC9C36B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2FABF-6F46-4BB8-A868-FDD3046D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2A0D8-8954-4238-A859-D5294907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B75D5-1338-4307-B6EC-C4222398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C9D55-63B4-415D-B4DA-7B4AC132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CB50A-7CCE-4B61-B8F8-54E2A5CF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6C65F4-7797-4BB4-8081-6CE5F5BE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D3101-AE16-4511-BA21-3B445467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C523D-C520-4AE0-9762-AD77354E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CF13C-62C3-4F71-AEA6-A42C963F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70818-A878-4FF5-8664-DC40508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86B56-BE34-4416-A978-5A8CE00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FE47E-8E9B-4C87-BABE-74530E8E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CEAFD-E3A4-4DEA-BCE2-FC47457A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93A67-05B4-40FE-9206-B461C5D7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32D-5E73-40D5-B028-BA02D87F36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6135-2377-4212-BF2F-B333AFA8E42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EEBB-9E15-44A8-BC1C-3291C7D9EB67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Effectieve inzet laptop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2" descr="gezamelijkevisie"/>
          <p:cNvPicPr/>
          <p:nvPr/>
        </p:nvPicPr>
        <p:blipFill>
          <a:blip r:embed="rId1"/>
          <a:stretch/>
        </p:blipFill>
        <p:spPr>
          <a:xfrm>
            <a:off x="3381480" y="2286000"/>
            <a:ext cx="238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 is er nodig om laptop effectief in te kunnen zetten in de kl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rainstorm over mogelijke inz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ersoonsbeschrijvingen bespre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ctieplan’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bruiksmog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oor welk soort gebruik kun je ict of laptops in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Noteer concrete toepassingen voor de verschillende gebruiksmogelijkheden.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  Wie ben ji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verschillende persoonbeschrijvingen. Welke persoon zou je, qua ict-gebruik, graag willen zij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3  Actie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heb je nodig om in de toekomst ict goed in te kunnen 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11:41:37Z</dcterms:modified>
  <cp:revision>143</cp:revision>
  <dc:subject/>
  <dc:title>C. van de Graaf &amp; Partners</dc:title>
</cp:coreProperties>
</file>