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53C85-F413-4F32-B23B-AA79F5F80E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EBE5-0BD8-4380-BFDF-9AD09852D7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DCC7-0A71-40B5-9170-B0DB097B0A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79020-7675-4D3A-8D00-78C6073F2C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48A4-90A3-4CDE-A3EC-89DEB88220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9A9E-9230-4F7C-8615-42DF2783BD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E561-C0C1-4A5D-B51A-F8503D9C41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A3BB-BD62-4EAF-A792-B9D1F55003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F731-7889-41F8-BA49-6978055405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0E61-A76A-4EE8-BA3C-A9AD50B00C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FB7C-8676-4314-B582-EA8B6EBB49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F3C9-9171-4B43-B7DA-AA4464EC83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7A306-5228-4717-8A56-12A175C1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B4880-A1F6-4F60-891C-A9AFD6EF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449C9-83FD-4204-A64F-E8B99780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1AC7D-E0AB-4A44-8F88-8F02B7FC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6DC7C-06B2-4073-88F2-9BB575E7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1AAF6-27E5-4DDA-9F45-9EECE135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302FE-6A60-46A1-831F-60675BE0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82322-0027-4DEA-AA54-251F2A9C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CC58D-8645-420F-89DE-4A5401D6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1ED9D-5E4F-4605-B2B2-B1EFAFCD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6E7D8-030C-4DA2-B42A-A0D4030C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9EC60-42A4-4710-806A-E0AFD673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10AD7C-9852-4960-A1EA-BCC8913D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EB6F8A-F398-4191-8755-E9E0030E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5421A2-FC61-4331-9F76-948539CD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761F5A-5F3D-4173-A391-4F7F1283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18ECB2-9C0A-4A82-B60B-C0F85D75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AD8C83-1CBA-4020-AC49-BA6265DA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3A8309-E6BB-491E-87CC-49680992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21E2C8-4C3F-4C41-9B1A-84A097F7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2E85BA-CDDA-4C99-9215-577D06D0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B3528A-BA4A-45E4-A018-889017DA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7083CD-2641-45DE-82E7-765773A8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831787-8EDF-48D4-93C4-521A58AD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7EE5-81F3-48B5-A04B-B12C2BE3B5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9A3F-4176-4350-831C-2C6818CCE1CB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FA1F-EE60-40BC-B810-3A3D6E3016EF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611280" y="5425920"/>
            <a:ext cx="78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92929"/>
                </a:solidFill>
                <a:latin typeface="Arial"/>
              </a:rPr>
              <a:t>Didactiek laptops in de klas</a:t>
            </a:r>
            <a:endParaRPr b="0" lang="en-US" sz="4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chooljaar 2011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8" descr="laptop-in-de-klas"/>
          <p:cNvPicPr/>
          <p:nvPr/>
        </p:nvPicPr>
        <p:blipFill>
          <a:blip r:embed="rId1"/>
          <a:stretch/>
        </p:blipFill>
        <p:spPr>
          <a:xfrm>
            <a:off x="3708360" y="170028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praken en regels maken wat betreft laptopgebruik in de kla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480" y="237960"/>
            <a:ext cx="686916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402120" indent="-4021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ntroduct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nventarisatie: wat gaat goed en wat gaat minder goed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Uitwisselen ervar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Casebesprek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Concrete afsprakenlijst samenstell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15788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at gaat goed, wat kan be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68360" y="2205000"/>
            <a:ext cx="867564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chrijf op de geeltjes in Edistorm: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3 dingen die goed gaa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3 dingen die minder goed gaan e/o beter kunn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Zo concreet mogelijk!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9" name="Picture 6" descr="Edistorm"/>
          <p:cNvPicPr/>
          <p:nvPr/>
        </p:nvPicPr>
        <p:blipFill>
          <a:blip r:embed="rId1"/>
          <a:stretch/>
        </p:blipFill>
        <p:spPr>
          <a:xfrm>
            <a:off x="3851280" y="5543640"/>
            <a:ext cx="1905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61560" y="33300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nzet van laptops/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727236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50920" y="1716120"/>
            <a:ext cx="867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Maak afspraken en stel regels……’ (pijler 1)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Bekijk de cases 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denk eerst in duo’s: hoe zouden jullie dit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oplosse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Plenaire bespreking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Tijd: 3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61560" y="33300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pdracht 3 Top vij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727236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50920" y="1716120"/>
            <a:ext cx="86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Maak afspraken en stel regels……’ (pijler 1)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tel een top 5 samen van de beste oplossingen, die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ruikbaar zijn in je eigen onderwijssituatie.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Tijd: 15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2-29T14:44:43Z</dcterms:modified>
  <cp:revision>142</cp:revision>
  <dc:subject/>
  <dc:title>C. van de Graaf &amp; Partners</dc:title>
</cp:coreProperties>
</file>