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626A-B44A-452B-AC33-D227DF9B8A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0514-CEB9-4707-99D9-73A8CDA57C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B7C9-A39A-4D39-9467-2FDA513734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E20E-E66A-4241-AFCD-6B3F55FAB4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9DFD-D05B-4EC5-B552-1E71066807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23C1-670B-4447-A327-BF41F2243E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5418-110A-45D3-9F57-87C42F88F7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38DE-FE2F-4CD9-BA05-FDE2E4A1AC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40C5-6A32-4593-A121-54E558FABA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49E9-D02A-4FBE-A615-7607EE8C58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68D0-9CB2-45F1-8CBD-A23B77ABA2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C3C3-753A-4E9E-9254-F76135B716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C032F-CDBC-4FBF-BD3B-A7DFB8A3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89350-F2AB-463E-866F-E1968E8C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D0F4B-3CF8-46A0-87F3-4D96FDC9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BF946-3B8F-4C00-BD0E-8213F96A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2272E-61E3-4B97-A83A-BFC59587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9D760-5621-4651-8D1E-CE2F0886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3211D-BA8D-4EBF-80B5-683DBE62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883FB-24E8-47F8-A77D-32F44970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A761A-3EE6-4204-A1E3-FE644D29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CEE33-3A10-4637-8F83-0EFBD3CC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06EAD-7CE9-43EB-B684-D420FF81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CFDAE-41E7-49A4-AC24-1A94213C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39E8CD-B67F-462A-8620-C2CE7BDE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A09898-4744-45FD-AC0F-FC4095D4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8F6ED5-5614-402A-B4BA-8E77AC94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89F51D-6C37-4702-9B31-26FA470E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EF96B2-3521-43B5-9ABA-9DA5AA1A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E7E74-6E9A-48FF-B34F-5CD16777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46A6F5-F8C6-4F36-973E-C9CCFFD5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500E99-72FC-4E8D-A8D4-3DFE6F92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F8F1C9-4BD4-4B40-88D5-093A5071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ADC47A-CA4C-464B-8BF8-B3070148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6B4517-4C13-44AA-B317-568072B1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06F3A4-9B5B-412B-8C44-634AB9EC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1ACA-7564-4E11-A5D2-0B8F6EBB52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62BE-2905-4297-BF76-F09AFBE055F5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6BEB-FEEE-45FA-B443-3EC4BD057C76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ct in werkvorm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20" descr="networkteacher"/>
          <p:cNvPicPr/>
          <p:nvPr/>
        </p:nvPicPr>
        <p:blipFill>
          <a:blip r:embed="rId1"/>
          <a:stretch/>
        </p:blipFill>
        <p:spPr>
          <a:xfrm>
            <a:off x="2700360" y="1989000"/>
            <a:ext cx="384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ct toepassingen integreren in delen van een eigen 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ogelijkheden met ict inventaris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werkvormen integr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pdracht 1 Ict toepass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(minimaal drie) ict toepassingen voor een van de volgende doelen: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Kennismaken van studenten met elkaar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Kennis/inzicht verwerv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Beroepshouding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Vaardigheden (sociaal of technisch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Toetsing en/of evaluatie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836280"/>
            <a:ext cx="727416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ct werkvormen integr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(minimaal drie) ICT toepassingen voor de eigen les(sen) en werk ze voor zover mogelijk uit.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5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5-16T09:58:53Z</dcterms:modified>
  <cp:revision>142</cp:revision>
  <dc:subject/>
  <dc:title>C. van de Graaf &amp; Partners</dc:title>
</cp:coreProperties>
</file>