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5.jpeg" ContentType="image/jpeg"/>
  <Override PartName="/ppt/media/image4.jpeg" ContentType="image/jpeg"/>
  <Override PartName="/ppt/media/image28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13.png" ContentType="image/png"/>
  <Override PartName="/ppt/media/image5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20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6.wmf" ContentType="image/x-wmf"/>
  <Override PartName="/ppt/media/image27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46240" cy="498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dt" idx="8"/>
          </p:nvPr>
        </p:nvSpPr>
        <p:spPr>
          <a:xfrm>
            <a:off x="3851280" y="-1440"/>
            <a:ext cx="2946240" cy="498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Img"/>
          </p:nvPr>
        </p:nvSpPr>
        <p:spPr>
          <a:xfrm>
            <a:off x="925200" y="750600"/>
            <a:ext cx="4946760" cy="3708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body"/>
          </p:nvPr>
        </p:nvSpPr>
        <p:spPr>
          <a:xfrm>
            <a:off x="906480" y="4713120"/>
            <a:ext cx="4984560" cy="446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ftr" idx="9"/>
          </p:nvPr>
        </p:nvSpPr>
        <p:spPr>
          <a:xfrm>
            <a:off x="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 type="sldNum" idx="10"/>
          </p:nvPr>
        </p:nvSpPr>
        <p:spPr>
          <a:xfrm>
            <a:off x="385128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nl-NL" sz="10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88930-968C-4A5C-B176-00AB0D8DD7AD}" type="slidenum">
              <a:rPr b="0" i="1" lang="nl-NL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BC9B3-8C58-4EA2-9312-B4F7C95FD5F6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380960" y="693720"/>
            <a:ext cx="3538800" cy="26542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1131480" y="3541680"/>
            <a:ext cx="4530600" cy="56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800" spc="-1" strike="noStrike">
                <a:solidFill>
                  <a:srgbClr val="000000"/>
                </a:solidFill>
                <a:latin typeface="Arial"/>
              </a:rPr>
              <a:t>Toelichting dia: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(Animatie 0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ergelijk nu de blikken met leerobjecten, allebei zijn het objecten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eermateriaal opgedeeld in kleine onderdelen noemen we leerobjecten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(Animatie 1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et zoals een soepblik is voorzien van labels, kan een leerobject ook worden voorzien van labels: bijvoorbeeld het trefwoord, soort leermateriaal, taal en bijvoorbeeld een inhoudelijke classificatie. Bijvoorbeeld bruikbaar in het opleiding van middenkaderfunctionaris Bouw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(Animatie 2)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eze labels gekoppeld aan de leerobjecten worden in de leertechnologie metadata genoemd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(Animatie 3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tadata zijn dus de labels van de leerobjecten die een beschrijving geven van het object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Book Antiqua"/>
              </a:rPr>
              <a:t>Stimuleer ontwikkeling en gebruik van open leermiddel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Book Antiqua"/>
              </a:rPr>
              <a:t>Verbeter de vindbaarheid en de toegang tot zowel open als “gesloten” leermiddel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Book Antiqua"/>
              </a:rPr>
              <a:t>Verhoog de kwaliteit van het onderwijs door flexibeler en up-to-date leermiddel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Ervaringen met open conten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Gratis schoolboeken” we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Sept. 2008: advies Onderwijsraad: ‘Maak meer gebruik van open leermiddelen om onderwijs te innoveren’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7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1225C-C002-4070-9C77-0247261EDA7C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E327D-FA18-4EAA-8B3D-8135EA20105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60B02-AA6C-43BC-BD1B-990A53304C6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95BCC-842A-4C6D-B5CC-8A6CD38EB73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958B8-2D5B-4DE6-A0F2-9ABC895F96E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82DAE-3ABE-4597-8901-4AECDC160AD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FE3DB-FABE-40A9-920C-EEAFEA86900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207C2-B603-4511-89A8-BFE1204DCC7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0C111-DC36-4DEC-87BB-935AB6D875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E4974-CADC-4691-A87C-8109E3CA725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2B3F1-02D1-415A-9834-9FFA7D4A616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EC478-C0FF-495F-B1EF-2AD67BD73FA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D5F7E-287E-4C16-8A42-3F43F22DC10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00DAA-4EA9-48D2-A7B1-84EE9D97B77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320537-10D1-4B69-A297-EBA919046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D785E6-1A96-41ED-BE26-2CBAEF697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A82BC4-E3D0-4FE7-90DF-00C33A0CD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53B0FF-D826-4D3A-BDD9-3617CEFC2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4DC1DE-0FC3-41E8-8F62-A475F9E19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A0F2AB-3A71-44DD-B6E4-DEE7A5B85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275E47-6C87-419D-B95B-6CC7E882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DA7DD9-2EC5-402A-BF6F-35068F8A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A87851-2F8B-4373-9589-A422F944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3785EB-B200-496E-8145-D4557ABA2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E32218-9169-4E67-8F26-053AF777E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D8F986-637A-4055-8839-92946743C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DB357C-9B89-4DC9-8E11-B1C185B14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003ED2-2D39-4904-B2D3-E1EFC8E9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235ACA-8B7E-4323-9C93-70575D745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16FC07-F90B-4DB8-ACEA-298C26207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8FE529-67FB-44A3-9B3E-50787F884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6B65D5-672C-437C-BB5A-CB7D6ECE5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2F3299-F43B-45DD-B0DE-773E56BA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16AB08-9209-40B0-A86A-18CD26E6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0ACE19-02FF-4025-BF38-58232619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77AD66-9EB1-415F-A6BF-DE00BE26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E707C8-9F0B-44AD-86D2-A71F6946D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EC7D04-4B19-45C4-BE24-E3E329673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mauve"/>
          <p:cNvPicPr/>
          <p:nvPr/>
        </p:nvPicPr>
        <p:blipFill>
          <a:blip r:embed="rId2"/>
          <a:stretch/>
        </p:blipFill>
        <p:spPr>
          <a:xfrm>
            <a:off x="2987640" y="5692680"/>
            <a:ext cx="2376360" cy="863640"/>
          </a:xfrm>
          <a:prstGeom prst="rect">
            <a:avLst/>
          </a:prstGeom>
          <a:ln w="0">
            <a:noFill/>
          </a:ln>
        </p:spPr>
      </p:pic>
      <p:sp>
        <p:nvSpPr>
          <p:cNvPr id="1" name="Line 13"/>
          <p:cNvSpPr/>
          <p:nvPr/>
        </p:nvSpPr>
        <p:spPr>
          <a:xfrm>
            <a:off x="5508720" y="5589720"/>
            <a:ext cx="0" cy="1039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2" name="Text Box 19"/>
          <p:cNvSpPr/>
          <p:nvPr/>
        </p:nvSpPr>
        <p:spPr>
          <a:xfrm>
            <a:off x="5581800" y="5667480"/>
            <a:ext cx="21589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Bankrashof 3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1183 NP Amstelveen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 +31 (0)20 3455550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F +31 (0)20 3455551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3" name="Text Box 32"/>
          <p:cNvSpPr/>
          <p:nvPr/>
        </p:nvSpPr>
        <p:spPr>
          <a:xfrm>
            <a:off x="7165800" y="5667480"/>
            <a:ext cx="2159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E info@cvdgraaf.nl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I www.cvdgraaf.nl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KvK Amsterdam 34116245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7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Num" idx="1"/>
          </p:nvPr>
        </p:nvSpPr>
        <p:spPr>
          <a:xfrm>
            <a:off x="46800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AAB98-CDA5-4AD6-BE9B-68BFF75BE6F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7574040" y="5805360"/>
            <a:ext cx="17985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Ontwikkeling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Advies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Projectmanagement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Training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pic>
        <p:nvPicPr>
          <p:cNvPr id="50" name="Picture 14" descr="Logo_mauve"/>
          <p:cNvPicPr/>
          <p:nvPr/>
        </p:nvPicPr>
        <p:blipFill>
          <a:blip r:embed="rId2"/>
          <a:stretch/>
        </p:blipFill>
        <p:spPr>
          <a:xfrm>
            <a:off x="5437080" y="5952960"/>
            <a:ext cx="1943280" cy="706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5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grpSp>
        <p:nvGrpSpPr>
          <p:cNvPr id="52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53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Line 21"/>
          <p:cNvSpPr/>
          <p:nvPr/>
        </p:nvSpPr>
        <p:spPr>
          <a:xfrm>
            <a:off x="7524720" y="5845320"/>
            <a:ext cx="0" cy="825480"/>
          </a:xfrm>
          <a:prstGeom prst="line">
            <a:avLst/>
          </a:prstGeom>
          <a:ln w="13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2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3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965D0-A68B-4D49-BC89-67B279662B4C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95645-EB01-43A0-9826-9ECB3C87A941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145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sp>
        <p:nvSpPr>
          <p:cNvPr id="150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rangeren.wikiwijs.nl/25111#sub639" TargetMode="External"/><Relationship Id="rId2" Type="http://schemas.openxmlformats.org/officeDocument/2006/relationships/hyperlink" Target="http://redactie.kennisnet.nl/attachments/2239362/snelstart-maken_1.0.pdf" TargetMode="External"/><Relationship Id="rId3" Type="http://schemas.openxmlformats.org/officeDocument/2006/relationships/hyperlink" Target="http://redactie.kennisnet.nl/attachments/2239362/snelstart-maken_1.0.pdf" TargetMode="External"/><Relationship Id="rId4" Type="http://schemas.openxmlformats.org/officeDocument/2006/relationships/hyperlink" Target="http://redactie.kennisnet.nl/attachments/2239362/snelstart-maken_1.0.pdf" TargetMode="External"/><Relationship Id="rId5" Type="http://schemas.openxmlformats.org/officeDocument/2006/relationships/hyperlink" Target="http://redactie.kennisnet.nl/attachments/2239362/snelstart-maken_1.0.pdf" TargetMode="External"/><Relationship Id="rId6" Type="http://schemas.openxmlformats.org/officeDocument/2006/relationships/hyperlink" Target="http://redactie.kennisnet.nl/attachments/2239362/snelstart-maken_1.0.pdf" TargetMode="External"/><Relationship Id="rId7" Type="http://schemas.openxmlformats.org/officeDocument/2006/relationships/hyperlink" Target="http://redactie.kennisnet.nl/attachments/2239362/snelstart-maken_1.0.pdf" TargetMode="External"/><Relationship Id="rId8" Type="http://schemas.openxmlformats.org/officeDocument/2006/relationships/hyperlink" Target="http://redactie.kennisnet.nl/attachments/2239362/snelstart-maken_1.0.pdf" TargetMode="External"/><Relationship Id="rId9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4572000" y="40464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Training digitale didactiek</a:t>
            </a: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246560" y="4724280"/>
            <a:ext cx="48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ecilia Roman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8360" y="5121360"/>
            <a:ext cx="837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92929"/>
                </a:solidFill>
                <a:latin typeface="Arial"/>
              </a:rPr>
              <a:t>Arrangeren</a:t>
            </a:r>
            <a:endParaRPr b="0" lang="en-US" sz="5400" spc="-1" strike="noStrike">
              <a:solidFill>
                <a:srgbClr val="000000"/>
              </a:solidFill>
              <a:latin typeface="Caecilia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28684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203640" y="-360"/>
            <a:ext cx="4330800" cy="126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bels = meta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3"/>
          <p:cNvGrpSpPr/>
          <p:nvPr/>
        </p:nvGrpSpPr>
        <p:grpSpPr>
          <a:xfrm>
            <a:off x="5778360" y="1143000"/>
            <a:ext cx="2609640" cy="2133720"/>
            <a:chOff x="5778360" y="1143000"/>
            <a:chExt cx="2609640" cy="2133720"/>
          </a:xfrm>
        </p:grpSpPr>
        <p:sp>
          <p:nvSpPr>
            <p:cNvPr id="263" name="Rectangle 4"/>
            <p:cNvSpPr/>
            <p:nvPr/>
          </p:nvSpPr>
          <p:spPr>
            <a:xfrm>
              <a:off x="5778360" y="1143000"/>
              <a:ext cx="2609640" cy="2133720"/>
            </a:xfrm>
            <a:prstGeom prst="rect">
              <a:avLst/>
            </a:prstGeom>
            <a:solidFill>
              <a:srgbClr val="90d4f6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264" name="Text Box 5"/>
            <p:cNvSpPr/>
            <p:nvPr/>
          </p:nvSpPr>
          <p:spPr>
            <a:xfrm>
              <a:off x="5859360" y="1244880"/>
              <a:ext cx="2368440" cy="459000"/>
            </a:xfrm>
            <a:prstGeom prst="rect">
              <a:avLst/>
            </a:prstGeom>
            <a:solidFill>
              <a:srgbClr val="90d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92929"/>
                  </a:solidFill>
                  <a:latin typeface="Verdana"/>
                  <a:ea typeface="Arial"/>
                </a:rPr>
                <a:t>Sleutelwoord</a:t>
              </a:r>
              <a:r>
                <a:rPr b="0" lang="en-US" sz="1200" spc="-1" strike="noStrike">
                  <a:solidFill>
                    <a:srgbClr val="292929"/>
                  </a:solidFill>
                  <a:latin typeface="Verdana"/>
                  <a:ea typeface="Arial"/>
                </a:rPr>
                <a:t>: staalconstructies</a:t>
              </a:r>
              <a:endParaRPr b="0" lang="en-US" sz="12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265" name="Text Box 6"/>
            <p:cNvSpPr/>
            <p:nvPr/>
          </p:nvSpPr>
          <p:spPr>
            <a:xfrm>
              <a:off x="5859360" y="1803600"/>
              <a:ext cx="2368440" cy="459000"/>
            </a:xfrm>
            <a:prstGeom prst="rect">
              <a:avLst/>
            </a:prstGeom>
            <a:solidFill>
              <a:srgbClr val="90d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92929"/>
                  </a:solidFill>
                  <a:latin typeface="Verdana"/>
                  <a:ea typeface="Arial"/>
                </a:rPr>
                <a:t>Soort leermateriaal:</a:t>
              </a:r>
              <a:br>
                <a:rPr sz="1200"/>
              </a:br>
              <a:r>
                <a:rPr b="0" lang="en-US" sz="1200" spc="-1" strike="noStrike">
                  <a:solidFill>
                    <a:srgbClr val="292929"/>
                  </a:solidFill>
                  <a:latin typeface="Verdana"/>
                  <a:ea typeface="Arial"/>
                </a:rPr>
                <a:t>informatiebron</a:t>
              </a:r>
              <a:endParaRPr b="0" lang="en-US" sz="12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266" name="Text Box 7"/>
            <p:cNvSpPr/>
            <p:nvPr/>
          </p:nvSpPr>
          <p:spPr>
            <a:xfrm>
              <a:off x="5868720" y="2324160"/>
              <a:ext cx="1981080" cy="276480"/>
            </a:xfrm>
            <a:prstGeom prst="rect">
              <a:avLst/>
            </a:prstGeom>
            <a:solidFill>
              <a:srgbClr val="90d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292929"/>
                  </a:solidFill>
                  <a:latin typeface="Verdana"/>
                  <a:ea typeface="Arial"/>
                </a:rPr>
                <a:t>Taal</a:t>
              </a:r>
              <a:r>
                <a:rPr b="0" lang="nl-NL" sz="1200" spc="-1" strike="noStrike">
                  <a:solidFill>
                    <a:srgbClr val="292929"/>
                  </a:solidFill>
                  <a:latin typeface="Verdana"/>
                  <a:ea typeface="Arial"/>
                </a:rPr>
                <a:t>: nl</a:t>
              </a:r>
              <a:endParaRPr b="0" lang="en-US" sz="12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267" name="Text Box 8"/>
            <p:cNvSpPr/>
            <p:nvPr/>
          </p:nvSpPr>
          <p:spPr>
            <a:xfrm>
              <a:off x="5868720" y="2660760"/>
              <a:ext cx="2313000" cy="428760"/>
            </a:xfrm>
            <a:prstGeom prst="rect">
              <a:avLst/>
            </a:prstGeom>
            <a:solidFill>
              <a:srgbClr val="90d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92929"/>
                  </a:solidFill>
                  <a:latin typeface="Verdana"/>
                  <a:ea typeface="Arial"/>
                </a:rPr>
                <a:t>Classificatie</a:t>
              </a:r>
              <a:r>
                <a:rPr b="0" lang="en-US" sz="1200" spc="-1" strike="noStrike">
                  <a:solidFill>
                    <a:srgbClr val="292929"/>
                  </a:solidFill>
                  <a:latin typeface="Verdana"/>
                  <a:ea typeface="Arial"/>
                </a:rPr>
                <a:t>:</a:t>
              </a:r>
              <a:r>
                <a:rPr b="0" lang="en-US" sz="1000" spc="-1" strike="noStrike">
                  <a:solidFill>
                    <a:srgbClr val="292929"/>
                  </a:solidFill>
                  <a:latin typeface="Verdana"/>
                  <a:ea typeface="Arial"/>
                </a:rPr>
                <a:t>90261 Middenkaderfunctionaris Bouw</a:t>
              </a:r>
              <a:endParaRPr b="0" lang="en-US" sz="10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grpSp>
        <p:nvGrpSpPr>
          <p:cNvPr id="268" name="Group 9"/>
          <p:cNvGrpSpPr/>
          <p:nvPr/>
        </p:nvGrpSpPr>
        <p:grpSpPr>
          <a:xfrm>
            <a:off x="5778360" y="3282840"/>
            <a:ext cx="2609640" cy="2210040"/>
            <a:chOff x="5778360" y="3282840"/>
            <a:chExt cx="2609640" cy="2210040"/>
          </a:xfrm>
        </p:grpSpPr>
        <p:sp>
          <p:nvSpPr>
            <p:cNvPr id="269" name="Rectangle 10"/>
            <p:cNvSpPr/>
            <p:nvPr/>
          </p:nvSpPr>
          <p:spPr>
            <a:xfrm>
              <a:off x="5778360" y="3282840"/>
              <a:ext cx="2609640" cy="2210040"/>
            </a:xfrm>
            <a:prstGeom prst="rect">
              <a:avLst/>
            </a:prstGeom>
            <a:solidFill>
              <a:srgbClr val="00a5df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pic>
          <p:nvPicPr>
            <p:cNvPr id="270" name="Picture 11" descr="Informatie-object"/>
            <p:cNvPicPr/>
            <p:nvPr/>
          </p:nvPicPr>
          <p:blipFill>
            <a:blip r:embed="rId1"/>
            <a:stretch/>
          </p:blipFill>
          <p:spPr>
            <a:xfrm>
              <a:off x="6156000" y="3381480"/>
              <a:ext cx="1901880" cy="2016000"/>
            </a:xfrm>
            <a:prstGeom prst="rect">
              <a:avLst/>
            </a:prstGeom>
            <a:ln w="3240">
              <a:solidFill>
                <a:srgbClr val="292929"/>
              </a:solidFill>
              <a:miter/>
            </a:ln>
          </p:spPr>
        </p:pic>
      </p:grpSp>
      <p:grpSp>
        <p:nvGrpSpPr>
          <p:cNvPr id="271" name="Group 12"/>
          <p:cNvGrpSpPr/>
          <p:nvPr/>
        </p:nvGrpSpPr>
        <p:grpSpPr>
          <a:xfrm>
            <a:off x="3126960" y="3282840"/>
            <a:ext cx="2580120" cy="2210040"/>
            <a:chOff x="3126960" y="3282840"/>
            <a:chExt cx="2580120" cy="2210040"/>
          </a:xfrm>
        </p:grpSpPr>
        <p:sp>
          <p:nvSpPr>
            <p:cNvPr id="272" name="AutoShape 13"/>
            <p:cNvSpPr/>
            <p:nvPr/>
          </p:nvSpPr>
          <p:spPr>
            <a:xfrm>
              <a:off x="5113440" y="3282840"/>
              <a:ext cx="593640" cy="2210040"/>
            </a:xfrm>
            <a:custGeom>
              <a:avLst/>
              <a:gdLst>
                <a:gd name="textAreaLeft" fmla="*/ 379440 w 593640"/>
                <a:gd name="textAreaRight" fmla="*/ 594000 w 593640"/>
                <a:gd name="textAreaTop" fmla="*/ 57600 h 2210040"/>
                <a:gd name="textAreaBottom" fmla="*/ 2152440 h 221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273" name="Text Box 14"/>
            <p:cNvSpPr/>
            <p:nvPr/>
          </p:nvSpPr>
          <p:spPr>
            <a:xfrm>
              <a:off x="3559320" y="4197240"/>
              <a:ext cx="151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92929"/>
                  </a:solidFill>
                  <a:latin typeface="Verdana"/>
                  <a:ea typeface="Arial"/>
                </a:rPr>
                <a:t> </a:t>
              </a:r>
              <a:r>
                <a:rPr b="0" lang="en-US" sz="1600" spc="-1" strike="noStrike">
                  <a:solidFill>
                    <a:srgbClr val="292929"/>
                  </a:solidFill>
                  <a:latin typeface="Verdana"/>
                  <a:ea typeface="Arial"/>
                </a:rPr>
                <a:t>(Leer)object</a:t>
              </a:r>
              <a:endParaRPr b="0" lang="en-US" sz="16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274" name="AutoShape 15"/>
            <p:cNvSpPr/>
            <p:nvPr/>
          </p:nvSpPr>
          <p:spPr>
            <a:xfrm flipH="1">
              <a:off x="3126600" y="3287880"/>
              <a:ext cx="574920" cy="2131920"/>
            </a:xfrm>
            <a:custGeom>
              <a:avLst/>
              <a:gdLst>
                <a:gd name="textAreaLeft" fmla="*/ 366840 w 574920"/>
                <a:gd name="textAreaRight" fmla="*/ 574920 w 574920"/>
                <a:gd name="textAreaTop" fmla="*/ 55440 h 2131920"/>
                <a:gd name="textAreaBottom" fmla="*/ 2076480 h 213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grpSp>
        <p:nvGrpSpPr>
          <p:cNvPr id="275" name="Group 16"/>
          <p:cNvGrpSpPr/>
          <p:nvPr/>
        </p:nvGrpSpPr>
        <p:grpSpPr>
          <a:xfrm>
            <a:off x="3158640" y="1149480"/>
            <a:ext cx="2548440" cy="2133360"/>
            <a:chOff x="3158640" y="1149480"/>
            <a:chExt cx="2548440" cy="2133360"/>
          </a:xfrm>
        </p:grpSpPr>
        <p:sp>
          <p:nvSpPr>
            <p:cNvPr id="276" name="AutoShape 17"/>
            <p:cNvSpPr/>
            <p:nvPr/>
          </p:nvSpPr>
          <p:spPr>
            <a:xfrm>
              <a:off x="5173560" y="1149480"/>
              <a:ext cx="533520" cy="2133360"/>
            </a:xfrm>
            <a:custGeom>
              <a:avLst/>
              <a:gdLst>
                <a:gd name="textAreaLeft" fmla="*/ 340920 w 533520"/>
                <a:gd name="textAreaRight" fmla="*/ 533880 w 533520"/>
                <a:gd name="textAreaTop" fmla="*/ 55440 h 2133360"/>
                <a:gd name="textAreaBottom" fmla="*/ 2077920 h 21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277" name="Text Box 18"/>
            <p:cNvSpPr/>
            <p:nvPr/>
          </p:nvSpPr>
          <p:spPr>
            <a:xfrm>
              <a:off x="3801960" y="1987560"/>
              <a:ext cx="114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92929"/>
                  </a:solidFill>
                  <a:latin typeface="Verdana"/>
                  <a:ea typeface="Arial"/>
                </a:rPr>
                <a:t>Metadata</a:t>
              </a:r>
              <a:endParaRPr b="0" lang="en-US" sz="16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278" name="AutoShape 19"/>
            <p:cNvSpPr/>
            <p:nvPr/>
          </p:nvSpPr>
          <p:spPr>
            <a:xfrm flipH="1">
              <a:off x="3158280" y="1166760"/>
              <a:ext cx="574920" cy="2109960"/>
            </a:xfrm>
            <a:custGeom>
              <a:avLst/>
              <a:gdLst>
                <a:gd name="textAreaLeft" fmla="*/ 366840 w 574920"/>
                <a:gd name="textAreaRight" fmla="*/ 574920 w 574920"/>
                <a:gd name="textAreaTop" fmla="*/ 54720 h 2109960"/>
                <a:gd name="textAreaBottom" fmla="*/ 2055240 h 210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grpSp>
        <p:nvGrpSpPr>
          <p:cNvPr id="279" name="Group 20"/>
          <p:cNvGrpSpPr/>
          <p:nvPr/>
        </p:nvGrpSpPr>
        <p:grpSpPr>
          <a:xfrm>
            <a:off x="522360" y="1103400"/>
            <a:ext cx="2609640" cy="2133360"/>
            <a:chOff x="522360" y="1103400"/>
            <a:chExt cx="2609640" cy="2133360"/>
          </a:xfrm>
        </p:grpSpPr>
        <p:sp>
          <p:nvSpPr>
            <p:cNvPr id="280" name="Rectangle 21"/>
            <p:cNvSpPr/>
            <p:nvPr/>
          </p:nvSpPr>
          <p:spPr>
            <a:xfrm>
              <a:off x="522360" y="1103400"/>
              <a:ext cx="2609640" cy="2133360"/>
            </a:xfrm>
            <a:prstGeom prst="rect">
              <a:avLst/>
            </a:prstGeom>
            <a:solidFill>
              <a:srgbClr val="90d4f6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pic>
          <p:nvPicPr>
            <p:cNvPr id="281" name="Picture 22" descr=""/>
            <p:cNvPicPr/>
            <p:nvPr/>
          </p:nvPicPr>
          <p:blipFill>
            <a:blip r:embed="rId2"/>
            <a:stretch/>
          </p:blipFill>
          <p:spPr>
            <a:xfrm>
              <a:off x="755280" y="1384200"/>
              <a:ext cx="2160360" cy="1516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2" name="Group 23"/>
          <p:cNvGrpSpPr/>
          <p:nvPr/>
        </p:nvGrpSpPr>
        <p:grpSpPr>
          <a:xfrm>
            <a:off x="522360" y="3236760"/>
            <a:ext cx="2609640" cy="2210040"/>
            <a:chOff x="522360" y="3236760"/>
            <a:chExt cx="2609640" cy="2210040"/>
          </a:xfrm>
        </p:grpSpPr>
        <p:sp>
          <p:nvSpPr>
            <p:cNvPr id="283" name="Rectangle 24"/>
            <p:cNvSpPr/>
            <p:nvPr/>
          </p:nvSpPr>
          <p:spPr>
            <a:xfrm>
              <a:off x="522360" y="3236760"/>
              <a:ext cx="2609640" cy="2210040"/>
            </a:xfrm>
            <a:prstGeom prst="rect">
              <a:avLst/>
            </a:prstGeom>
            <a:solidFill>
              <a:srgbClr val="00a5df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pic>
          <p:nvPicPr>
            <p:cNvPr id="284" name="Picture 25" descr="&lt;i&gt;Campbell's Soup Can&lt;/i&gt; A. Warhol"/>
            <p:cNvPicPr/>
            <p:nvPr/>
          </p:nvPicPr>
          <p:blipFill>
            <a:blip r:embed="rId3"/>
            <a:stretch/>
          </p:blipFill>
          <p:spPr>
            <a:xfrm>
              <a:off x="1177560" y="3452760"/>
              <a:ext cx="1161720" cy="187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Rectangle 26"/>
          <p:cNvSpPr/>
          <p:nvPr/>
        </p:nvSpPr>
        <p:spPr>
          <a:xfrm>
            <a:off x="595440" y="5788080"/>
            <a:ext cx="712764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1c86"/>
                </a:solidFill>
                <a:latin typeface="Verdana"/>
                <a:ea typeface="Arial"/>
              </a:rPr>
              <a:t>Metadata: </a:t>
            </a:r>
            <a:r>
              <a:rPr b="0" lang="en-US" sz="1600" spc="-1" strike="noStrike">
                <a:solidFill>
                  <a:srgbClr val="2d1c86"/>
                </a:solidFill>
                <a:latin typeface="Verdana"/>
                <a:ea typeface="Arial"/>
              </a:rPr>
              <a:t>informatie over leerobjecten (bijvoorbeeld titel, soort leermateriaal, onderwijsniveau, bestandsformaat enz.).</a:t>
            </a:r>
            <a:endParaRPr b="0" lang="en-US" sz="16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286" name="Tijdelijke aanduiding voor dianummer 27"/>
          <p:cNvSpPr/>
          <p:nvPr/>
        </p:nvSpPr>
        <p:spPr>
          <a:xfrm>
            <a:off x="7885080" y="6356520"/>
            <a:ext cx="801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3894E-BFE3-4837-9AC2-E01E695A87DD}" type="slidenum">
              <a:rPr b="0" lang="en-US" sz="1200" spc="-1" strike="noStrike">
                <a:solidFill>
                  <a:srgbClr val="8a89aa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69228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elf een arrangement mak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601"/>
              </a:spcBef>
              <a:spcAft>
                <a:spcPts val="601"/>
              </a:spcAft>
              <a:buClr>
                <a:srgbClr val="cc99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Alle stappen zijn terug te vinden op 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http://arrangeren.wikiwijs.nl/25111#sub639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spcAft>
                <a:spcPts val="601"/>
              </a:spcAft>
              <a:buClr>
                <a:srgbClr val="cc99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Zie voor de snelgids maken met Wikiwijs onderstaande link: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 http://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redactie.kennisnet.nl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4"/>
              </a:rPr>
              <a:t>/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5"/>
              </a:rPr>
              <a:t>attachments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6"/>
              </a:rPr>
              <a:t>/2239362/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7"/>
              </a:rPr>
              <a:t>snelstart-maken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8"/>
              </a:rPr>
              <a:t>_1.0.pdf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9" name="Tijdelijke aanduiding voor voettekst 3"/>
          <p:cNvSpPr/>
          <p:nvPr/>
        </p:nvSpPr>
        <p:spPr>
          <a:xfrm>
            <a:off x="1908000" y="6356520"/>
            <a:ext cx="5256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15560" y="189000"/>
            <a:ext cx="787716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Opdracht 1  Oefenen in Wikiwij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57240" y="2268360"/>
            <a:ext cx="6770880" cy="36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826920" y="1708200"/>
            <a:ext cx="8099640" cy="28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Oefen met de arrangeertool in Wikiwijs door de opdrachten uit de PowerPoint te maken.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jd: 40 minuten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42920" y="620640"/>
            <a:ext cx="727416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dracht 2  Zelf arrange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826920" y="1716120"/>
            <a:ext cx="7632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Maak van de meegenomen les een digitaal arrangement. 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jd: 90 minuten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93760" y="264960"/>
            <a:ext cx="601992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201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Leerarrangementen maken in de arrangeertool van Wikiwijs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42840" y="237960"/>
            <a:ext cx="6019920" cy="11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gram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leiding en programm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Oefen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Arranger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fsluit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kstvak 1"/>
          <p:cNvSpPr/>
          <p:nvPr/>
        </p:nvSpPr>
        <p:spPr>
          <a:xfrm>
            <a:off x="324000" y="112536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Calibri"/>
                <a:ea typeface="Arial"/>
              </a:rPr>
              <a:t> </a:t>
            </a:r>
            <a:r>
              <a:rPr b="0" lang="en-US" sz="2400" spc="-1" strike="noStrike">
                <a:solidFill>
                  <a:srgbClr val="292929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pic>
        <p:nvPicPr>
          <p:cNvPr id="203" name="Tijdelijke aanduiding voor inhoud 5" descr="ww_blok_kleurgrijs_rgb.jpg"/>
          <p:cNvPicPr/>
          <p:nvPr/>
        </p:nvPicPr>
        <p:blipFill>
          <a:blip r:embed="rId1"/>
          <a:stretch/>
        </p:blipFill>
        <p:spPr>
          <a:xfrm>
            <a:off x="1403280" y="1557360"/>
            <a:ext cx="5329440" cy="3995640"/>
          </a:xfrm>
          <a:prstGeom prst="rect">
            <a:avLst/>
          </a:prstGeom>
          <a:ln w="0">
            <a:noFill/>
          </a:ln>
        </p:spPr>
      </p:pic>
      <p:pic>
        <p:nvPicPr>
          <p:cNvPr id="204" name="Afbeelding 1" descr=""/>
          <p:cNvPicPr/>
          <p:nvPr/>
        </p:nvPicPr>
        <p:blipFill>
          <a:blip r:embed="rId2"/>
          <a:stretch/>
        </p:blipFill>
        <p:spPr>
          <a:xfrm>
            <a:off x="324000" y="5950080"/>
            <a:ext cx="3816360" cy="68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8172720" cy="15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Wat is het doel van Wikiwij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ep 6"/>
          <p:cNvGrpSpPr/>
          <p:nvPr/>
        </p:nvGrpSpPr>
        <p:grpSpPr>
          <a:xfrm>
            <a:off x="390600" y="2050920"/>
            <a:ext cx="4443480" cy="3348360"/>
            <a:chOff x="390600" y="2050920"/>
            <a:chExt cx="4443480" cy="3348360"/>
          </a:xfrm>
        </p:grpSpPr>
        <p:pic>
          <p:nvPicPr>
            <p:cNvPr id="207" name="Picture 2" descr="http://farm3.static.flickr.com/2359/2152048926_d60b8ea093_z.jpg?zz=1"/>
            <p:cNvPicPr/>
            <p:nvPr/>
          </p:nvPicPr>
          <p:blipFill>
            <a:blip r:embed="rId1"/>
            <a:stretch/>
          </p:blipFill>
          <p:spPr>
            <a:xfrm>
              <a:off x="390600" y="2050920"/>
              <a:ext cx="4443480" cy="32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Rechthoek 5"/>
            <p:cNvSpPr/>
            <p:nvPr/>
          </p:nvSpPr>
          <p:spPr>
            <a:xfrm>
              <a:off x="392400" y="5229360"/>
              <a:ext cx="128268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500" spc="-1" strike="noStrike">
                  <a:solidFill>
                    <a:srgbClr val="292929"/>
                  </a:solidFill>
                  <a:latin typeface="Calibri"/>
                  <a:ea typeface="Arial"/>
                </a:rPr>
                <a:t>http://www.flickr.com/photos/bostworld/</a:t>
              </a:r>
              <a:endParaRPr b="0" lang="en-US" sz="5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grpSp>
        <p:nvGrpSpPr>
          <p:cNvPr id="209" name="Rechthoek 7"/>
          <p:cNvGrpSpPr/>
          <p:nvPr/>
        </p:nvGrpSpPr>
        <p:grpSpPr>
          <a:xfrm>
            <a:off x="4243320" y="4968720"/>
            <a:ext cx="4522680" cy="925560"/>
            <a:chOff x="4243320" y="4968720"/>
            <a:chExt cx="4522680" cy="925560"/>
          </a:xfrm>
        </p:grpSpPr>
        <p:pic>
          <p:nvPicPr>
            <p:cNvPr id="210" name="Rechthoek 7" descr=""/>
            <p:cNvPicPr/>
            <p:nvPr/>
          </p:nvPicPr>
          <p:blipFill>
            <a:blip r:embed="rId2"/>
            <a:stretch/>
          </p:blipFill>
          <p:spPr>
            <a:xfrm>
              <a:off x="4243320" y="4968720"/>
              <a:ext cx="4522680" cy="9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4284720" y="5013360"/>
              <a:ext cx="439092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Lucida Sans Unicode"/>
                  <a:ea typeface="Arial"/>
                </a:rPr>
                <a:t>Versterk  &amp; benut de positie van docent</a:t>
              </a:r>
              <a:endParaRPr b="0" lang="en-US" sz="18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grpSp>
        <p:nvGrpSpPr>
          <p:cNvPr id="212" name="Rechthoek 8"/>
          <p:cNvGrpSpPr/>
          <p:nvPr/>
        </p:nvGrpSpPr>
        <p:grpSpPr>
          <a:xfrm>
            <a:off x="4243320" y="3097080"/>
            <a:ext cx="4522680" cy="925560"/>
            <a:chOff x="4243320" y="3097080"/>
            <a:chExt cx="4522680" cy="925560"/>
          </a:xfrm>
        </p:grpSpPr>
        <p:pic>
          <p:nvPicPr>
            <p:cNvPr id="213" name="Rechthoek 8" descr=""/>
            <p:cNvPicPr/>
            <p:nvPr/>
          </p:nvPicPr>
          <p:blipFill>
            <a:blip r:embed="rId3"/>
            <a:stretch/>
          </p:blipFill>
          <p:spPr>
            <a:xfrm>
              <a:off x="4243320" y="3097080"/>
              <a:ext cx="4522680" cy="9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4284720" y="3141720"/>
              <a:ext cx="439092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Lucida Sans Unicode"/>
                  <a:ea typeface="Arial"/>
                </a:rPr>
                <a:t>Stimuleer ontwikkeling en gebruik van open, digitale leermiddelen</a:t>
              </a:r>
              <a:endParaRPr b="0" lang="en-US" sz="18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grpSp>
        <p:nvGrpSpPr>
          <p:cNvPr id="215" name="Rechthoek 9"/>
          <p:cNvGrpSpPr/>
          <p:nvPr/>
        </p:nvGrpSpPr>
        <p:grpSpPr>
          <a:xfrm>
            <a:off x="4243320" y="3943440"/>
            <a:ext cx="4522680" cy="1030320"/>
            <a:chOff x="4243320" y="3943440"/>
            <a:chExt cx="4522680" cy="1030320"/>
          </a:xfrm>
        </p:grpSpPr>
        <p:pic>
          <p:nvPicPr>
            <p:cNvPr id="216" name="Rechthoek 9" descr=""/>
            <p:cNvPicPr/>
            <p:nvPr/>
          </p:nvPicPr>
          <p:blipFill>
            <a:blip r:embed="rId4"/>
            <a:stretch/>
          </p:blipFill>
          <p:spPr>
            <a:xfrm>
              <a:off x="4243320" y="3943440"/>
              <a:ext cx="452268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4284720" y="4076640"/>
              <a:ext cx="439092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Lucida Sans Unicode"/>
                  <a:ea typeface="Arial"/>
                </a:rPr>
                <a:t>Verhoog de kwaliteit van het onderwijs door flexibeler en up-to-date leermiddelen</a:t>
              </a:r>
              <a:endParaRPr b="0" lang="en-US" sz="18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ep 15"/>
          <p:cNvGrpSpPr/>
          <p:nvPr/>
        </p:nvGrpSpPr>
        <p:grpSpPr>
          <a:xfrm>
            <a:off x="2987640" y="1260360"/>
            <a:ext cx="3247920" cy="5125680"/>
            <a:chOff x="2987640" y="1260360"/>
            <a:chExt cx="3247920" cy="5125680"/>
          </a:xfrm>
        </p:grpSpPr>
        <p:pic>
          <p:nvPicPr>
            <p:cNvPr id="219" name="Picture 3" descr="http://farm5.static.flickr.com/4062/4688281070_5360d12e12_b.jpg"/>
            <p:cNvPicPr/>
            <p:nvPr/>
          </p:nvPicPr>
          <p:blipFill>
            <a:blip r:embed="rId1"/>
            <a:stretch/>
          </p:blipFill>
          <p:spPr>
            <a:xfrm>
              <a:off x="2987640" y="1260360"/>
              <a:ext cx="3247920" cy="49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Rechthoek 14"/>
            <p:cNvSpPr/>
            <p:nvPr/>
          </p:nvSpPr>
          <p:spPr>
            <a:xfrm>
              <a:off x="3434400" y="6139800"/>
              <a:ext cx="2779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000" spc="-1" strike="noStrike">
                  <a:solidFill>
                    <a:srgbClr val="292929"/>
                  </a:solidFill>
                  <a:latin typeface="Calibri"/>
                  <a:ea typeface="Arial"/>
                </a:rPr>
                <a:t>http://www.flickr.com/photos/neufneufneuf/</a:t>
              </a:r>
              <a:endParaRPr b="0" lang="en-US" sz="10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t kun je er als docent me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Ovaal 4"/>
          <p:cNvGrpSpPr/>
          <p:nvPr/>
        </p:nvGrpSpPr>
        <p:grpSpPr>
          <a:xfrm>
            <a:off x="768240" y="1450800"/>
            <a:ext cx="2779920" cy="901800"/>
            <a:chOff x="768240" y="1450800"/>
            <a:chExt cx="2779920" cy="901800"/>
          </a:xfrm>
        </p:grpSpPr>
        <p:pic>
          <p:nvPicPr>
            <p:cNvPr id="223" name="Ovaal 4" descr=""/>
            <p:cNvPicPr/>
            <p:nvPr/>
          </p:nvPicPr>
          <p:blipFill>
            <a:blip r:embed="rId2"/>
            <a:stretch/>
          </p:blipFill>
          <p:spPr>
            <a:xfrm>
              <a:off x="768240" y="1450800"/>
              <a:ext cx="277992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1217520" y="1600200"/>
              <a:ext cx="18846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Lucida Sans Unicode"/>
                  <a:ea typeface="Arial"/>
                </a:rPr>
                <a:t>Zoeken &amp; Vinden</a:t>
              </a:r>
              <a:endParaRPr b="0" lang="en-US" sz="18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grpSp>
        <p:nvGrpSpPr>
          <p:cNvPr id="225" name="Ovaal 5"/>
          <p:cNvGrpSpPr/>
          <p:nvPr/>
        </p:nvGrpSpPr>
        <p:grpSpPr>
          <a:xfrm>
            <a:off x="115920" y="2670120"/>
            <a:ext cx="2786040" cy="901800"/>
            <a:chOff x="115920" y="2670120"/>
            <a:chExt cx="2786040" cy="901800"/>
          </a:xfrm>
        </p:grpSpPr>
        <p:pic>
          <p:nvPicPr>
            <p:cNvPr id="226" name="Ovaal 5" descr=""/>
            <p:cNvPicPr/>
            <p:nvPr/>
          </p:nvPicPr>
          <p:blipFill>
            <a:blip r:embed="rId3"/>
            <a:stretch/>
          </p:blipFill>
          <p:spPr>
            <a:xfrm>
              <a:off x="115920" y="2670120"/>
              <a:ext cx="278604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569880" y="2824200"/>
              <a:ext cx="188424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Lucida Sans Unicode"/>
                  <a:ea typeface="Arial"/>
                </a:rPr>
                <a:t>Maken</a:t>
              </a:r>
              <a:endParaRPr b="0" lang="en-US" sz="18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grpSp>
        <p:nvGrpSpPr>
          <p:cNvPr id="228" name="Ovaal 7"/>
          <p:cNvGrpSpPr/>
          <p:nvPr/>
        </p:nvGrpSpPr>
        <p:grpSpPr>
          <a:xfrm>
            <a:off x="334800" y="3754440"/>
            <a:ext cx="2779920" cy="896760"/>
            <a:chOff x="334800" y="3754440"/>
            <a:chExt cx="2779920" cy="896760"/>
          </a:xfrm>
        </p:grpSpPr>
        <p:pic>
          <p:nvPicPr>
            <p:cNvPr id="229" name="Ovaal 7" descr=""/>
            <p:cNvPicPr/>
            <p:nvPr/>
          </p:nvPicPr>
          <p:blipFill>
            <a:blip r:embed="rId4"/>
            <a:stretch/>
          </p:blipFill>
          <p:spPr>
            <a:xfrm>
              <a:off x="334800" y="3754440"/>
              <a:ext cx="2779920" cy="89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785880" y="3905280"/>
              <a:ext cx="188424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Lucida Sans Unicode"/>
                  <a:ea typeface="Arial"/>
                </a:rPr>
                <a:t>Delen</a:t>
              </a:r>
              <a:endParaRPr b="0" lang="en-US" sz="18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grpSp>
        <p:nvGrpSpPr>
          <p:cNvPr id="231" name="Ovaal 8"/>
          <p:cNvGrpSpPr/>
          <p:nvPr/>
        </p:nvGrpSpPr>
        <p:grpSpPr>
          <a:xfrm>
            <a:off x="1341360" y="4973760"/>
            <a:ext cx="2779920" cy="903240"/>
            <a:chOff x="1341360" y="4973760"/>
            <a:chExt cx="2779920" cy="903240"/>
          </a:xfrm>
        </p:grpSpPr>
        <p:pic>
          <p:nvPicPr>
            <p:cNvPr id="232" name="Ovaal 8" descr=""/>
            <p:cNvPicPr/>
            <p:nvPr/>
          </p:nvPicPr>
          <p:blipFill>
            <a:blip r:embed="rId5"/>
            <a:stretch/>
          </p:blipFill>
          <p:spPr>
            <a:xfrm>
              <a:off x="1341360" y="4973760"/>
              <a:ext cx="277992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1793880" y="5129280"/>
              <a:ext cx="188424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ffffff"/>
                  </a:solidFill>
                  <a:latin typeface="Lucida Sans Unicode"/>
                  <a:ea typeface="Arial"/>
                </a:rPr>
                <a:t>Review, rating</a:t>
              </a:r>
              <a:endParaRPr b="0" lang="en-US" sz="18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grpSp>
        <p:nvGrpSpPr>
          <p:cNvPr id="234" name="Ovaal 9"/>
          <p:cNvGrpSpPr/>
          <p:nvPr/>
        </p:nvGrpSpPr>
        <p:grpSpPr>
          <a:xfrm>
            <a:off x="5084640" y="1378080"/>
            <a:ext cx="2784600" cy="901440"/>
            <a:chOff x="5084640" y="1378080"/>
            <a:chExt cx="2784600" cy="901440"/>
          </a:xfrm>
        </p:grpSpPr>
        <p:pic>
          <p:nvPicPr>
            <p:cNvPr id="235" name="Ovaal 9" descr=""/>
            <p:cNvPicPr/>
            <p:nvPr/>
          </p:nvPicPr>
          <p:blipFill>
            <a:blip r:embed="rId6"/>
            <a:stretch/>
          </p:blipFill>
          <p:spPr>
            <a:xfrm>
              <a:off x="5084640" y="1378080"/>
              <a:ext cx="2784600" cy="90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5538960" y="1528920"/>
              <a:ext cx="188244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ffffff"/>
                  </a:solidFill>
                  <a:latin typeface="Lucida Sans Unicode"/>
                  <a:ea typeface="Arial"/>
                </a:rPr>
                <a:t>Mijn Wikiwijs</a:t>
              </a:r>
              <a:endParaRPr b="0" lang="en-US" sz="18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grpSp>
        <p:nvGrpSpPr>
          <p:cNvPr id="237" name="Ovaal 10"/>
          <p:cNvGrpSpPr/>
          <p:nvPr/>
        </p:nvGrpSpPr>
        <p:grpSpPr>
          <a:xfrm>
            <a:off x="6168960" y="2382840"/>
            <a:ext cx="2779920" cy="903240"/>
            <a:chOff x="6168960" y="2382840"/>
            <a:chExt cx="2779920" cy="903240"/>
          </a:xfrm>
        </p:grpSpPr>
        <p:pic>
          <p:nvPicPr>
            <p:cNvPr id="238" name="Ovaal 10" descr=""/>
            <p:cNvPicPr/>
            <p:nvPr/>
          </p:nvPicPr>
          <p:blipFill>
            <a:blip r:embed="rId7"/>
            <a:stretch/>
          </p:blipFill>
          <p:spPr>
            <a:xfrm>
              <a:off x="6168960" y="2382840"/>
              <a:ext cx="277992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6618240" y="2536920"/>
              <a:ext cx="188424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Lucida Sans Unicode"/>
                  <a:ea typeface="Arial"/>
                </a:rPr>
                <a:t>Mijn Favorieten</a:t>
              </a:r>
              <a:endParaRPr b="0" lang="en-US" sz="18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grpSp>
        <p:nvGrpSpPr>
          <p:cNvPr id="240" name="Ovaal 11"/>
          <p:cNvGrpSpPr/>
          <p:nvPr/>
        </p:nvGrpSpPr>
        <p:grpSpPr>
          <a:xfrm>
            <a:off x="6308640" y="3608280"/>
            <a:ext cx="2779920" cy="903240"/>
            <a:chOff x="6308640" y="3608280"/>
            <a:chExt cx="2779920" cy="903240"/>
          </a:xfrm>
        </p:grpSpPr>
        <p:pic>
          <p:nvPicPr>
            <p:cNvPr id="241" name="Ovaal 11" descr=""/>
            <p:cNvPicPr/>
            <p:nvPr/>
          </p:nvPicPr>
          <p:blipFill>
            <a:blip r:embed="rId8"/>
            <a:stretch/>
          </p:blipFill>
          <p:spPr>
            <a:xfrm>
              <a:off x="6308640" y="3608280"/>
              <a:ext cx="277992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6762600" y="3760920"/>
              <a:ext cx="188460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Lucida Sans Unicode"/>
                  <a:ea typeface="Arial"/>
                </a:rPr>
                <a:t>Mijn Zoekopdrachten</a:t>
              </a:r>
              <a:endParaRPr b="0" lang="en-US" sz="16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grpSp>
        <p:nvGrpSpPr>
          <p:cNvPr id="243" name="Ovaal 12"/>
          <p:cNvGrpSpPr/>
          <p:nvPr/>
        </p:nvGrpSpPr>
        <p:grpSpPr>
          <a:xfrm>
            <a:off x="4797360" y="4840200"/>
            <a:ext cx="2779920" cy="938160"/>
            <a:chOff x="4797360" y="4840200"/>
            <a:chExt cx="2779920" cy="938160"/>
          </a:xfrm>
        </p:grpSpPr>
        <p:pic>
          <p:nvPicPr>
            <p:cNvPr id="244" name="Ovaal 12" descr=""/>
            <p:cNvPicPr/>
            <p:nvPr/>
          </p:nvPicPr>
          <p:blipFill>
            <a:blip r:embed="rId9"/>
            <a:stretch/>
          </p:blipFill>
          <p:spPr>
            <a:xfrm>
              <a:off x="4797360" y="4840200"/>
              <a:ext cx="277992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5249880" y="4997520"/>
              <a:ext cx="188424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Lucida Sans Unicode"/>
                  <a:ea typeface="Arial"/>
                </a:rPr>
                <a:t>Mijn</a:t>
              </a:r>
              <a:endParaRPr b="0" lang="en-US" sz="1600" spc="-1" strike="noStrike">
                <a:solidFill>
                  <a:srgbClr val="000000"/>
                </a:solidFill>
                <a:latin typeface="Caecilia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Lucida Sans Unicode"/>
                  <a:ea typeface="Arial"/>
                </a:rPr>
                <a:t>Arrangementen</a:t>
              </a:r>
              <a:endParaRPr b="0" lang="en-US" sz="16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oek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ijdelijke aanduiding voor voettekst 3"/>
          <p:cNvSpPr/>
          <p:nvPr/>
        </p:nvSpPr>
        <p:spPr>
          <a:xfrm>
            <a:off x="1908000" y="6356520"/>
            <a:ext cx="5256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1"/>
          <a:srcRect l="21372" t="14544" r="22378" b="3190"/>
          <a:stretch/>
        </p:blipFill>
        <p:spPr>
          <a:xfrm>
            <a:off x="611280" y="765000"/>
            <a:ext cx="6769080" cy="60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755640" y="1810800"/>
            <a:ext cx="2736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Anno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ContentCorner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Davindi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DigilessenVO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Digischool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fenc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FreudenthalInstituut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GroenKennisnet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KlasCementklikbase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Leermiddelen_Educathee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LesbankNL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NationaalArchief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Naturalis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OntwikkelcentrumSmaaklessen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OVC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RepLab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Samendelen_TLL_rw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Samendelen_TLL_wo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Samenmaken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SLO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Smaaklessen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spcAft>
                <a:spcPts val="601"/>
              </a:spcAft>
              <a:buClr>
                <a:srgbClr val="cc99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TeleblikLessenban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spcAft>
                <a:spcPts val="601"/>
              </a:spcAft>
              <a:buClr>
                <a:srgbClr val="cc99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Telebli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spcAft>
                <a:spcPts val="601"/>
              </a:spcAft>
              <a:buClr>
                <a:srgbClr val="cc99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0" name="Tijdelijke aanduiding voor inhoud 2"/>
          <p:cNvSpPr/>
          <p:nvPr/>
        </p:nvSpPr>
        <p:spPr>
          <a:xfrm>
            <a:off x="3276720" y="1628640"/>
            <a:ext cx="36147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Watereducatie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Wellant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TSS_European_Repository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TSS_Mobile_Repository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Museumkennis_Volkenkunde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Museumkennis_Oudheden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KennisLink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OntwikkelcentrumDigitop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Wiskunde_Open_Leermiddelenbank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Schooltv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webmaker_webquest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DigibordOpSchool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Opmaat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CodenameFuture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acadin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StudioVO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Wikiwijs_Repository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Wikiwijs_Arrangeren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ETV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Lesidee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CQ2_tempCQ2_temp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Biodesk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251" name="Tijdelijke aanduiding voor inhoud 2"/>
          <p:cNvSpPr/>
          <p:nvPr/>
        </p:nvSpPr>
        <p:spPr>
          <a:xfrm>
            <a:off x="6013440" y="1571760"/>
            <a:ext cx="331164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Danae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Didac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Digimaster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Digitop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Eigenwijzer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KrantIndeKlas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Math4All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Podium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Tumult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WebKwestie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50760" y="69228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lke collecti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5580000" y="4005360"/>
            <a:ext cx="3564000" cy="2423880"/>
          </a:xfrm>
          <a:prstGeom prst="rect">
            <a:avLst/>
          </a:prstGeom>
          <a:ln w="0">
            <a:noFill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54" name="Picture 4" descr="https://www.surfgroepen.nl/sites/surflorenet/backup/Lorenet_Logo_244x143.jpg"/>
          <p:cNvPicPr/>
          <p:nvPr/>
        </p:nvPicPr>
        <p:blipFill>
          <a:blip r:embed="rId2"/>
          <a:stretch/>
        </p:blipFill>
        <p:spPr>
          <a:xfrm>
            <a:off x="8308800" y="3573360"/>
            <a:ext cx="835200" cy="48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schikbaar stellen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adater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ijdelijke aanduiding voor dianummer 4"/>
          <p:cNvSpPr/>
          <p:nvPr/>
        </p:nvSpPr>
        <p:spPr>
          <a:xfrm>
            <a:off x="1908000" y="6356520"/>
            <a:ext cx="5256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ECD8C-A3D2-43E9-B6C0-CCAEC5B12938}" type="slidenum">
              <a:rPr b="0" lang="en-US" sz="1200" spc="-1" strike="noStrike">
                <a:solidFill>
                  <a:srgbClr val="8a89aa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ecilia Roman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>
            <a:off x="663480" y="1714680"/>
            <a:ext cx="1976400" cy="239868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4"/>
          <p:cNvSpPr/>
          <p:nvPr/>
        </p:nvSpPr>
        <p:spPr>
          <a:xfrm>
            <a:off x="3394080" y="2868480"/>
            <a:ext cx="39924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13007c"/>
                </a:solidFill>
                <a:latin typeface="AdobeCorpID MyriadPkg"/>
                <a:ea typeface="Arial"/>
              </a:rPr>
              <a:t>Is het hondenvoer, verf of soep?</a:t>
            </a:r>
            <a:endParaRPr b="0" lang="en-US" sz="1800" spc="-1" strike="noStrike">
              <a:solidFill>
                <a:srgbClr val="000000"/>
              </a:solidFill>
              <a:latin typeface="Caecilia Roman"/>
            </a:endParaRPr>
          </a:p>
        </p:txBody>
      </p:sp>
      <p:pic>
        <p:nvPicPr>
          <p:cNvPr id="259" name="Picture 5" descr=""/>
          <p:cNvPicPr/>
          <p:nvPr/>
        </p:nvPicPr>
        <p:blipFill>
          <a:blip r:embed="rId2"/>
          <a:stretch/>
        </p:blipFill>
        <p:spPr>
          <a:xfrm>
            <a:off x="4452840" y="3740040"/>
            <a:ext cx="2629080" cy="246060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6"/>
          <p:cNvSpPr/>
          <p:nvPr/>
        </p:nvSpPr>
        <p:spPr>
          <a:xfrm>
            <a:off x="2081160" y="481824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007c"/>
                </a:solidFill>
                <a:latin typeface="Calibri"/>
                <a:ea typeface="Arial"/>
              </a:rPr>
              <a:t>Labels plakken</a:t>
            </a:r>
            <a:endParaRPr b="0" lang="en-US" sz="18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Catherine van de Graaf</dc:creator>
  <dc:description/>
  <dc:language>en-US</dc:language>
  <cp:lastModifiedBy>Preferred Customer</cp:lastModifiedBy>
  <cp:lastPrinted>1999-12-08T22:23:44Z</cp:lastPrinted>
  <dcterms:modified xsi:type="dcterms:W3CDTF">2011-10-25T10:01:39Z</dcterms:modified>
  <cp:revision>154</cp:revision>
  <dc:subject/>
  <dc:title>C. van de Graaf &amp; Partners</dc:title>
</cp:coreProperties>
</file>