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897AB-85CC-493F-B759-FAB0756B63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9D5D9-6A96-495D-9099-C99031D505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BF255-523C-43A9-83E3-1A8BF5A664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2B3CE-10C2-47FE-A368-654636B495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D3E95-A111-4A2F-AD17-0788391119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FF97D-3054-474C-ADA9-4C5FB0C56D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D3CF1-D670-4E3B-AFD8-D8B52BDEE0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4ABA7-84A0-45E2-A5DF-2552282B4A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7C413-2D51-4DF4-82E8-0536CE2F5B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4984E-5E7D-468B-AC64-851C3B3A39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23B50-9B0A-4166-B043-D122AD769E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1D665-D214-4887-B24F-7794EF14170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F5AAD-A06C-4289-BB9E-2FFB1A5A4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FFFB6-9DEB-4313-8748-0C7909A5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AA3B8-DB27-4CFB-8F5D-68ED0445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1BD01-366F-4623-9162-AC0F40D2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95DBD-A611-4A54-8DC5-5A51B6CF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107EF-6C1E-4D13-B980-213422AF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B5913-3BA9-49BE-85FB-304FD5B2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EBFAD-7C7F-4FE9-91E8-18C28024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D3FAF-ACC2-4BF5-B4DD-9BD57AD0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148C9-F971-43E0-B789-B62A7498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959DF-2FCF-4CBA-8A70-D94015013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8CBD6-524D-481C-9381-8CAF1AE80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9ED20E-52F9-4DB3-8F93-5DE248338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31814D-A03E-4D84-8649-77F1AD41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FEBF7C-08C9-49DC-A149-71AB6F50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9B4B77-9D99-4A26-B65C-D80DAC89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301ED5-9BDF-496F-B188-77B6C95B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148DDB-2050-40FE-B3B7-6513622E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99BF5C-508D-4D8D-B33F-07C31474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BDC870-78E4-48C8-80F9-73E6FFA2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F8933E-AE09-4F11-BAB6-B60F58BA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5F3940-E372-41B9-9AFF-64699AB1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C45150-8DA8-42DD-A551-17CA713AA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9C12B6-5F6C-4C38-B35A-D5F73739C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5B0F-0FF7-4FDB-A95A-3D22680E5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9B0D-BAFE-4C2B-82A5-2EAF4DC69C86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3BBC-176B-495B-8080-D0F6C142DA48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5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512136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92929"/>
                </a:solidFill>
                <a:latin typeface="Arial"/>
              </a:rPr>
              <a:t>Beoordelen leermiddelen</a:t>
            </a:r>
            <a:endParaRPr b="0" lang="en-US" sz="54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067280" y="1700280"/>
            <a:ext cx="3311280" cy="3311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3095640" cy="30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201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eermiddelen kunnen beoordelen op kwaliteit en geschiktheid voor inzet in eigen lessen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Beoordelen bestaand materiaa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Gebruik checklist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Checklist aanvull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Eigen materiaal beoordel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15560" y="264960"/>
            <a:ext cx="787716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dracht 1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oordelen bestaand materia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826920" y="1708200"/>
            <a:ext cx="8099640" cy="36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ekijk de digitale leermiddelen globaal en…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enoem het type leermiddel, 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geef je mening over de kwaliteit met onderbouwing.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25 minuten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2741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dracht 2  Check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826920" y="1716120"/>
            <a:ext cx="763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eoordeel de leermiddelen op geschiktheid en 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kwaliteit met de checklijst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40 minuten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2741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dracht 3  Checklist aanvu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826920" y="1716120"/>
            <a:ext cx="7632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Vul de checklist aan, zodat het een bruikbare checklist wordt;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Wat mist er nog?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Wat kan er weg?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30 minuten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2741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dracht 4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igen materiaal beoorde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826920" y="1716120"/>
            <a:ext cx="7632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eoordeel met de checklist een eigen gemaakt of ontworpen leermiddel.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&gt; Waar ligt de kwaliteit van jouw leermiddel?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&gt; Op welke gebieden kun je je eigen leermiddel verbeteren?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40 minuten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Preferred Customer</cp:lastModifiedBy>
  <cp:lastPrinted>1999-12-08T22:23:44Z</cp:lastPrinted>
  <dcterms:modified xsi:type="dcterms:W3CDTF">2011-09-20T11:58:36Z</dcterms:modified>
  <cp:revision>150</cp:revision>
  <dc:subject/>
  <dc:title>C. van de Graaf &amp; Partners</dc:title>
</cp:coreProperties>
</file>