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F672-92DD-4201-A028-E5E501A434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53FB-1D02-451D-930F-5FC3F47E98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F491F-2DB1-4F74-9B48-0CCD6A7877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D204-4A0B-4F87-9BF5-B7752AE1AC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974F-6C45-4ABD-B5BB-BD8EF1FA86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40D0-0139-4FD1-AEE8-19553F8A2B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DC94-3BC0-4360-B39B-A0385F8D00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F892F-1641-40D0-B878-1746C370A2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0EEE-C7CD-4E7F-8E73-ECC6854E9E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771E-7A0D-4496-8A0A-3BAAECDDBD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2DA6-4D24-47AD-8939-3421959D64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8CFA-61DA-4456-8EB4-8A3ACE70EB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1DCBC-AFB0-4AAD-ADC5-D5EA8DC4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FA599-EAA9-45AE-A08B-7E82916E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3F811-8713-4C49-AC54-64598FB8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C45FB-78FA-4C69-BA2C-EB244393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8A1CA-EE71-4581-9F93-E9F7716F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B151F-395F-4155-A245-05D0F75B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8EF4C-D3AA-47ED-9A00-BE6C4473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B53EE-D351-4EC9-9732-ADAC0064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6E2EF-F59E-4D63-8AF4-0A239CC5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EC52E-0790-4D64-AA9B-8279FF72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B6039-2BD2-47D2-9208-20BF8441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E7D56-BC79-4145-AA07-1F0ED88E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47A93F-84D9-47B9-AA0F-3620F688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A90176-D9D5-4F4E-B68F-8FC0CDBB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194999-3556-43EB-BC78-BE0414A9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8DC332-6776-4B3E-B400-345DD982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468BAD-D9DF-4AF3-AB4A-66204DFA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E5919B-2D04-4501-AF42-2ACA209B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F1B821-2491-43BD-A8C8-C8ED9088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71F91B-69DA-4F3E-88D9-05066079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A5B341-8FA7-478E-9E1B-F68E8A57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9CC374-E6A3-485F-878B-5C398760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2A2909-6227-4EB6-AF91-B6A1011F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829FEF-1032-4ABA-9DE3-C8D1B200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CD47-2E35-4ADF-A6A8-155E9744F64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F995-ED31-45E2-8D83-CCFF549F8E48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5D6E-96A8-4962-9E02-BB0239C41AF5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Mediawijsheid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3810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ediawijs worden en overbrengen aan leerlingen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916360" y="3054240"/>
            <a:ext cx="58165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Discuss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ct-vaardighed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nformatievaardighed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912000" y="3762360"/>
            <a:ext cx="2232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Josien</cp:lastModifiedBy>
  <cp:lastPrinted>1999-12-08T22:23:44Z</cp:lastPrinted>
  <dcterms:modified xsi:type="dcterms:W3CDTF">2011-10-05T09:14:16Z</dcterms:modified>
  <cp:revision>141</cp:revision>
  <dc:subject/>
  <dc:title>C. van de Graaf &amp; Partners</dc:title>
</cp:coreProperties>
</file>