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128C-2D77-4BBF-916A-689696E7E0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7C86-F386-4651-8A88-82D6AF825E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BB61-DD76-4399-8A20-FD15A1DB7E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605D-B15A-4C74-9329-B08A035FE2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A904-FD8E-4D92-B51A-5488AA96F8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3EC8-5CE7-4400-BBF4-505D0EC050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F7E3-F2B4-433D-A4EC-F876E8336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76A1-D442-4097-BB6A-94D9B0A1B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6E43-B0C1-4BEF-A758-385869773A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B935-4B41-41EE-9002-ED7AC5A9C8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8BDB-F441-4707-BFE6-8E400FB26B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8EE4-DDF4-47DA-87E8-39C59B28BE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1345D-28B0-43F8-808C-898D7DBC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F121-EAA2-4B61-8A08-E980D0FE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1AC34-2F87-4B36-84FC-1AD1CBE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E2FC3-E9D5-4B0B-B376-843632F1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23C37-E5DC-4FB1-83FD-92B022BB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CB958-7369-4F50-95ED-2F250FC3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37116-4F92-424E-84C3-1CA9A34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E1254-65B0-4EBB-B9BD-BA81DD31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3FE52-BB56-4D7D-A34D-4BD65955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14AE7-7499-491E-B597-2E65C029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05EA0-C233-4832-9854-60979C1D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FE325-618F-4CEE-88A1-398AACDF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FB3048-4608-4233-8A97-B3DAF336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4DD55-B88D-4BFA-9034-21CFF7A4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E17927-7477-4A08-BD9D-13A76A71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64678-DA43-4F15-9906-59008D3E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4FCAD-42E8-4EB4-A341-C2B0EDD4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228B8-927E-4AC9-9CE4-E917FEFE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1EF96-405D-4C33-8ACF-2834355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C98C6-AE78-4B96-9D6C-76F930F3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ABCA0-D5E3-44E9-985C-3F79693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1E1A7-3E78-409C-AE11-8DE6F168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826D0-3CAF-4A44-887B-CFF4F766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20541-4553-45D3-A78B-B28B258F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7536-D374-4A44-B60E-D909AACEF2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3AA7-C09B-4CE0-BD87-AE4A257AC2F6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8209-2C37-46D5-8AEB-2533B58AEF19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Leermiddelenbel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595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zicht krijgen in de rol van ict in het leermiddelenbeleid van de schoo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603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Rol van ict in het leermiddelenbel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sscenario´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les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3925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07T11:56:50Z</dcterms:modified>
  <cp:revision>143</cp:revision>
  <dc:subject/>
  <dc:title>C. van de Graaf &amp; Partners</dc:title>
</cp:coreProperties>
</file>