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1828-3714-49CE-97CB-B9CB3FC375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422F-FE45-4F36-A538-8C4A9612DD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9EC2-64E7-4924-8217-5AA8F649A3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6F27-EEB4-43E6-8944-D94D2E9283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C6D3-182D-407A-BCF3-4B7F374E92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948E-C9F8-40E4-8D8F-196BBFFA12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789E-4F73-4ECA-9755-02E8100BE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39C4-8610-4BCD-AEDE-2048719858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1C1F-26D6-4248-AA1B-A2D832804D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F965-BD77-43F7-AB66-251A6C7FC6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9C6D-FA13-4443-AE1F-17907AAFDE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0AC6-5B88-4EB6-976A-C5CEB9275C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A50C7-D46D-4EAD-9F04-6114B521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DCE5A-0B97-483D-A56D-2EE3BC66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D6483-0DB8-4CCA-B5D6-42AA0768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A7150-68A7-4E22-87F8-1EAA31CC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49B78-B744-4A88-980E-098B7698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09DEE-4D94-48F0-82D7-8539AC6B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FF859-97F7-403C-8661-9B79650E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BDC34-2D4B-47D6-BCA3-CEDD2346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F8D3C-86FF-4C22-9D99-663A3D07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7EA69-46BC-4784-A61F-FF766F0B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23884-5C52-4D03-AA54-27CB6B3F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C4800-C93F-4D33-B7BC-0F938F03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FEF0C-0A18-43E2-9775-570C3E93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55FAE-8539-420A-8610-E2248BD4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B975E1-AC12-4E53-9CCE-51D709BB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FD7B7-46B5-44A3-A315-7028C6DF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23658-85C7-4ADF-BB9F-861A45A9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6E6E1-5EA9-4832-B1B5-A129ADF2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0C105-C4D1-40D4-B5E1-98ED1AF8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3C039-3B3A-4F40-A3EC-BCF3207A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A1623-0AFE-486C-AEF1-4043FAF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24E9D-725A-4760-A1A7-AB6F77CF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E27FF-70EE-4D29-88C7-BBEFA9CD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CE4886-F8F6-4C2A-AC98-7B54EAC2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F87F-120E-4553-9DC0-FFAC604DF6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AA59-87E9-45DF-804F-878CBB8ED549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336C-0E0A-4D39-8036-CF99D136F29C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238480" cy="223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PowerPoint"/>
          <p:cNvPicPr/>
          <p:nvPr/>
        </p:nvPicPr>
        <p:blipFill>
          <a:blip r:embed="rId2"/>
          <a:stretch/>
        </p:blipFill>
        <p:spPr>
          <a:xfrm>
            <a:off x="1332000" y="2708280"/>
            <a:ext cx="1155600" cy="115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Word2007"/>
          <p:cNvPicPr/>
          <p:nvPr/>
        </p:nvPicPr>
        <p:blipFill>
          <a:blip r:embed="rId3"/>
          <a:stretch/>
        </p:blipFill>
        <p:spPr>
          <a:xfrm>
            <a:off x="2916360" y="2781360"/>
            <a:ext cx="107316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Excel2007Logo"/>
          <p:cNvPicPr/>
          <p:nvPr/>
        </p:nvPicPr>
        <p:blipFill>
          <a:blip r:embed="rId4"/>
          <a:stretch/>
        </p:blipFill>
        <p:spPr>
          <a:xfrm>
            <a:off x="4211640" y="27082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ict-toepassingen maken met Word, PowerPoint en Exce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in Word, PP of Excel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in Word, PowerPoint en Excel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0:39:41Z</dcterms:modified>
  <cp:revision>140</cp:revision>
  <dc:subject/>
  <dc:title>C. van de Graaf &amp; Partners</dc:title>
</cp:coreProperties>
</file>