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38C0F-E9A8-4B22-BAC7-06BF0D9FB9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43857-40C2-4BEB-B76F-8D6F13C5BD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207D6-DF38-4F8F-BC95-A21C84A794B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0D24B-B45A-4343-BF60-3952CC35E8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43178-A3D6-4114-B372-79B22E8738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16167-DB36-4487-B6CB-2BBB046244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D4520-A1EF-4BE3-B43A-41A71CD661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9699F-7C62-40E6-AA9C-1A601A34700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9BCCE-B075-4F8C-94CE-59D9773903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AE467-E615-4A4B-BD53-B7066B3634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6DDE6-3EF3-40D2-A37A-814654CD8F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7C1F7-485D-4A29-BEE6-A79E16F5304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2D4BA-6D4A-4983-81D3-3E6E5B5CE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FB8884-D259-448D-889D-D53043DC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127DB7-3674-4BA7-B716-146F4B5B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1A8A4-5114-448F-94D2-EB811629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25C104-30BF-40BE-A3C7-289A9521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0657E-FD49-40B0-9A34-EEDBFE73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D0275-F1D3-419F-9FEE-1B0B4B77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B62ECD-D688-4584-81F6-D0B37D9B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EE16F6-AB4B-49A4-AB1C-0376AF8A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A48EBC-E6DC-47A4-AE28-B56975AD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0DC2D4-9ACB-4BDD-A7E3-D20F1102F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11AC9A-8A8A-4710-AD6D-3FAA3CA06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7D16A4-5F95-4392-861B-43D89EAF4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F45E0E-3579-4ECB-88AA-417C2BD1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6B9A84-C100-4949-BE4A-54DD57DC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E76CB2-C085-427E-8209-29E1AFF5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5B7902-556B-4EE6-B731-F7B9484D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796DE9-6307-4E43-826B-D1004125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894C20-A4ED-49CD-A2EC-9BBC6281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52C2D5-E286-4774-A869-5629C325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295CF4-7C3A-4B62-8118-AEE7EC3F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2A342C-E7C3-4689-A07E-323AFDBB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DD3388-ACB3-4D2F-A0B6-E56F80B3D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D08FBF-C3C3-4FE5-8B0A-98136E350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A6CF-A4E8-4D6E-9FE9-DE10BDE8862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1418-8F65-4328-99F3-BDD1742FCE2F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4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2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0E4D3-F7C3-4D6A-9D3D-598D007AC743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468360" y="5121360"/>
            <a:ext cx="837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92929"/>
                </a:solidFill>
                <a:latin typeface="Arial"/>
              </a:rPr>
              <a:t>Didactische WEB 2.0 toepassingen</a:t>
            </a:r>
            <a:endParaRPr b="0" lang="en-US" sz="54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191" name="Picture 19" descr="web20"/>
          <p:cNvPicPr/>
          <p:nvPr/>
        </p:nvPicPr>
        <p:blipFill>
          <a:blip r:embed="rId1"/>
          <a:stretch/>
        </p:blipFill>
        <p:spPr>
          <a:xfrm>
            <a:off x="2666880" y="1547640"/>
            <a:ext cx="3810240" cy="37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7632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Zelf toepassingen maken met WEB 2.0 programma’s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’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 eerste d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Bestaande toepassing bekijk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Uitleg toepassingen/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Zelf toepassing mak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264960"/>
            <a:ext cx="78775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1 Bestaande toepassi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755640" y="2205000"/>
            <a:ext cx="7488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ekijk de ict-toepassingen die gemaakt zijn met WEB 2.0 programma’s. </a:t>
            </a:r>
            <a:endParaRPr b="0" lang="en-US" sz="32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Tijd: 20 minuten</a:t>
            </a:r>
            <a:endParaRPr b="0" lang="en-US" sz="32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4284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755640" y="2205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Calibri"/>
              </a:rPr>
              <a:t>Een demonstratie van hoe toepassingen gemaakt zijn.</a:t>
            </a:r>
            <a:endParaRPr b="0" lang="en-US" sz="36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0908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2:  Zelf toepassing ma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7561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Kies voor één van de aanwezige toepassingen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aak deze toepassing na voor eigen gebruik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901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maak hierbij gebruik van de aanwezige handleiding</a:t>
            </a:r>
            <a:r>
              <a:rPr b="0" lang="nl-NL" sz="3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1188720" y="5925960"/>
            <a:ext cx="306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292929"/>
                </a:solidFill>
                <a:latin typeface="Arial"/>
              </a:rPr>
              <a:t>Tijd: 20 minuten</a:t>
            </a:r>
            <a:endParaRPr b="0" lang="en-US" sz="32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Sandra Valk</cp:lastModifiedBy>
  <cp:lastPrinted>1999-12-08T22:23:44Z</cp:lastPrinted>
  <dcterms:modified xsi:type="dcterms:W3CDTF">2012-02-29T12:11:18Z</dcterms:modified>
  <cp:revision>140</cp:revision>
  <dc:subject/>
  <dc:title>C. van de Graaf &amp; Partners</dc:title>
</cp:coreProperties>
</file>